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A3E-E559-41DE-A9A9-9AE8740E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196-16EF-4793-BC49-09367618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FBE-2B48-4C1F-883B-5379D694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394-C105-49EC-BC34-44C0E456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41D-D547-4560-BDF3-A88703AE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434-2DA0-41F4-B5FE-8C470F1D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DE8-51D9-4360-B85B-A61AD981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66D-A20C-40E9-9061-A4A63C59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A31-B715-494F-99E4-643428DD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0D4-743B-4B0A-818D-93AC9476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A2E-C439-40C5-B69D-E10CDA40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B7E-87DB-4BC9-88DE-5DDBCDCB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9BC7-E2E7-4861-8290-FF1EBA348F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0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3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7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Пользователь</cp:lastModifiedBy>
  <dcterms:modified xsi:type="dcterms:W3CDTF">2012-08-26T20:46:17Z</dcterms:modified>
  <cp:revision>89</cp:revision>
  <dc:subject/>
  <dc:title>Слайд 1</dc:title>
</cp:coreProperties>
</file>