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391-BDB3-41C1-9164-A3CEDD88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6B7-AE0A-4EBB-A7E3-CBCCB564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79E-A553-4ED5-9161-02C52E8C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398-74A4-4556-B0FC-7FE15C39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A49-CE13-4BF4-A1EA-4A927B1B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6CA-554B-4858-8DE8-647F4890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E64-5314-425C-98F0-3F892A05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CB3-E116-441A-B7BA-2680372D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530-F13E-4759-9F91-32E0A6BB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D5B-624F-4A52-8E2B-EEF89A02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B31-2DC8-4D5B-B544-2E3082C4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B43-CE9E-45A6-8793-5BF0F261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14CA-F14F-4580-99DA-42B7BA55F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0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3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7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Пользователь</cp:lastModifiedBy>
  <dcterms:modified xsi:type="dcterms:W3CDTF">2012-08-26T20:46:17Z</dcterms:modified>
  <cp:revision>89</cp:revision>
  <dc:subject/>
  <dc:title>Слайд 1</dc:title>
</cp:coreProperties>
</file>