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E8D-57A1-4269-A8F8-C116F161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AF3E-D856-4F5F-AD6C-C6C51A34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89E-848D-4A29-A2AC-09E7EDFE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EE6-7078-4F67-952A-2D4EB901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80E62-1EA1-4E76-B6D6-FE3D5BEB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2E8BC-F0CB-4DBC-A144-1D424D02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EBB52-31DF-4320-AF8E-A17578F8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95394-BA5C-4C05-808A-FD9F2C14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BDBA5-D916-4E1C-99F9-1E615136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02634-E88B-4355-A3C6-5D5EFC38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D6AE9-9B12-4400-BA3F-EFBB6DFE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7FA-35C8-421B-83BB-1535482F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323E9-739A-4437-A36A-ADB7A3CE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7A3A6-F844-4E9E-965B-871263A5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7279D-DA83-42DE-B9F2-490A448F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1B844-E2CA-4D8C-BA7C-781C1236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0081A-DD20-48BF-BC44-24813161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08F1-5B08-446C-8A61-9286614F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F6A-9410-44F6-835F-3E1776E4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732-9105-4144-9633-861A0E03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F77-04E6-4BD1-AB39-50F5F507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FFF-5573-44ED-9052-DBE7E89A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418-20D1-4409-BE84-D6806745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6EA-CF04-4C04-8FA0-F487863A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6D05CB-C41F-4060-BF7A-11660D18663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10FD238-6B53-4686-AB49-5CE15D1705C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ic.academic.ru/dic.nsf/ruwiki/209210" TargetMode="External"/><Relationship Id="rId3" Type="http://schemas.openxmlformats.org/officeDocument/2006/relationships/hyperlink" Target="http://dic.academic.ru/dic.nsf/ruwiki/755255" TargetMode="External"/><Relationship Id="rId4" Type="http://schemas.openxmlformats.org/officeDocument/2006/relationships/hyperlink" Target="http://dic.academic.ru/dic.nsf/ruwiki/27133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Оборудование и материал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уаш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сти (большая и маленькая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ьбо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ночка для вод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япоч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едения городских мастеров (иллюстраци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30686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разновидности мотива «буто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lum contrast="30000"/>
          </a:blip>
          <a:srcRect l="0" t="0" r="-133" b="-315"/>
          <a:stretch/>
        </p:blipFill>
        <p:spPr>
          <a:xfrm>
            <a:off x="900000" y="1341360"/>
            <a:ext cx="7128000" cy="167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4360" t="0" r="1289" b="76755"/>
          <a:stretch/>
        </p:blipFill>
        <p:spPr>
          <a:xfrm>
            <a:off x="900000" y="4076640"/>
            <a:ext cx="7129440" cy="173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8200" y="580536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разновид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тива «купав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333360"/>
            <a:ext cx="624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Узоры городецкой роспис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>
            <a:lum contrast="24000"/>
          </a:blip>
          <a:srcRect l="0" t="40664" r="54222" b="40534"/>
          <a:stretch/>
        </p:blipFill>
        <p:spPr>
          <a:xfrm>
            <a:off x="250920" y="333360"/>
            <a:ext cx="3527280" cy="14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54363" t="40650" r="-67" b="14447"/>
          <a:stretch/>
        </p:blipFill>
        <p:spPr>
          <a:xfrm>
            <a:off x="5796000" y="2276640"/>
            <a:ext cx="2448000" cy="2361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1498" t="76768" r="52791" b="-34"/>
          <a:stretch/>
        </p:blipFill>
        <p:spPr>
          <a:xfrm>
            <a:off x="395280" y="4869000"/>
            <a:ext cx="3240000" cy="1627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35280" y="549360"/>
            <a:ext cx="574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овидности мотива «роза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852640"/>
            <a:ext cx="51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роз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3480" y="5373720"/>
            <a:ext cx="56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овидности мотива «ромаш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922200" y="1557360"/>
            <a:ext cx="2738520" cy="144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30480" y="3808440"/>
            <a:ext cx="2568600" cy="1440"/>
          </a:xfrm>
          <a:custGeom>
            <a:avLst/>
            <a:gdLst/>
            <a:ahLst/>
            <a:rect l="l" t="t" r="r" b="b"/>
            <a:pathLst>
              <a:path w="1618" h="1">
                <a:moveTo>
                  <a:pt x="0" y="0"/>
                </a:moveTo>
                <a:lnTo>
                  <a:pt x="1618" y="0"/>
                </a:lnTo>
              </a:path>
            </a:pathLst>
          </a:custGeom>
          <a:noFill/>
          <a:ln cap="sq"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49840" y="6308640"/>
            <a:ext cx="273816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rcRect l="0" t="0" r="0" b="-91"/>
          <a:stretch/>
        </p:blipFill>
        <p:spPr>
          <a:xfrm>
            <a:off x="468360" y="836640"/>
            <a:ext cx="8280360" cy="3719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501336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лис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rcRect l="0" t="0" r="0" b="-36"/>
          <a:stretch/>
        </p:blipFill>
        <p:spPr>
          <a:xfrm>
            <a:off x="250920" y="260280"/>
            <a:ext cx="3960720" cy="498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0" r="0" b="-41"/>
          <a:stretch/>
        </p:blipFill>
        <p:spPr>
          <a:xfrm>
            <a:off x="4211640" y="2276640"/>
            <a:ext cx="4648320" cy="4343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211640" y="69228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птиц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2600" y="6093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кон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425772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ыполнение городецких узоров в альбо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773360"/>
            <a:ext cx="25704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48664" b="47649"/>
          <a:stretch/>
        </p:blipFill>
        <p:spPr>
          <a:xfrm>
            <a:off x="684360" y="1773360"/>
            <a:ext cx="2054160" cy="308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48484" t="0" r="99" b="47649"/>
          <a:stretch/>
        </p:blipFill>
        <p:spPr>
          <a:xfrm>
            <a:off x="2700360" y="2781360"/>
            <a:ext cx="2057400" cy="3085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411280" y="537372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rcRect l="0" t="51050" r="48574" b="806"/>
          <a:stretch/>
        </p:blipFill>
        <p:spPr>
          <a:xfrm>
            <a:off x="4716360" y="1773360"/>
            <a:ext cx="2057400" cy="284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rcRect l="48574" t="49701" r="0" b="73"/>
          <a:stretch/>
        </p:blipFill>
        <p:spPr>
          <a:xfrm>
            <a:off x="6732720" y="2852640"/>
            <a:ext cx="2057400" cy="297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284720" y="1773360"/>
            <a:ext cx="32868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300720" y="5300640"/>
            <a:ext cx="39996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9a00"/>
                </a:solidFill>
                <a:latin typeface="Tahoma"/>
              </a:rPr>
              <a:t>Структура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онный момент (Приветствие. Проверка готовности к уроку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воение новых знаний (Знакомство с городецкой росписью, образцами и узорам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ктическая работа (Выполнение изученных узоров на альбомном лист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ончание урока (Выставка и оценка работ.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Усвоение новых знан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ородецкая роспис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— русский народный художественный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промысе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уществует с середины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в. в районе г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Городе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Яркая, лаконичная городецкая роспись (жанровые сцены, фигурки коней, петухов, цветочные узоры), выполненная свободным мазком с белой и черной графической обводкой, украшала прялки, мебель, ставни, двер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0" t="0" r="0" b="21"/>
          <a:stretch/>
        </p:blipFill>
        <p:spPr>
          <a:xfrm>
            <a:off x="179280" y="189000"/>
            <a:ext cx="4943520" cy="4952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88000" y="692280"/>
            <a:ext cx="410508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4319280" cy="3541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42584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51280" y="1700280"/>
            <a:ext cx="4046760" cy="4817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5241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21320" y="2060640"/>
            <a:ext cx="4224240" cy="453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4085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07672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2781360"/>
            <a:ext cx="4286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0360" y="2894040"/>
            <a:ext cx="4673520" cy="3679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38040" y="876240"/>
            <a:ext cx="5472360" cy="363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7:10:12Z</dcterms:created>
  <dc:creator>ФинтифлюнчиК</dc:creator>
  <dc:description/>
  <dc:language>en-US</dc:language>
  <cp:lastModifiedBy>ФинтифлюнчиК</cp:lastModifiedBy>
  <dcterms:modified xsi:type="dcterms:W3CDTF">2010-05-05T17:24:02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e0000000000010243100207f6000400038000</vt:lpwstr>
  </property>
</Properties>
</file>