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F1A-50BD-4E3D-82F4-357F654B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AAC-D589-4EB8-99B9-4859B347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355-F4B2-48A7-80D2-62E34115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559-A2D8-42B7-8453-9C6E742A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378B6-AFA2-4E53-93AE-9B022B43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BEBB8-1D31-41FB-9F71-4E1116F9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5E418-6D58-40CB-8AEA-A8886EF2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226A2-F7A2-47B6-A90E-84C437A3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E196A-48F1-4987-8DFE-04F11653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24CC5-209E-409F-B0B4-056D44CE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C8D72-F758-4E81-9ED2-622E580E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40A-DB7B-415B-9F33-20158F02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67A65-1480-4E82-BE2A-FDA20775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03C1A-EEED-42F7-87C1-5A880FAF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A7832-3890-4D5F-9563-A91D81BA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92C8C-1F34-4558-8A1C-971A4B29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0044C-53FE-4A48-9E76-A0B70398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40B-7C39-4CA5-A48A-5EE1767B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48C-7D41-4B39-BBE6-6ACEBAF5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3D2-4AC2-4F5E-A40F-EEEBD792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845-2F66-4F3D-AE91-A80842CB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0E9-7CF2-43DF-82EC-745542C4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F32-C26E-47DD-80AD-F2D1E49D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7D7-F35D-4216-86DA-1AAF5945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8BEF44-5202-4F3F-820F-302EE7FFA27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7E06EDB-DCEE-4FD8-8560-A217BD4A8E4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ic.academic.ru/dic.nsf/ruwiki/209210" TargetMode="External"/><Relationship Id="rId3" Type="http://schemas.openxmlformats.org/officeDocument/2006/relationships/hyperlink" Target="http://dic.academic.ru/dic.nsf/ruwiki/755255" TargetMode="External"/><Relationship Id="rId4" Type="http://schemas.openxmlformats.org/officeDocument/2006/relationships/hyperlink" Target="http://dic.academic.ru/dic.nsf/ruwiki/27133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Оборудование и материал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аш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сти (большая и маленькая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б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ночка для вод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япоч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едения городских мастеров (иллюстраци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30686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 мотива «бут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contrast="30000"/>
          </a:blip>
          <a:srcRect l="0" t="0" r="-133" b="-315"/>
          <a:stretch/>
        </p:blipFill>
        <p:spPr>
          <a:xfrm>
            <a:off x="900000" y="1341360"/>
            <a:ext cx="7128000" cy="167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4360" t="0" r="1289" b="76755"/>
          <a:stretch/>
        </p:blipFill>
        <p:spPr>
          <a:xfrm>
            <a:off x="900000" y="4076640"/>
            <a:ext cx="7129440" cy="173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8200" y="580536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тива «купав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33360"/>
            <a:ext cx="624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Узоры городецкой роспис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>
            <a:lum contrast="24000"/>
          </a:blip>
          <a:srcRect l="0" t="40664" r="54222" b="40534"/>
          <a:stretch/>
        </p:blipFill>
        <p:spPr>
          <a:xfrm>
            <a:off x="250920" y="333360"/>
            <a:ext cx="3527280" cy="14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54363" t="40650" r="-67" b="14447"/>
          <a:stretch/>
        </p:blipFill>
        <p:spPr>
          <a:xfrm>
            <a:off x="5796000" y="2276640"/>
            <a:ext cx="2448000" cy="2361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1498" t="76768" r="52791" b="-34"/>
          <a:stretch/>
        </p:blipFill>
        <p:spPr>
          <a:xfrm>
            <a:off x="395280" y="4869000"/>
            <a:ext cx="3240000" cy="162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35280" y="549360"/>
            <a:ext cx="574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за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85264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роз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3480" y="5373720"/>
            <a:ext cx="56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маш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922200" y="1557360"/>
            <a:ext cx="2738520" cy="144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30480" y="3808440"/>
            <a:ext cx="2568600" cy="1440"/>
          </a:xfrm>
          <a:custGeom>
            <a:avLst/>
            <a:gdLst/>
            <a:ahLst/>
            <a:rect l="l" t="t" r="r" b="b"/>
            <a:pathLst>
              <a:path w="1618" h="1">
                <a:moveTo>
                  <a:pt x="0" y="0"/>
                </a:moveTo>
                <a:lnTo>
                  <a:pt x="1618" y="0"/>
                </a:lnTo>
              </a:path>
            </a:pathLst>
          </a:custGeom>
          <a:noFill/>
          <a:ln cap="sq"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49840" y="6308640"/>
            <a:ext cx="273816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0" t="0" r="0" b="-91"/>
          <a:stretch/>
        </p:blipFill>
        <p:spPr>
          <a:xfrm>
            <a:off x="468360" y="836640"/>
            <a:ext cx="8280360" cy="371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013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лис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0" t="0" r="0" b="-36"/>
          <a:stretch/>
        </p:blipFill>
        <p:spPr>
          <a:xfrm>
            <a:off x="250920" y="260280"/>
            <a:ext cx="3960720" cy="498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0" r="0" b="-41"/>
          <a:stretch/>
        </p:blipFill>
        <p:spPr>
          <a:xfrm>
            <a:off x="4211640" y="2276640"/>
            <a:ext cx="4648320" cy="4343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211640" y="69228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птиц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2600" y="6093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кон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425772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ыполнение городецких узоров в альбо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773360"/>
            <a:ext cx="2570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48664" b="47649"/>
          <a:stretch/>
        </p:blipFill>
        <p:spPr>
          <a:xfrm>
            <a:off x="684360" y="1773360"/>
            <a:ext cx="2054160" cy="30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48484" t="0" r="99" b="47649"/>
          <a:stretch/>
        </p:blipFill>
        <p:spPr>
          <a:xfrm>
            <a:off x="2700360" y="2781360"/>
            <a:ext cx="2057400" cy="308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411280" y="537372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rcRect l="0" t="51050" r="48574" b="806"/>
          <a:stretch/>
        </p:blipFill>
        <p:spPr>
          <a:xfrm>
            <a:off x="4716360" y="1773360"/>
            <a:ext cx="2057400" cy="284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48574" t="49701" r="0" b="73"/>
          <a:stretch/>
        </p:blipFill>
        <p:spPr>
          <a:xfrm>
            <a:off x="6732720" y="2852640"/>
            <a:ext cx="2057400" cy="297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284720" y="1773360"/>
            <a:ext cx="32868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300720" y="5300640"/>
            <a:ext cx="3999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9a00"/>
                </a:solidFill>
                <a:latin typeface="Tahoma"/>
              </a:rPr>
              <a:t>Структура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онный момент (Приветствие. Проверка готовности к уроку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воение новых знаний (Знакомство с городецкой росписью, образцами и узорам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ктическая работа (Выполнение изученных узоров на альбомном лист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ончание урока (Выставка и оценка работ.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Усвоение новых знан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родецкая роспис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— русский народный художественный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промысе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ществует с середины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в. в районе г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Городе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Яркая, лаконичная городецкая роспись (жанровые сцены, фигурки коней, петухов, цветочные узоры), выполненная свободным мазком с белой и черной графической обводкой, украшала прялки, мебель, ставни, двер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0" t="0" r="0" b="21"/>
          <a:stretch/>
        </p:blipFill>
        <p:spPr>
          <a:xfrm>
            <a:off x="179280" y="189000"/>
            <a:ext cx="4943520" cy="4952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410508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319280" cy="3541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42584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51280" y="1700280"/>
            <a:ext cx="4046760" cy="4817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5241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21320" y="2060640"/>
            <a:ext cx="4224240" cy="453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085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07672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2781360"/>
            <a:ext cx="4286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0360" y="2894040"/>
            <a:ext cx="4673520" cy="3679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38040" y="876240"/>
            <a:ext cx="5472360" cy="363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7:10:12Z</dcterms:created>
  <dc:creator>ФинтифлюнчиК</dc:creator>
  <dc:description/>
  <dc:language>en-US</dc:language>
  <cp:lastModifiedBy>ФинтифлюнчиК</cp:lastModifiedBy>
  <dcterms:modified xsi:type="dcterms:W3CDTF">2010-05-05T17:24:0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e0000000000010243100207f6000400038000</vt:lpwstr>
  </property>
</Properties>
</file>