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5EED-A254-40B7-96BD-CFBAA96B8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6C54-B9D0-4D26-9D57-EC77E039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8068-813E-4EB8-A8C0-910343EB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4C84-C10F-4CCD-AF4B-07B5D343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14572-8EA7-4A96-9BBB-FCEF93B2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5446B-9EE4-41E5-BA16-272CFC20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FEC77-8322-48F9-BC4E-75DC371B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0E8DC-5D01-48FD-91CD-52D691D2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DF4D6-3858-4911-8482-D5494EBB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D4C5C-4142-4082-9B2A-DADE9A43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FF6C9-BE37-45F3-84CA-E38A5340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8F4E-3A2B-451F-868B-77977E33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7219E-560F-4B3C-B979-E7E2EDD4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E72C6-5078-4330-99A4-9E9E2658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FCF50-D59B-4DC8-8A57-1FBA756C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C78E3-A140-4095-A4E7-ABE174B1C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E2448-7804-4A83-B4CB-582619CEA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5574-814E-4ED1-ABAA-635AB9F7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4C1A-A074-421F-B8A8-D748E1CD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FC2B-9CCD-46D6-B65E-02F2994C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B4BC-6D95-4DF1-88A7-40E0EDAD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CADF-A51D-4B74-930E-FA1F687F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3FBC-9EB2-4991-9344-34258263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CA11-9011-4DD4-B1E8-E2E4037A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6B4CE0-64E1-4539-BA62-09C1A087C2A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40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8DDF2EE-1CE6-4EC8-9616-CEBF184A27D9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dic.academic.ru/dic.nsf/ruwiki/209210" TargetMode="External"/><Relationship Id="rId3" Type="http://schemas.openxmlformats.org/officeDocument/2006/relationships/hyperlink" Target="http://dic.academic.ru/dic.nsf/ruwiki/755255" TargetMode="External"/><Relationship Id="rId4" Type="http://schemas.openxmlformats.org/officeDocument/2006/relationships/hyperlink" Target="http://dic.academic.ru/dic.nsf/ruwiki/27133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Оборудование и материал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уаш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исти (большая и маленькая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льбо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ночка для воды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япочк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зведения городских мастеров (иллюстрации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0920" y="306864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и разновидности мотива «бутон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>
            <a:lum contrast="30000"/>
          </a:blip>
          <a:srcRect l="0" t="0" r="-133" b="-315"/>
          <a:stretch/>
        </p:blipFill>
        <p:spPr>
          <a:xfrm>
            <a:off x="900000" y="1341360"/>
            <a:ext cx="7128000" cy="1670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rcRect l="4360" t="0" r="1289" b="76755"/>
          <a:stretch/>
        </p:blipFill>
        <p:spPr>
          <a:xfrm>
            <a:off x="900000" y="4076640"/>
            <a:ext cx="7129440" cy="1731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8200" y="580536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и разновид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тива «купавк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47640" y="333360"/>
            <a:ext cx="624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</a:rPr>
              <a:t>Узоры городецкой роспис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>
            <a:lum contrast="24000"/>
          </a:blip>
          <a:srcRect l="0" t="40664" r="54222" b="40534"/>
          <a:stretch/>
        </p:blipFill>
        <p:spPr>
          <a:xfrm>
            <a:off x="250920" y="333360"/>
            <a:ext cx="3527280" cy="1427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rcRect l="54363" t="40650" r="-67" b="14447"/>
          <a:stretch/>
        </p:blipFill>
        <p:spPr>
          <a:xfrm>
            <a:off x="5796000" y="2276640"/>
            <a:ext cx="2448000" cy="2361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rcRect l="1498" t="76768" r="52791" b="-34"/>
          <a:stretch/>
        </p:blipFill>
        <p:spPr>
          <a:xfrm>
            <a:off x="395280" y="4869000"/>
            <a:ext cx="3240000" cy="1627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35280" y="549360"/>
            <a:ext cx="574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новидности мотива «розан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2852640"/>
            <a:ext cx="51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разновидности мотива «роз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3480" y="5373720"/>
            <a:ext cx="564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новидности мотива «ромашк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922200" y="1557360"/>
            <a:ext cx="2738520" cy="1440"/>
          </a:xfrm>
          <a:prstGeom prst="line">
            <a:avLst/>
          </a:prstGeom>
          <a:ln cap="sq"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30480" y="3808440"/>
            <a:ext cx="2568600" cy="1440"/>
          </a:xfrm>
          <a:custGeom>
            <a:avLst/>
            <a:gdLst/>
            <a:ahLst/>
            <a:rect l="l" t="t" r="r" b="b"/>
            <a:pathLst>
              <a:path w="1618" h="1">
                <a:moveTo>
                  <a:pt x="0" y="0"/>
                </a:moveTo>
                <a:lnTo>
                  <a:pt x="1618" y="0"/>
                </a:lnTo>
              </a:path>
            </a:pathLst>
          </a:custGeom>
          <a:noFill/>
          <a:ln cap="sq"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849840" y="6308640"/>
            <a:ext cx="2738160" cy="1800"/>
          </a:xfrm>
          <a:prstGeom prst="line">
            <a:avLst/>
          </a:prstGeom>
          <a:ln cap="sq"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rcRect l="0" t="0" r="0" b="-91"/>
          <a:stretch/>
        </p:blipFill>
        <p:spPr>
          <a:xfrm>
            <a:off x="468360" y="836640"/>
            <a:ext cx="8280360" cy="3719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87280" y="5013360"/>
            <a:ext cx="67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разновидности мотива «лист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rcRect l="0" t="0" r="0" b="-36"/>
          <a:stretch/>
        </p:blipFill>
        <p:spPr>
          <a:xfrm>
            <a:off x="250920" y="260280"/>
            <a:ext cx="3960720" cy="4981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rcRect l="0" t="0" r="0" b="-41"/>
          <a:stretch/>
        </p:blipFill>
        <p:spPr>
          <a:xfrm>
            <a:off x="4211640" y="2276640"/>
            <a:ext cx="4648320" cy="4343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211640" y="692280"/>
            <a:ext cx="51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разновидности мотива «птиц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92600" y="609300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кон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411280" y="404640"/>
            <a:ext cx="425772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ыполнение городецких узоров в альбом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5280" y="1773360"/>
            <a:ext cx="25704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0" t="0" r="48664" b="47649"/>
          <a:stretch/>
        </p:blipFill>
        <p:spPr>
          <a:xfrm>
            <a:off x="684360" y="1773360"/>
            <a:ext cx="2054160" cy="3085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rcRect l="48484" t="0" r="99" b="47649"/>
          <a:stretch/>
        </p:blipFill>
        <p:spPr>
          <a:xfrm>
            <a:off x="2700360" y="2781360"/>
            <a:ext cx="2057400" cy="3085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2411280" y="5373720"/>
            <a:ext cx="36036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rcRect l="0" t="51050" r="48574" b="806"/>
          <a:stretch/>
        </p:blipFill>
        <p:spPr>
          <a:xfrm>
            <a:off x="4716360" y="1773360"/>
            <a:ext cx="2057400" cy="2847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rcRect l="48574" t="49701" r="0" b="73"/>
          <a:stretch/>
        </p:blipFill>
        <p:spPr>
          <a:xfrm>
            <a:off x="6732720" y="2852640"/>
            <a:ext cx="2057400" cy="2971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284720" y="1773360"/>
            <a:ext cx="328680" cy="57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300720" y="5300640"/>
            <a:ext cx="39996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9a00"/>
                </a:solidFill>
                <a:latin typeface="Tahoma"/>
              </a:rPr>
              <a:t>Структура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60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ционный момент (Приветствие. Проверка готовности к уроку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воение новых знаний (Знакомство с городецкой росписью, образцами и узорам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ктическая работа (Выполнение изученных узоров на альбомном лист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кончание урока (Выставка и оценка работ.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 u="sng">
                <a:solidFill>
                  <a:srgbClr val="ff0000"/>
                </a:solidFill>
                <a:uFillTx/>
                <a:latin typeface="Tahoma"/>
              </a:rPr>
              <a:t>Усвоение новых знаний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ородецкая роспис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— русский народный художественный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промысе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Существует с середины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XI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в. в районе г.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4"/>
              </a:rPr>
              <a:t>Городец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Яркая, лаконичная городецкая роспись (жанровые сцены, фигурки коней, петухов, цветочные узоры), выполненная свободным мазком с белой и черной графической обводкой, украшала прялки, мебель, ставни, двер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rcRect l="0" t="0" r="0" b="21"/>
          <a:stretch/>
        </p:blipFill>
        <p:spPr>
          <a:xfrm>
            <a:off x="179280" y="189000"/>
            <a:ext cx="4943520" cy="4952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788000" y="692280"/>
            <a:ext cx="410508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00720" y="3068640"/>
            <a:ext cx="4319280" cy="3541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4425840" cy="474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751280" y="1700280"/>
            <a:ext cx="4046760" cy="4817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45241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21320" y="2060640"/>
            <a:ext cx="4224240" cy="4530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44085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5076720" cy="3733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0" y="2781360"/>
            <a:ext cx="42861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40360" y="2894040"/>
            <a:ext cx="4673520" cy="3679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38040" y="876240"/>
            <a:ext cx="5472360" cy="3633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7:10:12Z</dcterms:created>
  <dc:creator>ФинтифлюнчиК</dc:creator>
  <dc:description/>
  <dc:language>en-US</dc:language>
  <cp:lastModifiedBy>ФинтифлюнчиК</cp:lastModifiedBy>
  <dcterms:modified xsi:type="dcterms:W3CDTF">2010-05-05T17:24:02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0e0000000000010243100207f6000400038000</vt:lpwstr>
  </property>
</Properties>
</file>