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2A1-9873-4497-8399-4279F8F3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30B-1B9D-47A3-B546-88EB196A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589-7FC3-4075-BD46-6FE5FA9C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F1D-5F63-4DF8-8EBD-42E1393A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B77A4-BFA4-48B4-A5EC-772DB199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619A7-A103-49E8-85A5-CF888770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61D7-81B0-4B5D-916E-CB9F47A4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02305-B475-450D-A596-79F0080D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42FEB-4646-4F4A-9A0D-00A09C31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AA7BC-79D9-45A6-A61E-B06261DA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D92F5-2B3B-4C23-9D98-3740A2E6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D11-F971-4188-8864-F848DDEF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72998-F396-46AC-A661-F836A075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BDB71-76EE-4689-825A-E9F45AF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3EAAF-CFD5-4F4F-9C2F-70095F5E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C25AB-F829-4E8B-ACD4-586F509E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56D2C-F849-4F6B-82A2-B47FAE70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AEF-8548-4DF7-A0AA-71834D54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CB7-FB23-4289-AF6C-0B37479A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1C7-7AA3-4029-93F1-50D91913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2A5-A0BD-4744-B19A-CA71DE7F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2B6-8A11-433D-8B72-69233CA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C46-1D5A-4900-8B40-4784EA33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474-BD22-4058-9256-E82012D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AD9915-9A52-4AE2-9444-B197F94B69C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2EBB3D-47EF-464A-89DF-52439B0F326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dic.nsf/ruwiki/209210" TargetMode="External"/><Relationship Id="rId3" Type="http://schemas.openxmlformats.org/officeDocument/2006/relationships/hyperlink" Target="http://dic.academic.ru/dic.nsf/ruwiki/755255" TargetMode="External"/><Relationship Id="rId4" Type="http://schemas.openxmlformats.org/officeDocument/2006/relationships/hyperlink" Target="http://dic.academic.ru/dic.nsf/ruwiki/27133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Оборудование и материа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а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ти (большая и маленька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очка для в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яп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я городских мастеров (иллюстрац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306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 мотива «бут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contrast="30000"/>
          </a:blip>
          <a:srcRect l="0" t="0" r="-133" b="-315"/>
          <a:stretch/>
        </p:blipFill>
        <p:spPr>
          <a:xfrm>
            <a:off x="900000" y="1341360"/>
            <a:ext cx="712800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4360" t="0" r="1289" b="76755"/>
          <a:stretch/>
        </p:blipFill>
        <p:spPr>
          <a:xfrm>
            <a:off x="900000" y="4076640"/>
            <a:ext cx="7129440" cy="173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8200" y="580536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ива «купав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62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зоры городецкой рос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contrast="24000"/>
          </a:blip>
          <a:srcRect l="0" t="40664" r="54222" b="40534"/>
          <a:stretch/>
        </p:blipFill>
        <p:spPr>
          <a:xfrm>
            <a:off x="250920" y="333360"/>
            <a:ext cx="352728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4363" t="40650" r="-67" b="14447"/>
          <a:stretch/>
        </p:blipFill>
        <p:spPr>
          <a:xfrm>
            <a:off x="5796000" y="2276640"/>
            <a:ext cx="24480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498" t="76768" r="52791" b="-34"/>
          <a:stretch/>
        </p:blipFill>
        <p:spPr>
          <a:xfrm>
            <a:off x="395280" y="4869000"/>
            <a:ext cx="32400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549360"/>
            <a:ext cx="57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з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8526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р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3480" y="5373720"/>
            <a:ext cx="56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ма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2200" y="1557360"/>
            <a:ext cx="2738520" cy="1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0480" y="3808440"/>
            <a:ext cx="2568600" cy="1440"/>
          </a:xfrm>
          <a:custGeom>
            <a:avLst/>
            <a:gdLst/>
            <a:ahLst/>
            <a:rect l="l" t="t" r="r" b="b"/>
            <a:pathLst>
              <a:path w="1618" h="1">
                <a:moveTo>
                  <a:pt x="0" y="0"/>
                </a:moveTo>
                <a:lnTo>
                  <a:pt x="1618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49840" y="6308640"/>
            <a:ext cx="273816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-91"/>
          <a:stretch/>
        </p:blipFill>
        <p:spPr>
          <a:xfrm>
            <a:off x="468360" y="836640"/>
            <a:ext cx="828036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013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ли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-36"/>
          <a:stretch/>
        </p:blipFill>
        <p:spPr>
          <a:xfrm>
            <a:off x="250920" y="260280"/>
            <a:ext cx="3960720" cy="498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4211640" y="227664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11640" y="692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пт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2600" y="609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н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2577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ыполнение городецких узоров в альб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7336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48664" b="47649"/>
          <a:stretch/>
        </p:blipFill>
        <p:spPr>
          <a:xfrm>
            <a:off x="684360" y="1773360"/>
            <a:ext cx="2054160" cy="30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8484" t="0" r="99" b="47649"/>
          <a:stretch/>
        </p:blipFill>
        <p:spPr>
          <a:xfrm>
            <a:off x="2700360" y="2781360"/>
            <a:ext cx="2057400" cy="30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11280" y="537372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0" t="51050" r="48574" b="806"/>
          <a:stretch/>
        </p:blipFill>
        <p:spPr>
          <a:xfrm>
            <a:off x="4716360" y="1773360"/>
            <a:ext cx="205740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8574" t="49701" r="0" b="73"/>
          <a:stretch/>
        </p:blipFill>
        <p:spPr>
          <a:xfrm>
            <a:off x="6732720" y="285264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284720" y="1773360"/>
            <a:ext cx="3286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300720" y="5300640"/>
            <a:ext cx="3999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9a00"/>
                </a:solidFill>
                <a:latin typeface="Tahoma"/>
              </a:rPr>
              <a:t>Структур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 (Приветствие. Проверка готовности к уро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воение новых знаний (Знакомство с городецкой росписью, образцами и узор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ая работа (Выполнение изученных узоров на альбомном лист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нчание урока (Выставка и оценка работ.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Усвоение новых зн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одецкая роспис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русский народный художественны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ществует с середины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. в районе г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ороде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179280" y="189000"/>
            <a:ext cx="4943520" cy="495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105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9280" cy="354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42584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51280" y="1700280"/>
            <a:ext cx="4046760" cy="481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2060640"/>
            <a:ext cx="4224240" cy="45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08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767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0360" y="2894040"/>
            <a:ext cx="4673520" cy="367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8040" y="876240"/>
            <a:ext cx="54723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10:12Z</dcterms:created>
  <dc:creator>ФинтифлюнчиК</dc:creator>
  <dc:description/>
  <dc:language>en-US</dc:language>
  <cp:lastModifiedBy>ФинтифлюнчиК</cp:lastModifiedBy>
  <dcterms:modified xsi:type="dcterms:W3CDTF">2010-05-05T17:24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e0000000000010243100207f6000400038000</vt:lpwstr>
  </property>
</Properties>
</file>