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6.jpeg" ContentType="image/jpeg"/>
  <Override PartName="/ppt/media/image8.png" ContentType="image/png"/>
  <Override PartName="/ppt/media/image1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7473B-4EFD-47A5-B68B-37B176D9D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324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E43CD-6406-411A-96F2-8671997DC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76BAF-DD87-4276-A32B-379A3B115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90476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90476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32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40532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40532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B39BF-9A81-40DF-A654-309059058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055ECE-5C0E-472B-8DDA-AA27FB3D6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81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6A161F-01D4-4C5E-8F6A-E0604F200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8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D8C8F5-407E-400C-9EAD-F653813E3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F95455-FA3E-41EB-95E8-42B3DF647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653AF8-66E9-4068-AC27-3505D8648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6676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9F3911-BF7C-40BE-AE3E-0751AA35A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597CC4-589B-48E4-811E-BD042155A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81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DAA4B-1E12-461E-8E6A-4E6C22857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D17325-4EDF-4FB0-9DF1-BD558E502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324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146995-9B9B-4253-81D1-FB85673DB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324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23118A-797B-415F-9CB7-44AC12BD4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21517C-FD3B-4F32-AD5A-D8ADD72CA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90476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90476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32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40532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40532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3C8724-2428-497A-809A-CB38EB1DF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8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63B1C-06BE-4081-AC91-53994531B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1098D-1DEB-4E45-8C40-0C475E642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94F98-7464-46EC-96E1-66658EBE2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676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61032-3939-4FC3-AEA3-A9A16A091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A455D-775B-424D-83B0-4FEBA82CB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D6162-A4F4-46FD-B4E5-6E41118A4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324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45EE0-295C-47EC-9611-F01B30F9B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8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BEB430B-8E69-4719-938F-0BE62495A70D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404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3B839B5D-7058-49CD-8260-73E108DCB35B}" type="slidenum">
              <a:rPr b="0" lang="ru-RU" sz="1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image" Target="../media/image15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jpeg"/><Relationship Id="rId3" Type="http://schemas.openxmlformats.org/officeDocument/2006/relationships/image" Target="../media/image20.jpeg"/><Relationship Id="rId4" Type="http://schemas.openxmlformats.org/officeDocument/2006/relationships/image" Target="../media/image20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dic.academic.ru/dic.nsf/ruwiki/209210" TargetMode="External"/><Relationship Id="rId3" Type="http://schemas.openxmlformats.org/officeDocument/2006/relationships/hyperlink" Target="http://dic.academic.ru/dic.nsf/ruwiki/755255" TargetMode="External"/><Relationship Id="rId4" Type="http://schemas.openxmlformats.org/officeDocument/2006/relationships/hyperlink" Target="http://dic.academic.ru/dic.nsf/ruwiki/27133" TargetMode="External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Comic Sans MS"/>
              </a:rPr>
              <a:t>Оборудование и материалы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Гуашь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исти (большая и маленькая)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льбом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Баночка для воды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Тряпочка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оизведения городских мастеров (иллюстрации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50920" y="3068640"/>
            <a:ext cx="849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следовательность выполнения и разновидности мотива «бутон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>
            <a:lum contrast="30000"/>
          </a:blip>
          <a:srcRect l="0" t="0" r="-133" b="-315"/>
          <a:stretch/>
        </p:blipFill>
        <p:spPr>
          <a:xfrm>
            <a:off x="900000" y="1341360"/>
            <a:ext cx="7128000" cy="16700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rcRect l="4360" t="0" r="1289" b="76755"/>
          <a:stretch/>
        </p:blipFill>
        <p:spPr>
          <a:xfrm>
            <a:off x="900000" y="4076640"/>
            <a:ext cx="7129440" cy="173196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538200" y="5805360"/>
            <a:ext cx="794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следовательность выполнения и разновидност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мотива «купавка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547640" y="333360"/>
            <a:ext cx="624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Tahoma"/>
              </a:rPr>
              <a:t>Узоры городецкой росписи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2">
            <a:lum contrast="24000"/>
          </a:blip>
          <a:srcRect l="0" t="40664" r="54222" b="40534"/>
          <a:stretch/>
        </p:blipFill>
        <p:spPr>
          <a:xfrm>
            <a:off x="250920" y="333360"/>
            <a:ext cx="3527280" cy="142704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rcRect l="54363" t="40650" r="-67" b="14447"/>
          <a:stretch/>
        </p:blipFill>
        <p:spPr>
          <a:xfrm>
            <a:off x="5796000" y="2276640"/>
            <a:ext cx="2448000" cy="236196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4"/>
          <a:srcRect l="1498" t="76768" r="52791" b="-34"/>
          <a:stretch/>
        </p:blipFill>
        <p:spPr>
          <a:xfrm>
            <a:off x="395280" y="4869000"/>
            <a:ext cx="3240000" cy="16272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3635280" y="549360"/>
            <a:ext cx="5748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следовательность выполнения 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азновидности мотива «розан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24000" y="2852640"/>
            <a:ext cx="511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следовательность выполнени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 разновидности мотива «роза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633480" y="5373720"/>
            <a:ext cx="5641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следовательность выполнения 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азновидности мотива «ромашка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3922200" y="1557360"/>
            <a:ext cx="2738520" cy="1440"/>
          </a:xfrm>
          <a:prstGeom prst="line">
            <a:avLst/>
          </a:prstGeom>
          <a:ln cap="sq"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030480" y="3808440"/>
            <a:ext cx="2568600" cy="1440"/>
          </a:xfrm>
          <a:custGeom>
            <a:avLst/>
            <a:gdLst/>
            <a:ahLst/>
            <a:rect l="l" t="t" r="r" b="b"/>
            <a:pathLst>
              <a:path w="1618" h="1">
                <a:moveTo>
                  <a:pt x="0" y="0"/>
                </a:moveTo>
                <a:lnTo>
                  <a:pt x="1618" y="0"/>
                </a:lnTo>
              </a:path>
            </a:pathLst>
          </a:custGeom>
          <a:noFill/>
          <a:ln cap="sq" w="93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3849840" y="6308640"/>
            <a:ext cx="2738160" cy="1800"/>
          </a:xfrm>
          <a:prstGeom prst="line">
            <a:avLst/>
          </a:prstGeom>
          <a:ln cap="sq"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2"/>
          <a:srcRect l="0" t="0" r="0" b="-91"/>
          <a:stretch/>
        </p:blipFill>
        <p:spPr>
          <a:xfrm>
            <a:off x="468360" y="836640"/>
            <a:ext cx="8280360" cy="371952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1187280" y="5013360"/>
            <a:ext cx="676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следовательность выполнени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 разновидности мотива «лист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2"/>
          <a:srcRect l="0" t="0" r="0" b="-36"/>
          <a:stretch/>
        </p:blipFill>
        <p:spPr>
          <a:xfrm>
            <a:off x="250920" y="260280"/>
            <a:ext cx="3960720" cy="49816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rcRect l="0" t="0" r="0" b="-41"/>
          <a:stretch/>
        </p:blipFill>
        <p:spPr>
          <a:xfrm>
            <a:off x="4211640" y="2276640"/>
            <a:ext cx="4648320" cy="43434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4211640" y="692280"/>
            <a:ext cx="5148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следовательность выполн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 разновидности мотива «птица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892600" y="6093000"/>
            <a:ext cx="12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«конь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2411280" y="404640"/>
            <a:ext cx="4257720" cy="6019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395280" y="260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ctr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Выполнение городецких узоров в альбом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95280" y="1773360"/>
            <a:ext cx="257040" cy="5331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1</a:t>
            </a:r>
            <a:endParaRPr b="1" lang="en-US" sz="1800" spc="1" strike="noStrike">
              <a:ln cap="sq"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rcRect l="0" t="0" r="48664" b="47649"/>
          <a:stretch/>
        </p:blipFill>
        <p:spPr>
          <a:xfrm>
            <a:off x="684360" y="1773360"/>
            <a:ext cx="2054160" cy="30859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rcRect l="48484" t="0" r="99" b="47649"/>
          <a:stretch/>
        </p:blipFill>
        <p:spPr>
          <a:xfrm>
            <a:off x="2700360" y="2781360"/>
            <a:ext cx="2057400" cy="30859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 txBox="1"/>
          <p:nvPr/>
        </p:nvSpPr>
        <p:spPr>
          <a:xfrm>
            <a:off x="2411280" y="5373720"/>
            <a:ext cx="360360" cy="576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2</a:t>
            </a:r>
            <a:endParaRPr b="1" lang="en-US" sz="1800" spc="1" strike="noStrike">
              <a:ln cap="sq"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rcRect l="0" t="51050" r="48574" b="806"/>
          <a:stretch/>
        </p:blipFill>
        <p:spPr>
          <a:xfrm>
            <a:off x="4716360" y="1773360"/>
            <a:ext cx="2057400" cy="284796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rcRect l="48574" t="49701" r="0" b="73"/>
          <a:stretch/>
        </p:blipFill>
        <p:spPr>
          <a:xfrm>
            <a:off x="6732720" y="2852640"/>
            <a:ext cx="2057400" cy="297180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 txBox="1"/>
          <p:nvPr/>
        </p:nvSpPr>
        <p:spPr>
          <a:xfrm>
            <a:off x="4284720" y="1773360"/>
            <a:ext cx="328680" cy="576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3</a:t>
            </a:r>
            <a:endParaRPr b="1" lang="en-US" sz="1800" spc="1" strike="noStrike">
              <a:ln cap="sq"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300720" y="5300640"/>
            <a:ext cx="399960" cy="576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4</a:t>
            </a:r>
            <a:endParaRPr b="1" lang="en-US" sz="1800" spc="1" strike="noStrike">
              <a:ln cap="sq"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83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9a00"/>
                </a:solidFill>
                <a:latin typeface="Tahoma"/>
              </a:rPr>
              <a:t>Структура урока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60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рганизационный момент (Приветствие. Проверка готовности к уроку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Усвоение новых знаний (Знакомство с городецкой росписью, образцами и узорами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актическая работа (Выполнение изученных узоров на альбомном листе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кончание урока (Выставка и оценка работ. 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 u="sng">
                <a:solidFill>
                  <a:srgbClr val="ff0000"/>
                </a:solidFill>
                <a:uFillTx/>
                <a:latin typeface="Tahoma"/>
              </a:rPr>
              <a:t>Усвоение новых знаний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Городецкая роспись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 — русский народный художественный </a:t>
            </a:r>
            <a:r>
              <a:rPr b="0" lang="ru-RU" sz="2800" spc="-1" strike="noStrike" u="sng">
                <a:solidFill>
                  <a:srgbClr val="ccccff"/>
                </a:solidFill>
                <a:uFillTx/>
                <a:latin typeface="Tahoma"/>
                <a:hlinkClick r:id="rId2"/>
              </a:rPr>
              <a:t>промысел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. Существует с середины </a:t>
            </a:r>
            <a:r>
              <a:rPr b="0" lang="ru-RU" sz="2800" spc="-1" strike="noStrike" u="sng">
                <a:solidFill>
                  <a:srgbClr val="ccccff"/>
                </a:solidFill>
                <a:uFillTx/>
                <a:latin typeface="Tahoma"/>
                <a:hlinkClick r:id="rId3"/>
              </a:rPr>
              <a:t>XIX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 в. в районе г. </a:t>
            </a:r>
            <a:r>
              <a:rPr b="0" lang="ru-RU" sz="2800" spc="-1" strike="noStrike" u="sng">
                <a:solidFill>
                  <a:srgbClr val="ccccff"/>
                </a:solidFill>
                <a:uFillTx/>
                <a:latin typeface="Tahoma"/>
                <a:hlinkClick r:id="rId4"/>
              </a:rPr>
              <a:t>Городец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. Яркая, лаконичная городецкая роспись (жанровые сцены, фигурки коней, петухов, цветочные узоры), выполненная свободным мазком с белой и черной графической обводкой, украшала прялки, мебель, ставни, двери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2"/>
          <a:srcRect l="0" t="0" r="0" b="21"/>
          <a:stretch/>
        </p:blipFill>
        <p:spPr>
          <a:xfrm>
            <a:off x="179280" y="189000"/>
            <a:ext cx="4943520" cy="49528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4788000" y="692280"/>
            <a:ext cx="4105080" cy="586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4500720" y="3068640"/>
            <a:ext cx="4319280" cy="35416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250920" y="260280"/>
            <a:ext cx="4425840" cy="4746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4751280" y="1700280"/>
            <a:ext cx="4046760" cy="48178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250920" y="260280"/>
            <a:ext cx="4524120" cy="504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4621320" y="2060640"/>
            <a:ext cx="4224240" cy="45306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250920" y="189000"/>
            <a:ext cx="4408560" cy="446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250920" y="260280"/>
            <a:ext cx="5076720" cy="3733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4572000" y="2781360"/>
            <a:ext cx="4286160" cy="380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40360" y="2894040"/>
            <a:ext cx="4673520" cy="36799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338040" y="876240"/>
            <a:ext cx="5472360" cy="36338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0T17:10:12Z</dcterms:created>
  <dc:creator>ФинтифлюнчиК</dc:creator>
  <dc:description/>
  <dc:language>en-US</dc:language>
  <cp:lastModifiedBy>ФинтифлюнчиК</cp:lastModifiedBy>
  <dcterms:modified xsi:type="dcterms:W3CDTF">2010-05-05T17:24:02Z</dcterms:modified>
  <cp:revision>4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020e0000000000010243100207f6000400038000</vt:lpwstr>
  </property>
</Properties>
</file>