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A8A-5D98-41CD-AE7E-86E8CEF9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80EF-8313-4D16-84FC-DCF5585C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77DC-5891-4B8D-BC86-B86DAA02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63C1-E094-4E53-8601-EDECB039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3F6A1-9A87-4BFF-AED8-33FE5A92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67A16-78A4-4516-8B42-9015D3F3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1BF6B-C34F-4825-B1CA-F63D5088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BF809-571C-4BED-9D27-27C488A0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DEBF3-E631-4FFF-8A69-F1709853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A1A59-84B1-490A-9E88-B3CF3DF8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1AB08-E0F5-4650-A681-9D84A8D4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7259-AADA-4F60-826C-00FCEAF0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F8A6F-447C-4200-A2F0-781C9A45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AAECF-7EC3-49D8-B8E9-C08DF4BA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721F2-59CF-47B1-AB3B-DDC82E0A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F2BB7-CD90-4168-A1DF-5A60DEC74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F87D9-8D61-49D5-8B84-9EB488BD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90F5-C1D8-4041-AC84-D6CE5BD2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2C09-0687-42B9-9B9C-DD239EF5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A25-2A1E-4D4F-B705-915DD7B4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55F9-F04B-480D-977E-1F849C90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0659-9A4F-4A6D-A355-2122486E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F891-6CE3-4F93-92C0-7BA7F080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080E-FA30-470B-A6F6-1109C8C0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AE920E-80F4-4A92-8F4E-9650C5E1989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40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60A8F5E-8EA1-4A96-99CF-5B9B09B544F1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dic.academic.ru/dic.nsf/ruwiki/209210" TargetMode="External"/><Relationship Id="rId3" Type="http://schemas.openxmlformats.org/officeDocument/2006/relationships/hyperlink" Target="http://dic.academic.ru/dic.nsf/ruwiki/755255" TargetMode="External"/><Relationship Id="rId4" Type="http://schemas.openxmlformats.org/officeDocument/2006/relationships/hyperlink" Target="http://dic.academic.ru/dic.nsf/ruwiki/27133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Оборудование и материал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уаш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сти (большая и маленькая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ьбо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ночка для воды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япочк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ведения городских мастеров (иллюстраци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0920" y="306864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разновидности мотива «бутон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>
            <a:lum contrast="30000"/>
          </a:blip>
          <a:srcRect l="0" t="0" r="-133" b="-315"/>
          <a:stretch/>
        </p:blipFill>
        <p:spPr>
          <a:xfrm>
            <a:off x="900000" y="1341360"/>
            <a:ext cx="7128000" cy="1670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rcRect l="4360" t="0" r="1289" b="76755"/>
          <a:stretch/>
        </p:blipFill>
        <p:spPr>
          <a:xfrm>
            <a:off x="900000" y="4076640"/>
            <a:ext cx="7129440" cy="173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8200" y="580536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разновид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тива «купав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333360"/>
            <a:ext cx="624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Узоры городецкой роспис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>
            <a:lum contrast="24000"/>
          </a:blip>
          <a:srcRect l="0" t="40664" r="54222" b="40534"/>
          <a:stretch/>
        </p:blipFill>
        <p:spPr>
          <a:xfrm>
            <a:off x="250920" y="333360"/>
            <a:ext cx="3527280" cy="1427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54363" t="40650" r="-67" b="14447"/>
          <a:stretch/>
        </p:blipFill>
        <p:spPr>
          <a:xfrm>
            <a:off x="5796000" y="2276640"/>
            <a:ext cx="2448000" cy="2361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1498" t="76768" r="52791" b="-34"/>
          <a:stretch/>
        </p:blipFill>
        <p:spPr>
          <a:xfrm>
            <a:off x="395280" y="4869000"/>
            <a:ext cx="3240000" cy="1627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35280" y="549360"/>
            <a:ext cx="574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новидности мотива «розан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852640"/>
            <a:ext cx="51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азновидности мотива «роз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3480" y="5373720"/>
            <a:ext cx="564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новидности мотива «ромаш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922200" y="1557360"/>
            <a:ext cx="2738520" cy="144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30480" y="3808440"/>
            <a:ext cx="2568600" cy="1440"/>
          </a:xfrm>
          <a:custGeom>
            <a:avLst/>
            <a:gdLst/>
            <a:ahLst/>
            <a:rect l="l" t="t" r="r" b="b"/>
            <a:pathLst>
              <a:path w="1618" h="1">
                <a:moveTo>
                  <a:pt x="0" y="0"/>
                </a:moveTo>
                <a:lnTo>
                  <a:pt x="1618" y="0"/>
                </a:lnTo>
              </a:path>
            </a:pathLst>
          </a:custGeom>
          <a:noFill/>
          <a:ln cap="sq"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849840" y="6308640"/>
            <a:ext cx="2738160" cy="180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rcRect l="0" t="0" r="0" b="-91"/>
          <a:stretch/>
        </p:blipFill>
        <p:spPr>
          <a:xfrm>
            <a:off x="468360" y="836640"/>
            <a:ext cx="8280360" cy="3719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87280" y="5013360"/>
            <a:ext cx="67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азновидности мотива «лист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rcRect l="0" t="0" r="0" b="-36"/>
          <a:stretch/>
        </p:blipFill>
        <p:spPr>
          <a:xfrm>
            <a:off x="250920" y="260280"/>
            <a:ext cx="3960720" cy="4981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rcRect l="0" t="0" r="0" b="-41"/>
          <a:stretch/>
        </p:blipFill>
        <p:spPr>
          <a:xfrm>
            <a:off x="4211640" y="2276640"/>
            <a:ext cx="4648320" cy="4343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211640" y="692280"/>
            <a:ext cx="51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азновидности мотива «птиц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2600" y="60930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кон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411280" y="404640"/>
            <a:ext cx="425772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ыполнение городецких узоров в альбо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1773360"/>
            <a:ext cx="25704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0" t="0" r="48664" b="47649"/>
          <a:stretch/>
        </p:blipFill>
        <p:spPr>
          <a:xfrm>
            <a:off x="684360" y="1773360"/>
            <a:ext cx="2054160" cy="3085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48484" t="0" r="99" b="47649"/>
          <a:stretch/>
        </p:blipFill>
        <p:spPr>
          <a:xfrm>
            <a:off x="2700360" y="2781360"/>
            <a:ext cx="2057400" cy="3085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2411280" y="537372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rcRect l="0" t="51050" r="48574" b="806"/>
          <a:stretch/>
        </p:blipFill>
        <p:spPr>
          <a:xfrm>
            <a:off x="4716360" y="1773360"/>
            <a:ext cx="2057400" cy="2847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rcRect l="48574" t="49701" r="0" b="73"/>
          <a:stretch/>
        </p:blipFill>
        <p:spPr>
          <a:xfrm>
            <a:off x="6732720" y="2852640"/>
            <a:ext cx="2057400" cy="2971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284720" y="1773360"/>
            <a:ext cx="328680" cy="57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300720" y="5300640"/>
            <a:ext cx="39996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9a00"/>
                </a:solidFill>
                <a:latin typeface="Tahoma"/>
              </a:rPr>
              <a:t>Структура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60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онный момент (Приветствие. Проверка готовности к уроку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воение новых знаний (Знакомство с городецкой росписью, образцами и узорам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ктическая работа (Выполнение изученных узоров на альбомном лист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ончание урока (Выставка и оценка работ.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Tahoma"/>
              </a:rPr>
              <a:t>Усвоение новых знани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ородецкая роспис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— русский народный художественный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промысе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Существует с середины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в. в районе г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Городец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Яркая, лаконичная городецкая роспись (жанровые сцены, фигурки коней, петухов, цветочные узоры), выполненная свободным мазком с белой и черной графической обводкой, украшала прялки, мебель, ставни, двер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rcRect l="0" t="0" r="0" b="21"/>
          <a:stretch/>
        </p:blipFill>
        <p:spPr>
          <a:xfrm>
            <a:off x="179280" y="189000"/>
            <a:ext cx="4943520" cy="4952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788000" y="692280"/>
            <a:ext cx="410508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00720" y="3068640"/>
            <a:ext cx="4319280" cy="3541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4425840" cy="47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751280" y="1700280"/>
            <a:ext cx="4046760" cy="4817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45241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21320" y="2060640"/>
            <a:ext cx="4224240" cy="4530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4085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076720" cy="3733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2781360"/>
            <a:ext cx="42861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40360" y="2894040"/>
            <a:ext cx="4673520" cy="3679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38040" y="876240"/>
            <a:ext cx="5472360" cy="3633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7:10:12Z</dcterms:created>
  <dc:creator>ФинтифлюнчиК</dc:creator>
  <dc:description/>
  <dc:language>en-US</dc:language>
  <cp:lastModifiedBy>ФинтифлюнчиК</cp:lastModifiedBy>
  <dcterms:modified xsi:type="dcterms:W3CDTF">2010-05-05T17:24:02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0e0000000000010243100207f6000400038000</vt:lpwstr>
  </property>
</Properties>
</file>