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2800-218E-4CFA-AB3D-588C949C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839-75B7-4EB3-89CF-A06C4D67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CAA-7DCB-470D-948B-4DB83C2D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8BD-A599-46B0-B89C-086C037E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E789C-F63C-4E87-82FD-3968827E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87BEF-F2D1-4141-9CF2-4C4DF354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04265-62AD-4A57-939C-2CABB995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6AD41-675B-455C-B811-1A3ED9E5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F18FA-2E00-46EB-BAE5-7B1386FA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763C9-2F93-418D-BF4C-36887AFA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7E2EE-6275-43E1-9C17-685DAD2A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8EF-78F4-481C-BCF1-5E14FE16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07B1B-B74C-45EF-A0D7-8EF68812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FCE10-7A58-4CF9-A8C7-ACDBEE24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0E4D0-5B54-450C-8ABF-A8682013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63B6C-31F1-4D67-9647-C713E504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58C21-A3F1-4415-BBE4-2ABFDC01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46B-DE56-4D68-AD09-6FB92A05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9CC-59D2-4544-BCA6-14FE40FC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F40-C9DF-43A4-BDBF-77089C5F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7E9-3F7D-418D-B023-97B93011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422-5C12-469D-AC54-3F7D630D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5CC-F674-4D48-9403-C57D4725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AC6-E87A-4C69-BFF8-F89E068C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CEBF7A-3FDF-49DB-BF59-91DED5B2DBD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868C5CF-6528-4EBF-8AFA-543E217358F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ic.academic.ru/dic.nsf/ruwiki/209210" TargetMode="External"/><Relationship Id="rId3" Type="http://schemas.openxmlformats.org/officeDocument/2006/relationships/hyperlink" Target="http://dic.academic.ru/dic.nsf/ruwiki/755255" TargetMode="External"/><Relationship Id="rId4" Type="http://schemas.openxmlformats.org/officeDocument/2006/relationships/hyperlink" Target="http://dic.academic.ru/dic.nsf/ruwiki/27133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Оборудование и материал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аш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сти (большая и маленькая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ьб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ночка для вод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япоч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едения городских мастеров (иллюстраци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30686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 мотива «буто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contrast="30000"/>
          </a:blip>
          <a:srcRect l="0" t="0" r="-133" b="-315"/>
          <a:stretch/>
        </p:blipFill>
        <p:spPr>
          <a:xfrm>
            <a:off x="900000" y="1341360"/>
            <a:ext cx="7128000" cy="167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4360" t="0" r="1289" b="76755"/>
          <a:stretch/>
        </p:blipFill>
        <p:spPr>
          <a:xfrm>
            <a:off x="900000" y="4076640"/>
            <a:ext cx="7129440" cy="173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8200" y="580536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тива «купав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33360"/>
            <a:ext cx="624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Узоры городецкой роспис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>
            <a:lum contrast="24000"/>
          </a:blip>
          <a:srcRect l="0" t="40664" r="54222" b="40534"/>
          <a:stretch/>
        </p:blipFill>
        <p:spPr>
          <a:xfrm>
            <a:off x="250920" y="333360"/>
            <a:ext cx="3527280" cy="14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54363" t="40650" r="-67" b="14447"/>
          <a:stretch/>
        </p:blipFill>
        <p:spPr>
          <a:xfrm>
            <a:off x="5796000" y="2276640"/>
            <a:ext cx="2448000" cy="2361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1498" t="76768" r="52791" b="-34"/>
          <a:stretch/>
        </p:blipFill>
        <p:spPr>
          <a:xfrm>
            <a:off x="395280" y="4869000"/>
            <a:ext cx="3240000" cy="162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35280" y="549360"/>
            <a:ext cx="574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за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85264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роз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3480" y="5373720"/>
            <a:ext cx="56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маш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922200" y="1557360"/>
            <a:ext cx="2738520" cy="144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30480" y="3808440"/>
            <a:ext cx="2568600" cy="1440"/>
          </a:xfrm>
          <a:custGeom>
            <a:avLst/>
            <a:gdLst/>
            <a:ahLst/>
            <a:rect l="l" t="t" r="r" b="b"/>
            <a:pathLst>
              <a:path w="1618" h="1">
                <a:moveTo>
                  <a:pt x="0" y="0"/>
                </a:moveTo>
                <a:lnTo>
                  <a:pt x="1618" y="0"/>
                </a:lnTo>
              </a:path>
            </a:pathLst>
          </a:custGeom>
          <a:noFill/>
          <a:ln cap="sq"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49840" y="6308640"/>
            <a:ext cx="273816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0" t="0" r="0" b="-91"/>
          <a:stretch/>
        </p:blipFill>
        <p:spPr>
          <a:xfrm>
            <a:off x="468360" y="836640"/>
            <a:ext cx="8280360" cy="371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013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лис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0" t="0" r="0" b="-36"/>
          <a:stretch/>
        </p:blipFill>
        <p:spPr>
          <a:xfrm>
            <a:off x="250920" y="260280"/>
            <a:ext cx="3960720" cy="498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0" r="0" b="-41"/>
          <a:stretch/>
        </p:blipFill>
        <p:spPr>
          <a:xfrm>
            <a:off x="4211640" y="2276640"/>
            <a:ext cx="4648320" cy="4343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211640" y="69228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птиц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2600" y="6093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кон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425772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ыполнение городецких узоров в альбо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773360"/>
            <a:ext cx="25704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48664" b="47649"/>
          <a:stretch/>
        </p:blipFill>
        <p:spPr>
          <a:xfrm>
            <a:off x="684360" y="1773360"/>
            <a:ext cx="2054160" cy="308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48484" t="0" r="99" b="47649"/>
          <a:stretch/>
        </p:blipFill>
        <p:spPr>
          <a:xfrm>
            <a:off x="2700360" y="2781360"/>
            <a:ext cx="2057400" cy="308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411280" y="537372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rcRect l="0" t="51050" r="48574" b="806"/>
          <a:stretch/>
        </p:blipFill>
        <p:spPr>
          <a:xfrm>
            <a:off x="4716360" y="1773360"/>
            <a:ext cx="2057400" cy="284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rcRect l="48574" t="49701" r="0" b="73"/>
          <a:stretch/>
        </p:blipFill>
        <p:spPr>
          <a:xfrm>
            <a:off x="6732720" y="2852640"/>
            <a:ext cx="2057400" cy="297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284720" y="1773360"/>
            <a:ext cx="32868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300720" y="5300640"/>
            <a:ext cx="3999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9a00"/>
                </a:solidFill>
                <a:latin typeface="Tahoma"/>
              </a:rPr>
              <a:t>Структура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онный момент (Приветствие. Проверка готовности к уроку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воение новых знаний (Знакомство с городецкой росписью, образцами и узорам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ктическая работа (Выполнение изученных узоров на альбомном лист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ончание урока (Выставка и оценка работ.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Усвоение новых знан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родецкая роспис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— русский народный художественный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промысе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ществует с середины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в. в районе г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Городе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Яркая, лаконичная городецкая роспись (жанровые сцены, фигурки коней, петухов, цветочные узоры), выполненная свободным мазком с белой и черной графической обводкой, украшала прялки, мебель, ставни, двер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0" t="0" r="0" b="21"/>
          <a:stretch/>
        </p:blipFill>
        <p:spPr>
          <a:xfrm>
            <a:off x="179280" y="189000"/>
            <a:ext cx="4943520" cy="4952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410508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4319280" cy="3541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42584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51280" y="1700280"/>
            <a:ext cx="4046760" cy="4817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5241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21320" y="2060640"/>
            <a:ext cx="4224240" cy="453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4085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07672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2781360"/>
            <a:ext cx="4286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0360" y="2894040"/>
            <a:ext cx="4673520" cy="3679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38040" y="876240"/>
            <a:ext cx="5472360" cy="363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7:10:12Z</dcterms:created>
  <dc:creator>ФинтифлюнчиК</dc:creator>
  <dc:description/>
  <dc:language>en-US</dc:language>
  <cp:lastModifiedBy>ФинтифлюнчиК</cp:lastModifiedBy>
  <dcterms:modified xsi:type="dcterms:W3CDTF">2010-05-05T17:24:0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e0000000000010243100207f6000400038000</vt:lpwstr>
  </property>
</Properties>
</file>