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7CD1-A476-4F41-9C4A-76B979468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0553-1F04-4E1B-A209-41973B8F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5B5F-84BF-4B57-ABDB-7EA22EC8E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D635-37C5-46BC-BF36-7960D2DB4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0712-BEEB-46A1-8711-91B265D97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93D5B-B3D3-4198-87D2-10CD323E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7E4F-730F-4A6C-A6B1-5D6DE9B1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D336-D16F-48B0-84B9-4F09C3A5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B76F-7846-4AAC-B5A2-46D3B417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AB66-83D2-46AC-9EB4-7EC2A3D7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BDEA-4771-4BD7-9788-47938436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4133-3545-4D40-8C0F-E2C9BA69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19B5-BC50-4BA8-906D-93AF70A7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46A14-2F9A-483B-99A1-84A34E96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C5EDC-190D-42C2-A94B-E18435F7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916A-D03E-42E7-A5B4-3C125BB33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78F5-1F8F-4134-A2DB-0B48CB8DE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9BE3-0170-4798-86AC-04A48F40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DE47-D43A-4979-9A5B-7080160F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A2D6-669E-4D67-A5D1-B10FA1EE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C3C7-8E21-4BD9-9A2E-F64969D3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7082-3898-425F-934C-D948F495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2AE2-0866-4CDD-8C3B-F40F3F4E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795D-BA14-40D5-9083-FCF17AD2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D359-2885-4C99-A02D-A7CC483637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95BD-533E-4748-A7BD-606D2B3006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85520" y="1285560"/>
            <a:ext cx="7715160" cy="47149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3600" spc="-1" strike="noStrike">
                <a:solidFill>
                  <a:srgbClr val="7f0000"/>
                </a:solidFill>
                <a:latin typeface="Comic Sans MS"/>
              </a:rPr>
              <a:t>Общие понятия о сечениях. Правила выполнения наложенных и вынесенных сечений, их обозначение.</a:t>
            </a:r>
            <a:br>
              <a:rPr sz="9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5246280" y="4530600"/>
            <a:ext cx="2335320" cy="5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9</a:t>
            </a:r>
            <a:r>
              <a:rPr b="0" lang="ru-RU" sz="2800" spc="-1" strike="noStrike">
                <a:solidFill>
                  <a:srgbClr val="000066"/>
                </a:solidFill>
                <a:latin typeface="Comic Sans MS"/>
              </a:rPr>
              <a:t> клас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69696"/>
                </a:solidFill>
                <a:latin typeface="Comic Sans MS"/>
              </a:rPr>
              <a:t>Образование сеч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.Мысленно представляем фигуру сеч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4" descr="9"/>
          <p:cNvPicPr/>
          <p:nvPr/>
        </p:nvPicPr>
        <p:blipFill>
          <a:blip r:embed="rId1"/>
          <a:stretch/>
        </p:blipFill>
        <p:spPr>
          <a:xfrm>
            <a:off x="4500720" y="1828800"/>
            <a:ext cx="3816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69696"/>
                </a:solidFill>
                <a:latin typeface="Comic Sans MS"/>
              </a:rPr>
              <a:t>Образование сеч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0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.Представленную фигуру изображаем на чертеж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4" descr="10"/>
          <p:cNvPicPr/>
          <p:nvPr/>
        </p:nvPicPr>
        <p:blipFill>
          <a:blip r:embed="rId1"/>
          <a:stretch/>
        </p:blipFill>
        <p:spPr>
          <a:xfrm>
            <a:off x="5148360" y="1989000"/>
            <a:ext cx="302400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Comic Sans MS"/>
              </a:rPr>
              <a:t>На сечениях показывают только то, что находится непосредственно в секущей плоскости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Comic Sans MS"/>
              </a:rPr>
              <a:t>Сечение – это не действие, а изображение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еч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377208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60093"/>
                </a:solidFill>
                <a:latin typeface="Comic Sans MS"/>
              </a:rPr>
              <a:t>Вынесенны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09800" y="1557360"/>
            <a:ext cx="3771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60093"/>
                </a:solidFill>
                <a:latin typeface="Comic Sans MS"/>
              </a:rPr>
              <a:t>Наложенны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2626920" y="981000"/>
            <a:ext cx="1368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Line 9"/>
          <p:cNvSpPr/>
          <p:nvPr/>
        </p:nvSpPr>
        <p:spPr>
          <a:xfrm>
            <a:off x="4211640" y="981000"/>
            <a:ext cx="1224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10" descr="12"/>
          <p:cNvPicPr/>
          <p:nvPr/>
        </p:nvPicPr>
        <p:blipFill>
          <a:blip r:embed="rId1"/>
          <a:stretch/>
        </p:blipFill>
        <p:spPr>
          <a:xfrm>
            <a:off x="900000" y="2060640"/>
            <a:ext cx="741708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Обозначение сече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6" descr="11"/>
          <p:cNvPicPr/>
          <p:nvPr/>
        </p:nvPicPr>
        <p:blipFill>
          <a:blip r:embed="rId1"/>
          <a:stretch/>
        </p:blipFill>
        <p:spPr>
          <a:xfrm>
            <a:off x="900000" y="1413000"/>
            <a:ext cx="7201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Упражнение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0" name="Object 5"/>
          <p:cNvGraphicFramePr/>
          <p:nvPr/>
        </p:nvGraphicFramePr>
        <p:xfrm>
          <a:off x="685800" y="2760840"/>
          <a:ext cx="3772080" cy="179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60840"/>
                    <a:ext cx="3772080" cy="17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2" name="Picture 9" descr="13"/>
          <p:cNvPicPr/>
          <p:nvPr/>
        </p:nvPicPr>
        <p:blipFill>
          <a:blip r:embed="rId3"/>
          <a:stretch/>
        </p:blipFill>
        <p:spPr>
          <a:xfrm>
            <a:off x="250920" y="1052640"/>
            <a:ext cx="7921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Упражнение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6" descr="14"/>
          <p:cNvPicPr/>
          <p:nvPr/>
        </p:nvPicPr>
        <p:blipFill>
          <a:blip r:embed="rId1"/>
          <a:stretch/>
        </p:blipFill>
        <p:spPr>
          <a:xfrm>
            <a:off x="468360" y="1125360"/>
            <a:ext cx="77040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зучить понятия о сечениях как изображениях, а также их назначение и применение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зучить алгоритм построения сечений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вивать пространственные представления, пространственное мышл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-11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7" descr="1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39640" y="1989000"/>
            <a:ext cx="3918240" cy="3024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2"/>
          <p:cNvPicPr/>
          <p:nvPr/>
        </p:nvPicPr>
        <p:blipFill>
          <a:blip r:embed="rId2"/>
          <a:stretch/>
        </p:blipFill>
        <p:spPr>
          <a:xfrm>
            <a:off x="4643280" y="1844640"/>
            <a:ext cx="41054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-15444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8" descr="3"/>
          <p:cNvPicPr/>
          <p:nvPr/>
        </p:nvPicPr>
        <p:blipFill>
          <a:blip r:embed="rId1"/>
          <a:stretch/>
        </p:blipFill>
        <p:spPr>
          <a:xfrm>
            <a:off x="709560" y="549360"/>
            <a:ext cx="76471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5"/>
          <p:cNvPicPr/>
          <p:nvPr/>
        </p:nvPicPr>
        <p:blipFill>
          <a:blip r:embed="rId1"/>
          <a:stretch/>
        </p:blipFill>
        <p:spPr>
          <a:xfrm>
            <a:off x="685800" y="1052640"/>
            <a:ext cx="3772080" cy="4006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6"/>
          <p:cNvPicPr/>
          <p:nvPr/>
        </p:nvPicPr>
        <p:blipFill>
          <a:blip r:embed="rId2"/>
          <a:stretch/>
        </p:blipFill>
        <p:spPr>
          <a:xfrm>
            <a:off x="5724360" y="1557360"/>
            <a:ext cx="2303640" cy="2663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10"/>
          <p:cNvPicPr/>
          <p:nvPr/>
        </p:nvPicPr>
        <p:blipFill>
          <a:blip r:embed="rId3"/>
          <a:stretch/>
        </p:blipFill>
        <p:spPr>
          <a:xfrm>
            <a:off x="4140360" y="4724280"/>
            <a:ext cx="160956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ff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Сечение</a:t>
            </a:r>
            <a:r>
              <a:rPr b="0" lang="ru-RU" sz="4000" spc="-1" strike="noStrike">
                <a:solidFill>
                  <a:srgbClr val="0099ff"/>
                </a:solidFill>
                <a:latin typeface="Comic Sans MS"/>
              </a:rPr>
              <a:t>- это изображение</a:t>
            </a:r>
            <a:r>
              <a:rPr b="0" lang="ru-RU" sz="4000" spc="-1" strike="noStrike" u="sng">
                <a:solidFill>
                  <a:srgbClr val="0099ff"/>
                </a:solidFill>
                <a:uFillTx/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0099ff"/>
                </a:solidFill>
                <a:latin typeface="Comic Sans MS"/>
              </a:rPr>
              <a:t>фигуры, полученной при мысленном рассечении предмета секущей плоскостью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Comic Sans MS"/>
              </a:rPr>
              <a:t>Назначение сече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d60093"/>
                </a:solidFill>
                <a:latin typeface="Comic Sans MS"/>
              </a:rPr>
              <a:t>Помогает получать более четкое представление о форме предмет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0093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d60093"/>
                </a:solidFill>
                <a:latin typeface="Comic Sans MS"/>
              </a:rPr>
              <a:t>Дает возможность выполнять меньшее количество изображений на чертеж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69696"/>
                </a:solidFill>
                <a:latin typeface="Comic Sans MS"/>
              </a:rPr>
              <a:t>Образование сеч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77208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 Мысленно провести секущую плоскость в том месте детали, где необходимо определить форму внутреннего конту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4" descr="7"/>
          <p:cNvPicPr/>
          <p:nvPr/>
        </p:nvPicPr>
        <p:blipFill>
          <a:blip r:embed="rId1"/>
          <a:stretch/>
        </p:blipFill>
        <p:spPr>
          <a:xfrm>
            <a:off x="4932360" y="1557360"/>
            <a:ext cx="34495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69696"/>
                </a:solidFill>
                <a:latin typeface="Comic Sans MS"/>
              </a:rPr>
              <a:t>Образование сеч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.Мысленно удаляем одну из частей детал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4" descr="8"/>
          <p:cNvPicPr/>
          <p:nvPr/>
        </p:nvPicPr>
        <p:blipFill>
          <a:blip r:embed="rId1"/>
          <a:stretch/>
        </p:blipFill>
        <p:spPr>
          <a:xfrm>
            <a:off x="4716360" y="1828800"/>
            <a:ext cx="3503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6T15:00:58Z</dcterms:created>
  <dc:creator>User</dc:creator>
  <dc:description/>
  <dc:language>en-US</dc:language>
  <cp:lastModifiedBy>Admin</cp:lastModifiedBy>
  <dcterms:modified xsi:type="dcterms:W3CDTF">2012-11-28T15:59:33Z</dcterms:modified>
  <cp:revision>24</cp:revision>
  <dc:subject/>
  <dc:title>Сечение</dc:title>
</cp:coreProperties>
</file>