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wmf" ContentType="image/x-wmf"/>
  <Override PartName="/ppt/media/image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47DF-A921-40D0-8ABE-6D886C68F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9F5A-1865-4E3C-A1CE-5E8D95F34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D37A-95DC-47B6-822B-4D250CC50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84B8-DDC4-40CE-81A0-E32510FCD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C306F-2E5E-43F5-AEB9-D4845A74E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40D81-EE77-4320-930B-97DC8170C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16E07-099E-4D4A-9E31-7027C88DF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C410B-F589-47CB-8CE6-19A9D4B97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D0D83-20E9-4ACC-8F4C-30FF37BE2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E6859-E3C6-494D-AE21-BB5CDECD6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C46A2-97AD-4E80-9BA6-AE511E76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8D42-B76C-48A1-884E-B8DC782B7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CD10E-3482-4959-95DD-1B9CB6B4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3A7BE-957E-4E6A-8689-B766EBED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C4028-2C4C-411A-9492-5E8246D8A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31080-BEE0-422B-905A-C2DEAFBF0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D22C1-1F4C-4E07-A574-18012FD2B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684C-0445-43B3-A860-0AA972945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E88E-59B7-4D6E-83AA-7666A61BB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F78B-CCF1-40C7-B0C1-CE267A5AE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74A6-EE52-4BBA-B4CE-572C6E4C2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BDFB-30B7-45DD-BCE1-C84528E3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D89A-38BF-4D40-8733-0C1A7ECD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5C60-8EC2-4517-9599-3E731C1A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2746F-E277-47CA-BD27-D2347721835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B8F7B-CEA1-45AE-9FF3-664CC8B2A50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85520" y="1285560"/>
            <a:ext cx="7715160" cy="47149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3600" spc="-1" strike="noStrike">
                <a:solidFill>
                  <a:srgbClr val="7f0000"/>
                </a:solidFill>
                <a:latin typeface="Comic Sans MS"/>
              </a:rPr>
              <a:t>Общие понятия о сечениях. Правила выполнения наложенных и вынесенных сечений, их обозначение.</a:t>
            </a:r>
            <a:br>
              <a:rPr sz="9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5246280" y="4530600"/>
            <a:ext cx="2335320" cy="5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9</a:t>
            </a:r>
            <a:r>
              <a:rPr b="0" lang="ru-RU" sz="2800" spc="-1" strike="noStrike">
                <a:solidFill>
                  <a:srgbClr val="000066"/>
                </a:solidFill>
                <a:latin typeface="Comic Sans MS"/>
              </a:rPr>
              <a:t> клас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69696"/>
                </a:solidFill>
                <a:latin typeface="Comic Sans MS"/>
              </a:rPr>
              <a:t>Образование сеч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.Мысленно представляем фигуру сечен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4" descr="9"/>
          <p:cNvPicPr/>
          <p:nvPr/>
        </p:nvPicPr>
        <p:blipFill>
          <a:blip r:embed="rId1"/>
          <a:stretch/>
        </p:blipFill>
        <p:spPr>
          <a:xfrm>
            <a:off x="4500720" y="1828800"/>
            <a:ext cx="38163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69696"/>
                </a:solidFill>
                <a:latin typeface="Comic Sans MS"/>
              </a:rPr>
              <a:t>Образование сеч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0305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4.Представленную фигуру изображаем на чертеж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4" descr="10"/>
          <p:cNvPicPr/>
          <p:nvPr/>
        </p:nvPicPr>
        <p:blipFill>
          <a:blip r:embed="rId1"/>
          <a:stretch/>
        </p:blipFill>
        <p:spPr>
          <a:xfrm>
            <a:off x="5148360" y="1989000"/>
            <a:ext cx="302400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Запомни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Comic Sans MS"/>
              </a:rPr>
              <a:t>На сечениях показывают только то, что находится непосредственно в секущей плоскости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Comic Sans MS"/>
              </a:rPr>
              <a:t>Сечение – это не действие, а изображение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еч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377208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60093"/>
                </a:solidFill>
                <a:latin typeface="Comic Sans MS"/>
              </a:rPr>
              <a:t>Вынесенны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09800" y="1557360"/>
            <a:ext cx="37717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60093"/>
                </a:solidFill>
                <a:latin typeface="Comic Sans MS"/>
              </a:rPr>
              <a:t>Наложенны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Line 8"/>
          <p:cNvSpPr/>
          <p:nvPr/>
        </p:nvSpPr>
        <p:spPr>
          <a:xfrm flipH="1">
            <a:off x="2626920" y="981000"/>
            <a:ext cx="1368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Line 9"/>
          <p:cNvSpPr/>
          <p:nvPr/>
        </p:nvSpPr>
        <p:spPr>
          <a:xfrm>
            <a:off x="4211640" y="981000"/>
            <a:ext cx="1224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Picture 10" descr="12"/>
          <p:cNvPicPr/>
          <p:nvPr/>
        </p:nvPicPr>
        <p:blipFill>
          <a:blip r:embed="rId1"/>
          <a:stretch/>
        </p:blipFill>
        <p:spPr>
          <a:xfrm>
            <a:off x="900000" y="2060640"/>
            <a:ext cx="741708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Обозначение сечен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Picture 6" descr="11"/>
          <p:cNvPicPr/>
          <p:nvPr/>
        </p:nvPicPr>
        <p:blipFill>
          <a:blip r:embed="rId1"/>
          <a:stretch/>
        </p:blipFill>
        <p:spPr>
          <a:xfrm>
            <a:off x="900000" y="1413000"/>
            <a:ext cx="7201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Упражнение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0" name="Object 5"/>
          <p:cNvGraphicFramePr/>
          <p:nvPr/>
        </p:nvGraphicFramePr>
        <p:xfrm>
          <a:off x="685800" y="2760840"/>
          <a:ext cx="3772080" cy="179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760840"/>
                    <a:ext cx="3772080" cy="17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2" name="Picture 9" descr="13"/>
          <p:cNvPicPr/>
          <p:nvPr/>
        </p:nvPicPr>
        <p:blipFill>
          <a:blip r:embed="rId3"/>
          <a:stretch/>
        </p:blipFill>
        <p:spPr>
          <a:xfrm>
            <a:off x="250920" y="1052640"/>
            <a:ext cx="79214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Упражнение 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Picture 6" descr="14"/>
          <p:cNvPicPr/>
          <p:nvPr/>
        </p:nvPicPr>
        <p:blipFill>
          <a:blip r:embed="rId1"/>
          <a:stretch/>
        </p:blipFill>
        <p:spPr>
          <a:xfrm>
            <a:off x="468360" y="1125360"/>
            <a:ext cx="77040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Цел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зучить понятия о сечениях как изображениях, а также их назначение и применение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зучить алгоритм построения сечений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звивать пространственные представления, пространственное мышле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-1116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Picture 7" descr="1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539640" y="1989000"/>
            <a:ext cx="3918240" cy="3024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1" descr="2"/>
          <p:cNvPicPr/>
          <p:nvPr/>
        </p:nvPicPr>
        <p:blipFill>
          <a:blip r:embed="rId2"/>
          <a:stretch/>
        </p:blipFill>
        <p:spPr>
          <a:xfrm>
            <a:off x="4643280" y="1844640"/>
            <a:ext cx="410544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-15444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Picture 8" descr="3"/>
          <p:cNvPicPr/>
          <p:nvPr/>
        </p:nvPicPr>
        <p:blipFill>
          <a:blip r:embed="rId1"/>
          <a:stretch/>
        </p:blipFill>
        <p:spPr>
          <a:xfrm>
            <a:off x="709560" y="549360"/>
            <a:ext cx="764712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5"/>
          <p:cNvPicPr/>
          <p:nvPr/>
        </p:nvPicPr>
        <p:blipFill>
          <a:blip r:embed="rId1"/>
          <a:stretch/>
        </p:blipFill>
        <p:spPr>
          <a:xfrm>
            <a:off x="685800" y="1052640"/>
            <a:ext cx="3772080" cy="4006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6"/>
          <p:cNvPicPr/>
          <p:nvPr/>
        </p:nvPicPr>
        <p:blipFill>
          <a:blip r:embed="rId2"/>
          <a:stretch/>
        </p:blipFill>
        <p:spPr>
          <a:xfrm>
            <a:off x="5724360" y="1557360"/>
            <a:ext cx="2303640" cy="2663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10"/>
          <p:cNvPicPr/>
          <p:nvPr/>
        </p:nvPicPr>
        <p:blipFill>
          <a:blip r:embed="rId3"/>
          <a:stretch/>
        </p:blipFill>
        <p:spPr>
          <a:xfrm>
            <a:off x="4140360" y="4724280"/>
            <a:ext cx="160956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ff"/>
                </a:solidFill>
                <a:latin typeface="Comic Sans MS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Сечение</a:t>
            </a:r>
            <a:r>
              <a:rPr b="0" lang="ru-RU" sz="4000" spc="-1" strike="noStrike">
                <a:solidFill>
                  <a:srgbClr val="0099ff"/>
                </a:solidFill>
                <a:latin typeface="Comic Sans MS"/>
              </a:rPr>
              <a:t>- это изображение</a:t>
            </a:r>
            <a:r>
              <a:rPr b="0" lang="ru-RU" sz="4000" spc="-1" strike="noStrike" u="sng">
                <a:solidFill>
                  <a:srgbClr val="0099ff"/>
                </a:solidFill>
                <a:uFillTx/>
                <a:latin typeface="Comic Sans MS"/>
              </a:rPr>
              <a:t> </a:t>
            </a:r>
            <a:r>
              <a:rPr b="0" lang="ru-RU" sz="4000" spc="-1" strike="noStrike">
                <a:solidFill>
                  <a:srgbClr val="0099ff"/>
                </a:solidFill>
                <a:latin typeface="Comic Sans MS"/>
              </a:rPr>
              <a:t>фигуры, полученной при мысленном рассечении предмета секущей плоскостью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Comic Sans MS"/>
              </a:rPr>
              <a:t>Назначение сечен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d60093"/>
                </a:solidFill>
                <a:latin typeface="Comic Sans MS"/>
              </a:rPr>
              <a:t>Помогает получать более четкое представление о форме предмета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d6009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60093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d60093"/>
                </a:solidFill>
                <a:latin typeface="Comic Sans MS"/>
              </a:rPr>
              <a:t>Дает возможность выполнять меньшее количество изображений на чертеж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69696"/>
                </a:solidFill>
                <a:latin typeface="Comic Sans MS"/>
              </a:rPr>
              <a:t>Образование сеч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377208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. Мысленно провести секущую плоскость в том месте детали, где необходимо определить форму внутреннего контур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4" descr="7"/>
          <p:cNvPicPr/>
          <p:nvPr/>
        </p:nvPicPr>
        <p:blipFill>
          <a:blip r:embed="rId1"/>
          <a:stretch/>
        </p:blipFill>
        <p:spPr>
          <a:xfrm>
            <a:off x="4932360" y="1557360"/>
            <a:ext cx="34495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69696"/>
                </a:solidFill>
                <a:latin typeface="Comic Sans MS"/>
              </a:rPr>
              <a:t>Образование сеч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.Мысленно удаляем одну из частей детал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Picture 4" descr="8"/>
          <p:cNvPicPr/>
          <p:nvPr/>
        </p:nvPicPr>
        <p:blipFill>
          <a:blip r:embed="rId1"/>
          <a:stretch/>
        </p:blipFill>
        <p:spPr>
          <a:xfrm>
            <a:off x="4716360" y="1828800"/>
            <a:ext cx="35038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6T15:00:58Z</dcterms:created>
  <dc:creator>User</dc:creator>
  <dc:description/>
  <dc:language>en-US</dc:language>
  <cp:lastModifiedBy>Admin</cp:lastModifiedBy>
  <dcterms:modified xsi:type="dcterms:W3CDTF">2012-11-28T15:59:33Z</dcterms:modified>
  <cp:revision>24</cp:revision>
  <dc:subject/>
  <dc:title>Сечение</dc:title>
</cp:coreProperties>
</file>