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1325-23E9-476D-8DD6-0D829B6D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23C-47F2-4A3C-8BFD-9E0ECE02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52D-B712-4D3C-8B0C-EDA6751C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E50-0A83-4A48-AFBA-6D67B0EA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C89-432B-497B-A20E-C291487E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299-DB82-4384-80E0-7E9D35FB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8B4-7E14-47A8-8B74-A1BA27B1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644-B51A-4D73-BAA9-C6127267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976-AB81-4F7A-8C4B-23C40B71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17F-A604-490E-B863-FB622E87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D05-D590-4D5E-A5BD-029DAC6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F7B-639C-4647-BAB7-C2AE16E3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D63B-DDBB-45F5-9F08-515C2E9EA9F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с нравств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Вертикальный свиток 3"/>
          <p:cNvSpPr/>
          <p:nvPr/>
        </p:nvSpPr>
        <p:spPr>
          <a:xfrm>
            <a:off x="971640" y="1700280"/>
            <a:ext cx="7704000" cy="48243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050920" y="5084640"/>
            <a:ext cx="60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ЕХОВА Т.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а Тыва, город Кыз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5" descr=""/>
          <p:cNvPicPr/>
          <p:nvPr/>
        </p:nvPicPr>
        <p:blipFill>
          <a:blip r:embed="rId1"/>
          <a:stretch/>
        </p:blipFill>
        <p:spPr>
          <a:xfrm>
            <a:off x="2266920" y="2444760"/>
            <a:ext cx="55483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4652640"/>
            <a:ext cx="8496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00"/>
                </a:solidFill>
                <a:latin typeface="Arial"/>
              </a:rPr>
              <a:t>Думай хорошо, и мысли созреют в добрые поступк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5"/>
          <p:cNvSpPr/>
          <p:nvPr/>
        </p:nvSpPr>
        <p:spPr>
          <a:xfrm>
            <a:off x="6372360" y="5950080"/>
            <a:ext cx="22320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Лев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7" descr="http://irinazaytseva.ru/Pic/love_pisma8.jpg"/>
          <p:cNvPicPr/>
          <p:nvPr/>
        </p:nvPicPr>
        <p:blipFill>
          <a:blip r:embed="rId2"/>
          <a:stretch/>
        </p:blipFill>
        <p:spPr>
          <a:xfrm>
            <a:off x="1744560" y="198360"/>
            <a:ext cx="5923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То, что мы есть сегодня,— это следствие наших вчерашних мыслей, а сегодняшние мысли создают завтрашнюю жизнь». Буд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zgrad.net/images/umor/images/b26/791c9ca05a9bc7e0133925f8e7a5c49a.jpg"/>
          <p:cNvPicPr/>
          <p:nvPr/>
        </p:nvPicPr>
        <p:blipFill>
          <a:blip r:embed="rId1"/>
          <a:stretch/>
        </p:blipFill>
        <p:spPr>
          <a:xfrm>
            <a:off x="1116000" y="1778040"/>
            <a:ext cx="64087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404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гда то, чего мы очень долго ждём, наконец приходит, оно кажется неожиданностью», — сказал однажды М. Тв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jdang.files.wordpress.com/2007/05/realism2.jpg"/>
          <p:cNvPicPr/>
          <p:nvPr/>
        </p:nvPicPr>
        <p:blipFill>
          <a:blip r:embed="rId1"/>
          <a:stretch/>
        </p:blipFill>
        <p:spPr>
          <a:xfrm>
            <a:off x="1547640" y="1757520"/>
            <a:ext cx="583272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ез Паскаль: «Чем человек умнее и добрей, тем больше он замечает добра в людях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content.answcdn.com/main/content/img/webpics/Blaise_Pascal.jpg"/>
          <p:cNvPicPr/>
          <p:nvPr/>
        </p:nvPicPr>
        <p:blipFill>
          <a:blip r:embed="rId1"/>
          <a:stretch/>
        </p:blipFill>
        <p:spPr>
          <a:xfrm>
            <a:off x="2124000" y="1773360"/>
            <a:ext cx="417672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997560" y="620640"/>
            <a:ext cx="566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овицы о доброт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3"/>
          <p:cNvSpPr/>
          <p:nvPr/>
        </p:nvSpPr>
        <p:spPr>
          <a:xfrm>
            <a:off x="0" y="1125360"/>
            <a:ext cx="9144000" cy="6048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Учись доброму - плохое на ум не пойдёт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Про доброе дело говори смело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Жизнь дана на добрые дела. </a:t>
            </a:r>
            <a:br>
              <a:rPr sz="4000"/>
            </a:br>
            <a:r>
              <a:rPr b="0" lang="ru-RU" sz="4000" spc="-1" strike="noStrike">
                <a:solidFill>
                  <a:srgbClr val="0d0d0d"/>
                </a:solidFill>
                <a:latin typeface="Arial"/>
              </a:rPr>
              <a:t>- Худо жить без ласкового слов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Татьяна</cp:lastModifiedBy>
  <dcterms:modified xsi:type="dcterms:W3CDTF">2015-01-30T13:14:58Z</dcterms:modified>
  <cp:revision>693</cp:revision>
  <dc:subject/>
  <dc:title>Diapositiva 1</dc:title>
</cp:coreProperties>
</file>