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0D13-7CE3-4B35-8C24-0CC21614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6D9D-6B51-4DFA-9DF1-5C2B0106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7F15-EEA2-4B57-A768-9C4648205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763B-8B78-43B9-841D-7FC82B2B1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341A-CF82-4438-B206-760F9470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FE8E-C9F1-4F8B-B327-C0A36FB5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4E42-598D-4B44-B778-629BBA5D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2AB4-5645-4B19-9608-DF39DDB9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44CE-E3DB-4019-B7C0-9D4BB79C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0A02-E470-4B6B-AB41-86C0E5FC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2017-D8A8-478F-95E5-6EA7B239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1A0D-E045-491B-A604-0C32BC99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60E8-916C-4AB9-B023-3DDD105D57C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ас нравств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Вертикальный свиток 3"/>
          <p:cNvSpPr/>
          <p:nvPr/>
        </p:nvSpPr>
        <p:spPr>
          <a:xfrm>
            <a:off x="971640" y="1700280"/>
            <a:ext cx="7704000" cy="48243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050920" y="5084640"/>
            <a:ext cx="60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РЕХОВА Т.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спублика Тыва, город Кызы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Прямоугольник 5" descr=""/>
          <p:cNvPicPr/>
          <p:nvPr/>
        </p:nvPicPr>
        <p:blipFill>
          <a:blip r:embed="rId1"/>
          <a:stretch/>
        </p:blipFill>
        <p:spPr>
          <a:xfrm>
            <a:off x="2266920" y="2444760"/>
            <a:ext cx="55483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8920" y="4652640"/>
            <a:ext cx="84963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00"/>
                </a:solidFill>
                <a:latin typeface="Arial"/>
              </a:rPr>
              <a:t>Думай хорошо, и мысли созреют в добрые поступк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5"/>
          <p:cNvSpPr/>
          <p:nvPr/>
        </p:nvSpPr>
        <p:spPr>
          <a:xfrm>
            <a:off x="6372360" y="5950080"/>
            <a:ext cx="223200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Лев 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7" descr="http://irinazaytseva.ru/Pic/love_pisma8.jpg"/>
          <p:cNvPicPr/>
          <p:nvPr/>
        </p:nvPicPr>
        <p:blipFill>
          <a:blip r:embed="rId2"/>
          <a:stretch/>
        </p:blipFill>
        <p:spPr>
          <a:xfrm>
            <a:off x="1744560" y="198360"/>
            <a:ext cx="59230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То, что мы есть сегодня,— это следствие наших вчерашних мыслей, а сегодняшние мысли создают завтрашнюю жизнь». Будд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www.zgrad.net/images/umor/images/b26/791c9ca05a9bc7e0133925f8e7a5c49a.jpg"/>
          <p:cNvPicPr/>
          <p:nvPr/>
        </p:nvPicPr>
        <p:blipFill>
          <a:blip r:embed="rId1"/>
          <a:stretch/>
        </p:blipFill>
        <p:spPr>
          <a:xfrm>
            <a:off x="1116000" y="1778040"/>
            <a:ext cx="640872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0" y="4046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огда то, чего мы очень долго ждём, наконец приходит, оно кажется неожиданностью», — сказал однажды М. Тв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jdang.files.wordpress.com/2007/05/realism2.jpg"/>
          <p:cNvPicPr/>
          <p:nvPr/>
        </p:nvPicPr>
        <p:blipFill>
          <a:blip r:embed="rId1"/>
          <a:stretch/>
        </p:blipFill>
        <p:spPr>
          <a:xfrm>
            <a:off x="1547640" y="1757520"/>
            <a:ext cx="5832720" cy="51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0" y="333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ез Паскаль: «Чем человек умнее и добрей, тем больше он замечает добра в людях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content.answcdn.com/main/content/img/webpics/Blaise_Pascal.jpg"/>
          <p:cNvPicPr/>
          <p:nvPr/>
        </p:nvPicPr>
        <p:blipFill>
          <a:blip r:embed="rId1"/>
          <a:stretch/>
        </p:blipFill>
        <p:spPr>
          <a:xfrm>
            <a:off x="2124000" y="1773360"/>
            <a:ext cx="417672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"/>
          <p:cNvSpPr/>
          <p:nvPr/>
        </p:nvSpPr>
        <p:spPr>
          <a:xfrm>
            <a:off x="997560" y="620640"/>
            <a:ext cx="566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ловицы о доброте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Горизонтальный свиток 3"/>
          <p:cNvSpPr/>
          <p:nvPr/>
        </p:nvSpPr>
        <p:spPr>
          <a:xfrm>
            <a:off x="0" y="1125360"/>
            <a:ext cx="9144000" cy="6048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4000" spc="-1" strike="noStrike">
                <a:solidFill>
                  <a:srgbClr val="0d0d0d"/>
                </a:solidFill>
                <a:latin typeface="Arial"/>
              </a:rPr>
              <a:t>- Учись доброму - плохое на ум не пойдёт. </a:t>
            </a:r>
            <a:br>
              <a:rPr sz="4000"/>
            </a:br>
            <a:r>
              <a:rPr b="0" lang="ru-RU" sz="4000" spc="-1" strike="noStrike">
                <a:solidFill>
                  <a:srgbClr val="0d0d0d"/>
                </a:solidFill>
                <a:latin typeface="Arial"/>
              </a:rPr>
              <a:t>- Про доброе дело говори смело. </a:t>
            </a:r>
            <a:br>
              <a:rPr sz="4000"/>
            </a:br>
            <a:r>
              <a:rPr b="0" lang="ru-RU" sz="4000" spc="-1" strike="noStrike">
                <a:solidFill>
                  <a:srgbClr val="0d0d0d"/>
                </a:solidFill>
                <a:latin typeface="Arial"/>
              </a:rPr>
              <a:t>- Жизнь дана на добрые дела. </a:t>
            </a:r>
            <a:br>
              <a:rPr sz="4000"/>
            </a:br>
            <a:r>
              <a:rPr b="0" lang="ru-RU" sz="4000" spc="-1" strike="noStrike">
                <a:solidFill>
                  <a:srgbClr val="0d0d0d"/>
                </a:solidFill>
                <a:latin typeface="Arial"/>
              </a:rPr>
              <a:t>- Худо жить без ласкового слов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Татьяна</cp:lastModifiedBy>
  <dcterms:modified xsi:type="dcterms:W3CDTF">2015-01-30T13:14:58Z</dcterms:modified>
  <cp:revision>693</cp:revision>
  <dc:subject/>
  <dc:title>Diapositiva 1</dc:title>
</cp:coreProperties>
</file>