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CC39-862B-421B-AB8D-C773A0107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6CD4-250D-4966-83C0-BEBDCF3FC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9D2D-1DB6-4B5C-8803-449615C82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C3FC-1FDC-4C63-8A04-5F1F2C643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5B8C-9F54-41AE-B282-DFC966A46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258D-8EAE-49A2-9081-7ED341252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DCAE-EE79-416B-8742-E3F454ADB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37E2-BE8C-4097-8D07-534030FCB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4253-87C6-49B1-8345-E388A2B95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4485-1FF6-41ED-8005-FC5364F8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4032-E12A-4AA2-853B-875B4B88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D98A-FA80-429B-8727-E7C65A6B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9F670-19EA-47D2-80DF-0D833EB124A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ас нравств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Вертикальный свиток 3"/>
          <p:cNvSpPr/>
          <p:nvPr/>
        </p:nvSpPr>
        <p:spPr>
          <a:xfrm>
            <a:off x="971640" y="1700280"/>
            <a:ext cx="7704000" cy="48243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2050920" y="5084640"/>
            <a:ext cx="605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РЕХОВА Т.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спублика Тыва, город Кызы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Прямоугольник 5" descr=""/>
          <p:cNvPicPr/>
          <p:nvPr/>
        </p:nvPicPr>
        <p:blipFill>
          <a:blip r:embed="rId1"/>
          <a:stretch/>
        </p:blipFill>
        <p:spPr>
          <a:xfrm>
            <a:off x="2266920" y="2444760"/>
            <a:ext cx="554832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8920" y="4652640"/>
            <a:ext cx="849636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00"/>
                </a:solidFill>
                <a:latin typeface="Arial"/>
              </a:rPr>
              <a:t>Думай хорошо, и мысли созреют в добрые поступки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5"/>
          <p:cNvSpPr/>
          <p:nvPr/>
        </p:nvSpPr>
        <p:spPr>
          <a:xfrm>
            <a:off x="6372360" y="5950080"/>
            <a:ext cx="223200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Лев толс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27" descr="http://irinazaytseva.ru/Pic/love_pisma8.jpg"/>
          <p:cNvPicPr/>
          <p:nvPr/>
        </p:nvPicPr>
        <p:blipFill>
          <a:blip r:embed="rId2"/>
          <a:stretch/>
        </p:blipFill>
        <p:spPr>
          <a:xfrm>
            <a:off x="1744560" y="198360"/>
            <a:ext cx="592308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То, что мы есть сегодня,— это следствие наших вчерашних мыслей, а сегодняшние мысли создают завтрашнюю жизнь». Будд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http://www.zgrad.net/images/umor/images/b26/791c9ca05a9bc7e0133925f8e7a5c49a.jpg"/>
          <p:cNvPicPr/>
          <p:nvPr/>
        </p:nvPicPr>
        <p:blipFill>
          <a:blip r:embed="rId1"/>
          <a:stretch/>
        </p:blipFill>
        <p:spPr>
          <a:xfrm>
            <a:off x="1116000" y="1778040"/>
            <a:ext cx="6408720" cy="48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0" y="40464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Когда то, чего мы очень долго ждём, наконец приходит, оно кажется неожиданностью», — сказал однажды М. Тв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http://jdang.files.wordpress.com/2007/05/realism2.jpg"/>
          <p:cNvPicPr/>
          <p:nvPr/>
        </p:nvPicPr>
        <p:blipFill>
          <a:blip r:embed="rId1"/>
          <a:stretch/>
        </p:blipFill>
        <p:spPr>
          <a:xfrm>
            <a:off x="1547640" y="1757520"/>
            <a:ext cx="5832720" cy="51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0" y="3333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лез Паскаль: «Чем человек умнее и добрей, тем больше он замечает добра в людях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http://content.answcdn.com/main/content/img/webpics/Blaise_Pascal.jpg"/>
          <p:cNvPicPr/>
          <p:nvPr/>
        </p:nvPicPr>
        <p:blipFill>
          <a:blip r:embed="rId1"/>
          <a:stretch/>
        </p:blipFill>
        <p:spPr>
          <a:xfrm>
            <a:off x="2124000" y="1773360"/>
            <a:ext cx="4176720" cy="48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"/>
          <p:cNvSpPr/>
          <p:nvPr/>
        </p:nvSpPr>
        <p:spPr>
          <a:xfrm>
            <a:off x="997560" y="620640"/>
            <a:ext cx="566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словицы о доброте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Горизонтальный свиток 3"/>
          <p:cNvSpPr/>
          <p:nvPr/>
        </p:nvSpPr>
        <p:spPr>
          <a:xfrm>
            <a:off x="0" y="1125360"/>
            <a:ext cx="9144000" cy="60487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4000" spc="-1" strike="noStrike">
                <a:solidFill>
                  <a:srgbClr val="0d0d0d"/>
                </a:solidFill>
                <a:latin typeface="Arial"/>
              </a:rPr>
              <a:t>- Учись доброму - плохое на ум не пойдёт. </a:t>
            </a:r>
            <a:br>
              <a:rPr sz="4000"/>
            </a:br>
            <a:r>
              <a:rPr b="0" lang="ru-RU" sz="4000" spc="-1" strike="noStrike">
                <a:solidFill>
                  <a:srgbClr val="0d0d0d"/>
                </a:solidFill>
                <a:latin typeface="Arial"/>
              </a:rPr>
              <a:t>- Про доброе дело говори смело. </a:t>
            </a:r>
            <a:br>
              <a:rPr sz="4000"/>
            </a:br>
            <a:r>
              <a:rPr b="0" lang="ru-RU" sz="4000" spc="-1" strike="noStrike">
                <a:solidFill>
                  <a:srgbClr val="0d0d0d"/>
                </a:solidFill>
                <a:latin typeface="Arial"/>
              </a:rPr>
              <a:t>- Жизнь дана на добрые дела. </a:t>
            </a:r>
            <a:br>
              <a:rPr sz="4000"/>
            </a:br>
            <a:r>
              <a:rPr b="0" lang="ru-RU" sz="4000" spc="-1" strike="noStrike">
                <a:solidFill>
                  <a:srgbClr val="0d0d0d"/>
                </a:solidFill>
                <a:latin typeface="Arial"/>
              </a:rPr>
              <a:t>- Худо жить без ласкового слов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Татьяна</cp:lastModifiedBy>
  <dcterms:modified xsi:type="dcterms:W3CDTF">2015-01-30T13:14:58Z</dcterms:modified>
  <cp:revision>693</cp:revision>
  <dc:subject/>
  <dc:title>Diapositiva 1</dc:title>
</cp:coreProperties>
</file>