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33.jpeg" ContentType="image/jpeg"/>
  <Override PartName="/ppt/media/image23.jpeg" ContentType="image/jpeg"/>
  <Override PartName="/ppt/media/image4.jpeg" ContentType="image/jpeg"/>
  <Override PartName="/ppt/media/image31.jpeg" ContentType="image/jpeg"/>
  <Override PartName="/ppt/media/image2.png" ContentType="image/png"/>
  <Override PartName="/ppt/media/image25.jpeg" ContentType="image/jpeg"/>
  <Override PartName="/ppt/media/image5.jpeg" ContentType="image/jpeg"/>
  <Override PartName="/ppt/media/image8.jpeg" ContentType="image/jpeg"/>
  <Override PartName="/ppt/media/image30.png" ContentType="image/png"/>
  <Override PartName="/ppt/media/image13.png" ContentType="image/png"/>
  <Override PartName="/ppt/media/image12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1.png" ContentType="image/png"/>
  <Override PartName="/ppt/media/image9.png" ContentType="image/png"/>
  <Override PartName="/ppt/media/image3.png" ContentType="image/png"/>
  <Override PartName="/ppt/media/image26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32.jpeg" ContentType="image/jpeg"/>
  <Override PartName="/ppt/media/image17.png" ContentType="image/png"/>
  <Override PartName="/ppt/media/image21.png" ContentType="image/png"/>
  <Override PartName="/ppt/media/image19.png" ContentType="image/png"/>
  <Override PartName="/ppt/media/image20.jpeg" ContentType="image/jpeg"/>
  <Override PartName="/ppt/media/image24.jpeg" ContentType="image/jpeg"/>
  <Override PartName="/ppt/media/image2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25BE0-F2DB-493F-9790-F0BD4C3C0F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4D8DE0-5E2D-4551-B0F6-AE989995D4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958D47-F267-4C3C-9569-B5C0178F22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05F6A6-F118-47BF-A730-48B33234A94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850C5-D532-4F5B-A8D4-11516EF25D4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94525E-3D6F-45E2-8E7A-07838EA66EE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0FAA77-CFEE-4F95-B44E-B31481F8AE8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FDC483-AD4A-480A-AF46-2E6C4DF80BA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EFBCD9-3EF2-4AA2-93AD-EBB38F20A51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9934D9-EAF8-462D-B1DD-2AC7B3EA19B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8FBE5C-091C-4DE5-A743-E8C21BFEC50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716D1A-12B8-443D-A0F7-E273014B85A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4A28A72-7333-4D49-AD76-10AAC299FB80}" type="slidenum">
              <a:rPr b="0" lang="ru-RU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image" Target="../media/image33.jpe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carving-wood.ru/i/lojkah/3.jpg" TargetMode="External"/><Relationship Id="rId3" Type="http://schemas.openxmlformats.org/officeDocument/2006/relationships/hyperlink" Target="http://carving-wood.ru/i/lojkah/1.jpg" TargetMode="External"/><Relationship Id="rId4" Type="http://schemas.openxmlformats.org/officeDocument/2006/relationships/hyperlink" Target="http://carving-wood.ru/i/lojka/23.jpg" TargetMode="External"/><Relationship Id="rId5" Type="http://schemas.openxmlformats.org/officeDocument/2006/relationships/hyperlink" Target="http://dreamreflex.ru/wp-content/uploads/2010/12/logka.jpg" TargetMode="External"/><Relationship Id="rId6" Type="http://schemas.openxmlformats.org/officeDocument/2006/relationships/hyperlink" Target="http://www.ampho.ru/images/items/1775.jpg" TargetMode="External"/><Relationship Id="rId7" Type="http://schemas.openxmlformats.org/officeDocument/2006/relationships/hyperlink" Target="http://images04.olx.ru/ui/1/21/86/12041586_2.jpg" TargetMode="External"/><Relationship Id="rId8" Type="http://schemas.openxmlformats.org/officeDocument/2006/relationships/hyperlink" Target="http://natazhko.com/page/2/" TargetMode="External"/><Relationship Id="rId9" Type="http://schemas.openxmlformats.org/officeDocument/2006/relationships/hyperlink" Target="http://www.vix.ru/44617-1/antique_wooden_1728.png" TargetMode="External"/><Relationship Id="rId10" Type="http://schemas.openxmlformats.org/officeDocument/2006/relationships/hyperlink" Target="http://all.shop.onona.su/users/Major-show/" TargetMode="External"/><Relationship Id="rId11" Type="http://schemas.openxmlformats.org/officeDocument/2006/relationships/hyperlink" Target="http://pics.photographer.ru/pictures/19193.jpg" TargetMode="External"/><Relationship Id="rId12" Type="http://schemas.openxmlformats.org/officeDocument/2006/relationships/hyperlink" Target="http://www.rus-biography.ru/downloadsImage/image-beN343-russia-biography.jpg" TargetMode="External"/><Relationship Id="rId13" Type="http://schemas.openxmlformats.org/officeDocument/2006/relationships/hyperlink" Target="http://www.by-hand.ru/all_image/recipe_pictures/27/27127/rp27127_large.jpg" TargetMode="External"/><Relationship Id="rId14" Type="http://schemas.openxmlformats.org/officeDocument/2006/relationships/hyperlink" Target="http://hrorek.users.photofile.ru/photo/hrorek/308682/xlarge/57578409.jpg" TargetMode="External"/><Relationship Id="rId15" Type="http://schemas.openxmlformats.org/officeDocument/2006/relationships/hyperlink" Target="http://img-fotki.yandex.ru/get/6003/nin-bratkina.1c/0_69a94_a8afcb87_XL" TargetMode="External"/><Relationship Id="rId16" Type="http://schemas.openxmlformats.org/officeDocument/2006/relationships/hyperlink" Target="http://www.russouvenir.ru/IMG_0739.jpg" TargetMode="External"/><Relationship Id="rId17" Type="http://schemas.openxmlformats.org/officeDocument/2006/relationships/hyperlink" Target="http://www.posezonam.ru/img/big/299_big.jpg" TargetMode="External"/><Relationship Id="rId18" Type="http://schemas.openxmlformats.org/officeDocument/2006/relationships/hyperlink" Target="http://www.giftspark.ru/shop/images/294_big.jpg" TargetMode="External"/><Relationship Id="rId19" Type="http://schemas.openxmlformats.org/officeDocument/2006/relationships/hyperlink" Target="http://www.rezbaderevo.ru/foto_big.php?izd_id=427" TargetMode="External"/><Relationship Id="rId20" Type="http://schemas.openxmlformats.org/officeDocument/2006/relationships/hyperlink" Target="http://anufriev.moy.su/forum/35-113-1" TargetMode="External"/><Relationship Id="rId21" Type="http://schemas.openxmlformats.org/officeDocument/2006/relationships/hyperlink" Target="http://www.doskaurala.ru/index.php?id=10403857595" TargetMode="External"/><Relationship Id="rId22" Type="http://schemas.openxmlformats.org/officeDocument/2006/relationships/hyperlink" Target="http://labelme.csail.mit.edu/Images/sandbox/mt_static_submitted_Ehsan_Jahangiri_wood_spoon_feb_2011/3336.jpg" TargetMode="External"/><Relationship Id="rId23" Type="http://schemas.openxmlformats.org/officeDocument/2006/relationships/hyperlink" Target="http://img-fotki.yandex.ru/get/4011/shorann.30/0_4c60a_e37ded33_L" TargetMode="External"/><Relationship Id="rId24" Type="http://schemas.openxmlformats.org/officeDocument/2006/relationships/hyperlink" Target="http://www.mamochki22.ru/forum/uploads/1270908484/med_gallery_2906_26_100417.jpg" TargetMode="External"/><Relationship Id="rId25" Type="http://schemas.openxmlformats.org/officeDocument/2006/relationships/hyperlink" Target="http://www.posusecam.ru/uploads/products/images/232.jpg" TargetMode="External"/><Relationship Id="rId26" Type="http://schemas.openxmlformats.org/officeDocument/2006/relationships/hyperlink" Target="http://homeflowers.ru/yabbse/uploads/post-2307-1229946983.jpg" TargetMode="External"/><Relationship Id="rId27" Type="http://schemas.openxmlformats.org/officeDocument/2006/relationships/hyperlink" Target="http://www.nkj.ru/upload/iblock/b41/b41f18e30bdf41da36bedbc1ae65f3b2.JPG" TargetMode="External"/><Relationship Id="rId28" Type="http://schemas.openxmlformats.org/officeDocument/2006/relationships/hyperlink" Target="http://www.kulturologia.ru/files/u1866/18668727.jpg" TargetMode="External"/><Relationship Id="rId29" Type="http://schemas.openxmlformats.org/officeDocument/2006/relationships/hyperlink" Target="http://www.northbayforge.com/sergey/sergey2.jpg" TargetMode="External"/><Relationship Id="rId30" Type="http://schemas.openxmlformats.org/officeDocument/2006/relationships/hyperlink" Target="http://www.rezbaderevo.ru/images/w_100976_1.jpg" TargetMode="External"/><Relationship Id="rId31" Type="http://schemas.openxmlformats.org/officeDocument/2006/relationships/hyperlink" Target="http://vk-uzor.ru/photos/dir_0/photo_932_m.jpg" TargetMode="External"/><Relationship Id="rId32" Type="http://schemas.openxmlformats.org/officeDocument/2006/relationships/hyperlink" Target="http://www.dvernoi-master.ru/images/narodnoe5.png" TargetMode="External"/><Relationship Id="rId3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250920" y="2276640"/>
            <a:ext cx="3846240" cy="30654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68360" y="476280"/>
            <a:ext cx="9175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 уже в древности считалась символом сытости, благосостояния и довольства.. Её вырезали из берёзы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едра, липы, клёна и других деревьев- «доноров»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012000" y="1844640"/>
            <a:ext cx="2722320" cy="410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411280" y="187200"/>
            <a:ext cx="5185080" cy="518508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3131640" y="5305320"/>
            <a:ext cx="4193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разные бываю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 на них порой играю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бивают ритм такой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зу в пляс пойдёт люб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457200" y="-419040"/>
            <a:ext cx="822960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астушья барабанкаПростейший ударный инструмент, ранее применявшийся пастухами как сигнальны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1476360" y="1216080"/>
            <a:ext cx="6912000" cy="53244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189080" y="32544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68000" y="258840"/>
            <a:ext cx="8433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астушья барабанка – простейший ударный инструмен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нее применявшийся пастухами как сигналь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74240" cy="691524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5181480" cy="604188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4859280" y="404640"/>
            <a:ext cx="3889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ложки просто сделать куклу или разнообразных персонажей для кукольного теат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3"/>
          <a:stretch/>
        </p:blipFill>
        <p:spPr>
          <a:xfrm>
            <a:off x="5715000" y="1989000"/>
            <a:ext cx="3429000" cy="4572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0" y="-33480"/>
            <a:ext cx="9144000" cy="68914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250920" y="333360"/>
            <a:ext cx="943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"Ложкарной столицей" России  называют в народе город Семёнов, что находится в глубине керженских лесов Нижегородского кра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4859280" y="1197000"/>
            <a:ext cx="3983040" cy="53290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3"/>
          <a:stretch/>
        </p:blipFill>
        <p:spPr>
          <a:xfrm>
            <a:off x="179280" y="1700280"/>
            <a:ext cx="4267440" cy="4825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rcRect l="0" t="0" r="0" b="607"/>
          <a:stretch/>
        </p:blipFill>
        <p:spPr>
          <a:xfrm>
            <a:off x="2052720" y="-244440"/>
            <a:ext cx="6769080" cy="4653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2629080" y="1271520"/>
            <a:ext cx="5722920" cy="440208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2268360" y="3284640"/>
            <a:ext cx="5962680" cy="4419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5"/>
          <a:stretch/>
        </p:blipFill>
        <p:spPr>
          <a:xfrm>
            <a:off x="-396720" y="0"/>
            <a:ext cx="25398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6"/>
          <a:stretch/>
        </p:blipFill>
        <p:spPr>
          <a:xfrm>
            <a:off x="1763640" y="2085840"/>
            <a:ext cx="6373800" cy="477072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1405080" y="476280"/>
            <a:ext cx="706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евянные ложки, разнообразные по форме –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радиционный русский сувенир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0" y="1341360"/>
            <a:ext cx="5035680" cy="51847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3"/>
          <a:stretch/>
        </p:blipFill>
        <p:spPr>
          <a:xfrm>
            <a:off x="5003640" y="260280"/>
            <a:ext cx="4140360" cy="6264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4"/>
          <a:stretch/>
        </p:blipFill>
        <p:spPr>
          <a:xfrm>
            <a:off x="0" y="260280"/>
            <a:ext cx="9144000" cy="6337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00" fill="hold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324000" y="0"/>
            <a:ext cx="8496000" cy="80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"/>
              </a:rPr>
              <a:t>http://carving-wood.ru/i/lojkah/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http://carving-wood.ru/i/lojkah/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4"/>
              </a:rPr>
              <a:t>http://carving-wood.ru/i/lojka/2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5"/>
              </a:rPr>
              <a:t>http://dreamreflex.ru/wp-content/uploads/2010/12/logka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6"/>
              </a:rPr>
              <a:t>http://www.ampho.ru/images/items/1775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7"/>
              </a:rPr>
              <a:t>http://images04.olx.ru/ui/1/21/86/12041586_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8"/>
              </a:rPr>
              <a:t>http://natazhko.com/page/2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9"/>
              </a:rPr>
              <a:t>http://www.vix.ru/44617-1/antique_wooden_1728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0"/>
              </a:rPr>
              <a:t>http://all.shop.onona.su/users/Major-show/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1"/>
              </a:rPr>
              <a:t>http://pics.photographer.ru/pictures/1919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2"/>
              </a:rPr>
              <a:t>http://www.rus-biography.ru/downloadsImage/image-beN343-russia-biography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3"/>
              </a:rPr>
              <a:t>http://www.by-hand.ru/all_image/recipe_pictures/27/27127/rp27127_large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4"/>
              </a:rPr>
              <a:t>http://hrorek.users.photofile.ru/photo/hrorek/308682/xlarge/5757840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5"/>
              </a:rPr>
              <a:t>http://img-fotki.yandex.ru/get/6003/nin-bratkina.1c/0_69a94_a8afcb87_X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6"/>
              </a:rPr>
              <a:t>http://www.russouvenir.ru/IMG_0739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7"/>
              </a:rPr>
              <a:t>http://www.posezonam.ru/img/big/299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8"/>
              </a:rPr>
              <a:t>http://www.giftspark.ru/shop/images/294_big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19"/>
              </a:rPr>
              <a:t>http://www.rezbaderevo.ru/foto_big.php?izd_id=42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0"/>
              </a:rPr>
              <a:t>http://anufriev.moy.su/forum/35-113-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1"/>
              </a:rPr>
              <a:t>http://www.doskaurala.ru/index.php?id=104038575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2"/>
              </a:rPr>
              <a:t>http://labelme.csail.mit.edu/Images/sandbox/mt_static_submitted_Ehsan_Jahangiri_wood_spoon_feb_2011/3336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3"/>
              </a:rPr>
              <a:t>http://img-fotki.yandex.ru/get/4011/shorann.30/0_4c60a_e37ded33_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4"/>
              </a:rPr>
              <a:t>http://www.mamochki22.ru/forum/uploads/1270908484/med_gallery_2906_26_10041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5"/>
              </a:rPr>
              <a:t>http://www.posusecam.ru/uploads/products/images/23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6"/>
              </a:rPr>
              <a:t>http://homeflowers.ru/yabbse/uploads/post-2307-1229946983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7"/>
              </a:rPr>
              <a:t>http://www.nkj.ru/upload/iblock/b41/b41f18e30bdf41da36bedbc1ae65f3b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8"/>
              </a:rPr>
              <a:t>http://www.kulturologia.ru/files/u1866/18668727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29"/>
              </a:rPr>
              <a:t>http://www.northbayforge.com/sergey/sergey2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0"/>
              </a:rPr>
              <a:t>http://www.rezbaderevo.ru/images/w_100976_1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1"/>
              </a:rPr>
              <a:t>http://vk-uzor.ru/photos/dir_0/photo_932_m.jp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400" spc="-1" strike="noStrike" u="sng">
                <a:solidFill>
                  <a:srgbClr val="ccccff"/>
                </a:solidFill>
                <a:uFillTx/>
                <a:latin typeface="Arial"/>
                <a:hlinkClick r:id="rId32"/>
              </a:rPr>
              <a:t>http://www.dvernoi-master.ru/images/narodnoe5.p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1187280" y="333360"/>
            <a:ext cx="6697800" cy="6372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0" y="333360"/>
            <a:ext cx="3792600" cy="5688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3"/>
          <a:stretch/>
        </p:blipFill>
        <p:spPr>
          <a:xfrm>
            <a:off x="4572000" y="333360"/>
            <a:ext cx="4305240" cy="56894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395280" y="6093000"/>
            <a:ext cx="85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арный промысел был распространён по всей Росс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1116000" y="260280"/>
            <a:ext cx="7416720" cy="4746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0" y="317520"/>
            <a:ext cx="9144000" cy="6540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 fill="hold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-50760"/>
            <a:ext cx="9166320" cy="690876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2"/>
          <a:stretch/>
        </p:blipFill>
        <p:spPr>
          <a:xfrm>
            <a:off x="1042920" y="1413000"/>
            <a:ext cx="7667640" cy="481788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248040" y="474480"/>
            <a:ext cx="7085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7 мая - Пелаге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Пелагею, рубили дерево на выделку ложек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 апреля – Международный день лож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81160" y="-228600"/>
            <a:ext cx="9706320" cy="731520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5672160" y="593640"/>
            <a:ext cx="3471840" cy="626436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84400" y="189000"/>
            <a:ext cx="676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любили украшать резьбой и росписью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3"/>
          <a:stretch/>
        </p:blipFill>
        <p:spPr>
          <a:xfrm>
            <a:off x="0" y="620640"/>
            <a:ext cx="4437000" cy="5905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-252360" y="-243000"/>
            <a:ext cx="9705960" cy="731520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826920" y="1052640"/>
            <a:ext cx="7452000" cy="561636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26028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ожки  часто носили при себе в особых футляр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либо просто за поясом или голенищем сапог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-228600"/>
            <a:ext cx="9144000" cy="7086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rcRect l="9665" t="0" r="10122" b="0"/>
          <a:stretch/>
        </p:blipFill>
        <p:spPr>
          <a:xfrm>
            <a:off x="5506920" y="766800"/>
            <a:ext cx="3878280" cy="566100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3"/>
          <a:srcRect l="13708" t="31768" r="7657" b="24499"/>
          <a:stretch/>
        </p:blipFill>
        <p:spPr>
          <a:xfrm>
            <a:off x="6373800" y="1628640"/>
            <a:ext cx="1728720" cy="468180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4"/>
          <a:stretch/>
        </p:blipFill>
        <p:spPr>
          <a:xfrm>
            <a:off x="0" y="836640"/>
            <a:ext cx="5724360" cy="568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406520" y="333360"/>
            <a:ext cx="70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окрашенные ложки используются ежеднев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-457200"/>
            <a:ext cx="9144000" cy="7315200"/>
          </a:xfrm>
          <a:prstGeom prst="rect">
            <a:avLst/>
          </a:prstGeom>
          <a:ln w="0">
            <a:noFill/>
          </a:ln>
        </p:spPr>
      </p:pic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4932360" y="1846440"/>
            <a:ext cx="3809880" cy="177156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rcRect l="12888" t="14859" r="17787" b="5846"/>
          <a:stretch/>
        </p:blipFill>
        <p:spPr>
          <a:xfrm>
            <a:off x="1333440" y="979560"/>
            <a:ext cx="3227400" cy="352728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4968720" y="3714840"/>
            <a:ext cx="4176720" cy="24652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93840" y="4006800"/>
            <a:ext cx="4681440" cy="16970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24000" y="187200"/>
            <a:ext cx="8820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писные ложки – праздничные, носят подарочный характер. Они  расписаны сказочными цветами и травами. Блеск золота и киновари на них воспринимаются как драгоценность, ассоциировался с царственной роскошь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31T13:29:15Z</dcterms:created>
  <dc:creator>1</dc:creator>
  <dc:description/>
  <dc:language>en-US</dc:language>
  <cp:lastModifiedBy>PC</cp:lastModifiedBy>
  <dcterms:modified xsi:type="dcterms:W3CDTF">2013-05-30T14:13:50Z</dcterms:modified>
  <cp:revision>26</cp:revision>
  <dc:subject/>
  <dc:title>Слайд 1</dc:title>
</cp:coreProperties>
</file>