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0.wmf" ContentType="image/x-wmf"/>
  <Override PartName="/ppt/media/image33.jpeg" ContentType="image/jpeg"/>
  <Override PartName="/ppt/media/image24.wmf" ContentType="image/x-wmf"/>
  <Override PartName="/ppt/media/image25.wmf" ContentType="image/x-wmf"/>
  <Override PartName="/ppt/media/image15.jpeg" ContentType="image/jpeg"/>
  <Override PartName="/ppt/media/image29.gif" ContentType="image/gif"/>
  <Override PartName="/ppt/media/image23.jpeg" ContentType="image/jpeg"/>
  <Override PartName="/ppt/media/image12.png" ContentType="image/png"/>
  <Override PartName="/ppt/media/image22.jpeg" ContentType="image/jpeg"/>
  <Override PartName="/ppt/media/image9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16.jpeg" ContentType="image/jpeg"/>
  <Override PartName="/ppt/media/image1.png" ContentType="image/png"/>
  <Override PartName="/ppt/media/image26.png" ContentType="image/png"/>
  <Override PartName="/ppt/media/image44.jpeg" ContentType="image/jpeg"/>
  <Override PartName="/ppt/media/image36.jpeg" ContentType="image/jpeg"/>
  <Override PartName="/ppt/media/image11.jpeg" ContentType="image/jpeg"/>
  <Override PartName="/ppt/media/image32.jpeg" ContentType="image/jpeg"/>
  <Override PartName="/ppt/media/image43.jpeg" ContentType="image/jpeg"/>
  <Override PartName="/ppt/media/image35.png" ContentType="image/png"/>
  <Override PartName="/ppt/media/image5.jpeg" ContentType="image/jpeg"/>
  <Override PartName="/ppt/media/image39.wmf" ContentType="image/x-wmf"/>
  <Override PartName="/ppt/media/image42.jpeg" ContentType="image/jpeg"/>
  <Override PartName="/ppt/media/image34.jpeg" ContentType="image/jpeg"/>
  <Override PartName="/ppt/media/image37.png" ContentType="image/png"/>
  <Override PartName="/ppt/media/image45.jpeg" ContentType="image/jpeg"/>
  <Override PartName="/ppt/media/image46.jpeg" ContentType="image/jpeg"/>
  <Override PartName="/ppt/media/image47.jpeg" ContentType="image/jpeg"/>
  <Override PartName="/ppt/media/image40.jpeg" ContentType="image/jpeg"/>
  <Override PartName="/ppt/media/image13.jpeg" ContentType="image/jpeg"/>
  <Override PartName="/ppt/media/image38.png" ContentType="image/png"/>
  <Override PartName="/ppt/media/image8.png" ContentType="image/png"/>
  <Override PartName="/ppt/media/image41.jpeg" ContentType="image/jpeg"/>
  <Override PartName="/ppt/media/image14.jpeg" ContentType="image/jpeg"/>
  <Override PartName="/ppt/media/image6.jpeg" ContentType="image/jpeg"/>
  <Override PartName="/ppt/media/image10.jpeg" ContentType="image/jpeg"/>
  <Override PartName="/ppt/media/image7.jpeg" ContentType="image/jpeg"/>
  <Override PartName="/ppt/media/image28.png" ContentType="image/png"/>
  <Override PartName="/ppt/media/image31.wmf" ContentType="image/x-wmf"/>
  <Override PartName="/ppt/media/image4.jpeg" ContentType="image/jpeg"/>
  <Override PartName="/ppt/media/image2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6592A-AE90-4A34-8986-71B2607A7B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D1BF1-E5B8-4463-BF2C-F0C39FA903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B4F59-7E88-45E2-8887-2F2D31495B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CB3CF-AD14-4A19-85C9-ABA85DFCF3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705AB-DDEB-48D5-85EB-8298179280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2647F-B549-4AB3-A22D-27CE85FC63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9BD1F-18D0-49F6-BD52-1BED521AFE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08DC0-D911-47D1-9EB5-30649AEC6D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CF52E-3FD5-4086-B6FF-0ABE187740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F45BF-ABDE-4535-8D4F-3CB02FC029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E1E88-4755-4B1F-8EAD-16C43DCD66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DF124-8751-4D4B-87B0-E94F1125D9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C47F70E-335B-4692-A8E2-5D47CB9B007C}" type="slidenum"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wmf"/><Relationship Id="rId6" Type="http://schemas.openxmlformats.org/officeDocument/2006/relationships/image" Target="../media/image25.wmf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9.gi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png"/><Relationship Id="rId3" Type="http://schemas.openxmlformats.org/officeDocument/2006/relationships/image" Target="../media/image36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wmf"/><Relationship Id="rId5" Type="http://schemas.openxmlformats.org/officeDocument/2006/relationships/image" Target="../media/image40.jpe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1484280"/>
            <a:ext cx="777240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Классный час </a:t>
            </a:r>
            <a:br>
              <a:rPr sz="4800"/>
            </a:b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«День Земли» </a:t>
            </a:r>
            <a:br>
              <a:rPr sz="4800"/>
            </a:br>
            <a:r>
              <a:rPr b="0" i="1" lang="ru-RU" sz="3600" spc="-1" strike="noStrike">
                <a:solidFill>
                  <a:srgbClr val="cc3300"/>
                </a:solidFill>
                <a:latin typeface="Arial"/>
              </a:rPr>
              <a:t>для учащихся начальной шко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03280" y="530064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260280"/>
            <a:ext cx="7920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252360"/>
            <a:ext cx="8229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В Казахстане  проводятся экологические акц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84360" y="1484280"/>
            <a:ext cx="7848360" cy="48466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8481960" y="6315120"/>
            <a:ext cx="579600" cy="50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4508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08000" y="404640"/>
            <a:ext cx="4608360" cy="57610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800600" y="404640"/>
            <a:ext cx="4321080" cy="57610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8317080" y="6159600"/>
            <a:ext cx="579240" cy="50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274680"/>
            <a:ext cx="9144000" cy="22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В России проводится экологический фестиваль </a:t>
            </a:r>
            <a:br>
              <a:rPr sz="3600"/>
            </a:b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«День Земл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3645000"/>
            <a:ext cx="5761080" cy="21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Под девизом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«Цветущая Земля — процветающая Росс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6588000" y="1700280"/>
            <a:ext cx="1995480" cy="3887640"/>
            <a:chOff x="6588000" y="1700280"/>
            <a:chExt cx="1995480" cy="3887640"/>
          </a:xfrm>
        </p:grpSpPr>
        <p:pic>
          <p:nvPicPr>
            <p:cNvPr id="107" name="" descr=""/>
            <p:cNvPicPr/>
            <p:nvPr/>
          </p:nvPicPr>
          <p:blipFill>
            <a:blip r:embed="rId2"/>
            <a:stretch/>
          </p:blipFill>
          <p:spPr>
            <a:xfrm>
              <a:off x="6588000" y="1700280"/>
              <a:ext cx="1995480" cy="38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6588000" y="1700280"/>
              <a:ext cx="1995480" cy="38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274680"/>
            <a:ext cx="8686800" cy="16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В Северной Корее на улицах Сеула </a:t>
            </a:r>
            <a:br>
              <a:rPr sz="3600"/>
            </a:b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акция «Без автомобиле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116000" y="1844640"/>
            <a:ext cx="6551640" cy="4440240"/>
            <a:chOff x="1116000" y="1844640"/>
            <a:chExt cx="6551640" cy="4440240"/>
          </a:xfrm>
        </p:grpSpPr>
        <p:pic>
          <p:nvPicPr>
            <p:cNvPr id="112" name="" descr=""/>
            <p:cNvPicPr/>
            <p:nvPr/>
          </p:nvPicPr>
          <p:blipFill>
            <a:blip r:embed="rId2"/>
            <a:stretch/>
          </p:blipFill>
          <p:spPr>
            <a:xfrm>
              <a:off x="1116000" y="1844640"/>
              <a:ext cx="6551640" cy="444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1116000" y="1844640"/>
              <a:ext cx="6551640" cy="444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457200" y="96840"/>
            <a:ext cx="8228160" cy="1535040"/>
            <a:chOff x="457200" y="96840"/>
            <a:chExt cx="8228160" cy="1535040"/>
          </a:xfrm>
        </p:grpSpPr>
        <p:pic>
          <p:nvPicPr>
            <p:cNvPr id="116" name="" descr=""/>
            <p:cNvPicPr/>
            <p:nvPr/>
          </p:nvPicPr>
          <p:blipFill>
            <a:blip r:embed="rId2"/>
            <a:stretch/>
          </p:blipFill>
          <p:spPr>
            <a:xfrm>
              <a:off x="457200" y="96840"/>
              <a:ext cx="8228160" cy="15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457200" y="96840"/>
              <a:ext cx="8228160" cy="15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1835280" y="1484280"/>
            <a:ext cx="5473440" cy="45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835280" y="1484280"/>
            <a:ext cx="5473440" cy="5013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8388360" y="6243480"/>
            <a:ext cx="579600" cy="50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457200" y="274680"/>
            <a:ext cx="8228160" cy="1144440"/>
            <a:chOff x="457200" y="274680"/>
            <a:chExt cx="8228160" cy="1144440"/>
          </a:xfrm>
        </p:grpSpPr>
        <p:pic>
          <p:nvPicPr>
            <p:cNvPr id="122" name="" descr=""/>
            <p:cNvPicPr/>
            <p:nvPr/>
          </p:nvPicPr>
          <p:blipFill>
            <a:blip r:embed="rId2"/>
            <a:stretch/>
          </p:blipFill>
          <p:spPr>
            <a:xfrm>
              <a:off x="457200" y="274680"/>
              <a:ext cx="8228160" cy="11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457200" y="274680"/>
              <a:ext cx="8228160" cy="11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68360" y="2276640"/>
            <a:ext cx="2081160" cy="31208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2916360" y="2021040"/>
            <a:ext cx="3657600" cy="24256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1508040" y="189000"/>
            <a:ext cx="1698840" cy="18320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7308720" y="0"/>
            <a:ext cx="1670040" cy="1828800"/>
          </a:xfrm>
          <a:prstGeom prst="rect">
            <a:avLst/>
          </a:prstGeom>
          <a:ln w="0">
            <a:noFill/>
          </a:ln>
        </p:spPr>
      </p:pic>
      <p:grpSp>
        <p:nvGrpSpPr>
          <p:cNvPr id="128" name=""/>
          <p:cNvGrpSpPr/>
          <p:nvPr/>
        </p:nvGrpSpPr>
        <p:grpSpPr>
          <a:xfrm>
            <a:off x="6945480" y="1989000"/>
            <a:ext cx="2014200" cy="2951280"/>
            <a:chOff x="6945480" y="1989000"/>
            <a:chExt cx="2014200" cy="2951280"/>
          </a:xfrm>
        </p:grpSpPr>
        <p:pic>
          <p:nvPicPr>
            <p:cNvPr id="129" name="" descr=""/>
            <p:cNvPicPr/>
            <p:nvPr/>
          </p:nvPicPr>
          <p:blipFill>
            <a:blip r:embed="rId7"/>
            <a:stretch/>
          </p:blipFill>
          <p:spPr>
            <a:xfrm>
              <a:off x="6945480" y="1989000"/>
              <a:ext cx="2014200" cy="295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6945480" y="1989000"/>
              <a:ext cx="2014200" cy="29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" name="" descr=""/>
          <p:cNvPicPr/>
          <p:nvPr/>
        </p:nvPicPr>
        <p:blipFill>
          <a:blip r:embed="rId8"/>
          <a:stretch/>
        </p:blipFill>
        <p:spPr>
          <a:xfrm>
            <a:off x="3780000" y="4941720"/>
            <a:ext cx="2261880" cy="16639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9"/>
          <a:stretch/>
        </p:blipFill>
        <p:spPr>
          <a:xfrm>
            <a:off x="8399520" y="6099120"/>
            <a:ext cx="579240" cy="50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457200" y="158760"/>
            <a:ext cx="8228160" cy="1528920"/>
            <a:chOff x="457200" y="158760"/>
            <a:chExt cx="8228160" cy="1528920"/>
          </a:xfrm>
        </p:grpSpPr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>
              <a:off x="457200" y="158760"/>
              <a:ext cx="8228160" cy="15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457200" y="158760"/>
              <a:ext cx="8228160" cy="15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3276720" y="5950080"/>
            <a:ext cx="5410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3564000" y="4424400"/>
            <a:ext cx="2100240" cy="18334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826920" y="1916280"/>
            <a:ext cx="1787760" cy="1392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6443640" y="2436840"/>
            <a:ext cx="2449440" cy="26654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598320" y="3584520"/>
            <a:ext cx="2016360" cy="26161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7"/>
          <a:stretch/>
        </p:blipFill>
        <p:spPr>
          <a:xfrm>
            <a:off x="3462480" y="1576440"/>
            <a:ext cx="2592360" cy="17222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8"/>
          <a:stretch/>
        </p:blipFill>
        <p:spPr>
          <a:xfrm>
            <a:off x="8313840" y="6200640"/>
            <a:ext cx="579240" cy="50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28720" y="476280"/>
            <a:ext cx="7343640" cy="18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Физкультминутка-игра</a:t>
            </a:r>
            <a:endParaRPr b="0" lang="en-US" sz="1800" spc="1" strike="noStrike">
              <a:ln cap="sq" w="936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«Если я приду в лесок»</a:t>
            </a:r>
            <a:endParaRPr b="0" lang="en-US" sz="1800" spc="1" strike="noStrike">
              <a:ln cap="sq" w="936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248680" y="5843520"/>
            <a:ext cx="579240" cy="5065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258920" y="2492280"/>
            <a:ext cx="6481800" cy="41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457200" y="231840"/>
            <a:ext cx="8228160" cy="1314360"/>
            <a:chOff x="457200" y="231840"/>
            <a:chExt cx="8228160" cy="1314360"/>
          </a:xfrm>
        </p:grpSpPr>
        <p:pic>
          <p:nvPicPr>
            <p:cNvPr id="147" name="" descr=""/>
            <p:cNvPicPr/>
            <p:nvPr/>
          </p:nvPicPr>
          <p:blipFill>
            <a:blip r:embed="rId2"/>
            <a:stretch/>
          </p:blipFill>
          <p:spPr>
            <a:xfrm>
              <a:off x="457200" y="231840"/>
              <a:ext cx="8228160" cy="13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457200" y="231840"/>
              <a:ext cx="822816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611280" y="1341360"/>
            <a:ext cx="7921440" cy="49672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8244000" y="6308640"/>
            <a:ext cx="577800" cy="50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457200" y="274680"/>
            <a:ext cx="8228160" cy="1326960"/>
            <a:chOff x="457200" y="274680"/>
            <a:chExt cx="8228160" cy="1326960"/>
          </a:xfrm>
        </p:grpSpPr>
        <p:pic>
          <p:nvPicPr>
            <p:cNvPr id="152" name="" descr=""/>
            <p:cNvPicPr/>
            <p:nvPr/>
          </p:nvPicPr>
          <p:blipFill>
            <a:blip r:embed="rId2"/>
            <a:stretch/>
          </p:blipFill>
          <p:spPr>
            <a:xfrm>
              <a:off x="457200" y="274680"/>
              <a:ext cx="8228160" cy="13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457200" y="274680"/>
              <a:ext cx="8228160" cy="13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4140360" y="2924280"/>
            <a:ext cx="4572000" cy="34272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1414440" y="1628640"/>
            <a:ext cx="1825560" cy="17258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395280" y="3789360"/>
            <a:ext cx="3657600" cy="2419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6"/>
          <a:stretch/>
        </p:blipFill>
        <p:spPr>
          <a:xfrm>
            <a:off x="8421840" y="6329520"/>
            <a:ext cx="579240" cy="50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408400" y="268200"/>
            <a:ext cx="4297320" cy="15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Благополучие и процветание Земли в Ваших руках, ребят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476360" y="1978200"/>
            <a:ext cx="6262560" cy="3752640"/>
            <a:chOff x="1476360" y="1978200"/>
            <a:chExt cx="6262560" cy="3752640"/>
          </a:xfrm>
        </p:grpSpPr>
        <p:pic>
          <p:nvPicPr>
            <p:cNvPr id="161" name="" descr=""/>
            <p:cNvPicPr/>
            <p:nvPr/>
          </p:nvPicPr>
          <p:blipFill>
            <a:blip r:embed="rId2"/>
            <a:stretch/>
          </p:blipFill>
          <p:spPr>
            <a:xfrm>
              <a:off x="1476360" y="1978200"/>
              <a:ext cx="6262560" cy="375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1476360" y="1978200"/>
              <a:ext cx="6262560" cy="37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24000" y="333360"/>
            <a:ext cx="8569080" cy="33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Дорогая планета, Земля!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Поздравляем тебя с праздником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Прости нас за наши ошибк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Мы обещае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сохранить твою красоту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771640" y="3213000"/>
            <a:ext cx="3382920" cy="3373560"/>
            <a:chOff x="2771640" y="3213000"/>
            <a:chExt cx="3382920" cy="3373560"/>
          </a:xfrm>
        </p:grpSpPr>
        <p:pic>
          <p:nvPicPr>
            <p:cNvPr id="165" name="" descr=""/>
            <p:cNvPicPr/>
            <p:nvPr/>
          </p:nvPicPr>
          <p:blipFill>
            <a:blip r:embed="rId2"/>
            <a:stretch/>
          </p:blipFill>
          <p:spPr>
            <a:xfrm>
              <a:off x="2771640" y="3213000"/>
              <a:ext cx="3382920" cy="337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2771640" y="3213000"/>
              <a:ext cx="3382920" cy="337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Подведём итог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акому празднику был посвящён классный час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Назовите цель празд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огда он отмечается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акой знак является символом праздни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Что изображено на флаге Зем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акие мероприятия проводятся в Казахстане и других странах к этому празднику - «День Земли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Что мы с Вами можем сделать в деле защиты окружающей среды?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dur="indefinite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2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dur="indefinite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2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dur="indefinite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2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dur="indefinite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" dur="2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dur="indefinite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2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dur="indefinite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" dur="2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6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1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ДОМАШНЕЕ ЗАДАНИЕ</a:t>
            </a: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0920" y="1268280"/>
            <a:ext cx="8569080" cy="43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ластиковые бутылки самый распространенный, наразрушаемый бактериями, вид мусора, который лежит на земле более 100 лет. Давайте же сделаем что-то полезное из них, чтобы бутылки выкидывали как можно меньш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Сделать поделки из пластиковых бутыл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244000" y="6080040"/>
            <a:ext cx="442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50920" y="404640"/>
            <a:ext cx="4248000" cy="2903760"/>
            <a:chOff x="250920" y="404640"/>
            <a:chExt cx="4248000" cy="2903760"/>
          </a:xfrm>
        </p:grpSpPr>
        <p:pic>
          <p:nvPicPr>
            <p:cNvPr id="177" name="" descr=""/>
            <p:cNvPicPr/>
            <p:nvPr/>
          </p:nvPicPr>
          <p:blipFill>
            <a:blip r:embed="rId2"/>
            <a:stretch/>
          </p:blipFill>
          <p:spPr>
            <a:xfrm>
              <a:off x="250920" y="404640"/>
              <a:ext cx="4248000" cy="290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250920" y="404640"/>
              <a:ext cx="4248000" cy="290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4984920" y="290520"/>
            <a:ext cx="3809880" cy="25718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971640" y="36450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5"/>
          <a:stretch/>
        </p:blipFill>
        <p:spPr>
          <a:xfrm>
            <a:off x="6246720" y="367344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6"/>
          <a:stretch/>
        </p:blipFill>
        <p:spPr>
          <a:xfrm>
            <a:off x="3635280" y="271764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4000" y="189000"/>
            <a:ext cx="6335640" cy="26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День Земл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это гражданская инициатива, которая призвана объединять всё население планеты в деле защиты окружающей среды</a:t>
            </a:r>
            <a:br>
              <a:rPr sz="2800"/>
            </a:b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732720" y="404640"/>
            <a:ext cx="2158920" cy="2159280"/>
            <a:chOff x="6732720" y="404640"/>
            <a:chExt cx="2158920" cy="2159280"/>
          </a:xfrm>
        </p:grpSpPr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6732720" y="404640"/>
              <a:ext cx="2158920" cy="215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6732720" y="404640"/>
              <a:ext cx="2158920" cy="215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24000" y="2997360"/>
            <a:ext cx="3887640" cy="2592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051440" y="3027240"/>
            <a:ext cx="5076720" cy="31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ервая всемирная акц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«День Земли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ошла в США 22 апреля 1970 года, в  память об экологической катастрофе на территории США в 1969 год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95280" y="260280"/>
            <a:ext cx="822960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Международный день Земли</a:t>
            </a: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 провозглашен Генеральным секретарем ООН в марте 1971 года. Отмечается ежегодно в день весеннего равноденствия 22 апреля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843280" y="2103480"/>
            <a:ext cx="3598920" cy="3959280"/>
            <a:chOff x="2843280" y="2103480"/>
            <a:chExt cx="3598920" cy="3959280"/>
          </a:xfrm>
        </p:grpSpPr>
        <p:pic>
          <p:nvPicPr>
            <p:cNvPr id="57" name="" descr=""/>
            <p:cNvPicPr/>
            <p:nvPr/>
          </p:nvPicPr>
          <p:blipFill>
            <a:blip r:embed="rId2"/>
            <a:stretch/>
          </p:blipFill>
          <p:spPr>
            <a:xfrm>
              <a:off x="2843280" y="2103480"/>
              <a:ext cx="3598920" cy="395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2843280" y="2103480"/>
              <a:ext cx="3598920" cy="395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Всемирное движ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880920"/>
            <a:ext cx="478800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Во многих странах проходят праздничные мероприятия и акции, призывающие обратить внимание на проблемы эк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На сегодняшний день, 147 стран мира зарегистрированы во Всемирном движении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859280" y="1628640"/>
            <a:ext cx="3843360" cy="3830760"/>
            <a:chOff x="4859280" y="1628640"/>
            <a:chExt cx="3843360" cy="3830760"/>
          </a:xfrm>
        </p:grpSpPr>
        <p:pic>
          <p:nvPicPr>
            <p:cNvPr id="62" name="" descr=""/>
            <p:cNvPicPr/>
            <p:nvPr/>
          </p:nvPicPr>
          <p:blipFill>
            <a:blip r:embed="rId2"/>
            <a:stretch/>
          </p:blipFill>
          <p:spPr>
            <a:xfrm>
              <a:off x="4859280" y="1628640"/>
              <a:ext cx="3843360" cy="383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4859280" y="1628640"/>
              <a:ext cx="3843360" cy="38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Символ Дня Земл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2565360"/>
            <a:ext cx="475308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3399"/>
                </a:solidFill>
                <a:latin typeface="Arial"/>
              </a:rPr>
              <a:t>Зелёная греческая буква Θ на белом фон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00720" y="3068640"/>
            <a:ext cx="1152720" cy="1655640"/>
          </a:xfrm>
          <a:prstGeom prst="rect">
            <a:avLst/>
          </a:prstGeom>
          <a:solidFill>
            <a:srgbClr val="ffffff"/>
          </a:solidFill>
          <a:ln cap="sq" w="7632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24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008000"/>
                </a:solidFill>
                <a:latin typeface="Arial"/>
              </a:rPr>
              <a:t>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8172360" y="6165720"/>
            <a:ext cx="579600" cy="50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4360" y="404640"/>
            <a:ext cx="5483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Флаг Зем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1268280"/>
            <a:ext cx="8604000" cy="51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связан с Днем Земли и многими другими природоохранными, миротворческими международными мероприятия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не является официальным символом чего-либо, поскольку не существует общепланетного правительства или государст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снимок планеты Земля, изображенный на флаге, сделан астронавтами космичечкого корабля «Аполлон-17» по дороге к Луне.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5796000" y="189000"/>
            <a:ext cx="2012760" cy="1226880"/>
            <a:chOff x="5796000" y="189000"/>
            <a:chExt cx="2012760" cy="1226880"/>
          </a:xfrm>
        </p:grpSpPr>
        <p:pic>
          <p:nvPicPr>
            <p:cNvPr id="72" name="" descr=""/>
            <p:cNvPicPr/>
            <p:nvPr/>
          </p:nvPicPr>
          <p:blipFill>
            <a:blip r:embed="rId2"/>
            <a:srcRect l="14122" t="-4315" r="13580" b="-5858"/>
            <a:stretch/>
          </p:blipFill>
          <p:spPr>
            <a:xfrm>
              <a:off x="5796000" y="189000"/>
              <a:ext cx="2012760" cy="122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5796000" y="189000"/>
              <a:ext cx="2012760" cy="12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8317080" y="6165720"/>
            <a:ext cx="579240" cy="50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Колокол Ми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3860640"/>
            <a:ext cx="8147160" cy="24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 День Земли в разных странах по традиции звучит Колокол Мира, призывая людей Земли приложить усилия к защите мира на планете и сохранению красоты нашего общего до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148360" y="1413000"/>
            <a:ext cx="2878200" cy="2162160"/>
            <a:chOff x="5148360" y="1413000"/>
            <a:chExt cx="2878200" cy="2162160"/>
          </a:xfrm>
        </p:grpSpPr>
        <p:pic>
          <p:nvPicPr>
            <p:cNvPr id="78" name="" descr=""/>
            <p:cNvPicPr/>
            <p:nvPr/>
          </p:nvPicPr>
          <p:blipFill>
            <a:blip r:embed="rId2"/>
            <a:stretch/>
          </p:blipFill>
          <p:spPr>
            <a:xfrm>
              <a:off x="5148360" y="1413000"/>
              <a:ext cx="2878200" cy="21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5148360" y="1413000"/>
              <a:ext cx="2878200" cy="21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1258920" y="1413000"/>
            <a:ext cx="2862360" cy="2149200"/>
            <a:chOff x="1258920" y="1413000"/>
            <a:chExt cx="2862360" cy="2149200"/>
          </a:xfrm>
        </p:grpSpPr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1258920" y="1413000"/>
              <a:ext cx="2862360" cy="21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1258920" y="1413000"/>
              <a:ext cx="2862360" cy="21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8209080" y="260280"/>
            <a:ext cx="609480" cy="6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716360" y="260280"/>
            <a:ext cx="4186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Традици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932360" y="1268280"/>
            <a:ext cx="403848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В этот день все желающие принимают участие в благоустройстве и озеленении своих дворов и улиц, в различных экологических мероприятиях, фестивалях и акция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395280" y="549360"/>
            <a:ext cx="4070520" cy="5830920"/>
            <a:chOff x="395280" y="549360"/>
            <a:chExt cx="4070520" cy="5830920"/>
          </a:xfrm>
        </p:grpSpPr>
        <p:pic>
          <p:nvPicPr>
            <p:cNvPr id="88" name="" descr=""/>
            <p:cNvPicPr/>
            <p:nvPr/>
          </p:nvPicPr>
          <p:blipFill>
            <a:blip r:embed="rId2"/>
            <a:stretch/>
          </p:blipFill>
          <p:spPr>
            <a:xfrm>
              <a:off x="395280" y="549360"/>
              <a:ext cx="4070520" cy="583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395280" y="549360"/>
              <a:ext cx="4070520" cy="58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1T14:25:43Z</dcterms:created>
  <dc:creator>Елена</dc:creator>
  <dc:description/>
  <dc:language>en-US</dc:language>
  <cp:lastModifiedBy>Раушан</cp:lastModifiedBy>
  <dcterms:modified xsi:type="dcterms:W3CDTF">2013-04-16T15:06:23Z</dcterms:modified>
  <cp:revision>240</cp:revision>
  <dc:subject/>
  <dc:title>День Земли</dc:title>
</cp:coreProperties>
</file>