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8.jpeg" ContentType="image/jpeg"/>
  <Override PartName="/ppt/media/image30.png" ContentType="image/pn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57EF-1CB4-44F1-8398-BEDAB375C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A71C-01B3-4E6F-AE89-881A733AB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4613-E608-4A6E-97A5-AA307A8CF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BDF8-7516-4157-B9D0-CF26334147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53A1-2DC3-49D5-B5EF-FB503E366D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ECE5-74BD-4434-8376-48E7E7891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1DAD-702C-4713-8D7E-16A33440D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75F5-3B9A-4744-A499-7A71FF461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4D76-1808-4900-8631-646D8ED98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5B9A-6A6A-4DD0-BCAF-8BE9C0839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E980-BD7C-4EF4-B48F-AC3B97C65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5650-388B-4CEE-8E73-7E4892B90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DB5210-0320-4490-9370-A6193F73F277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ving-wood.ru/i/lojkah/3.jpg" TargetMode="External"/><Relationship Id="rId3" Type="http://schemas.openxmlformats.org/officeDocument/2006/relationships/hyperlink" Target="http://carving-wood.ru/i/lojkah/1.jpg" TargetMode="External"/><Relationship Id="rId4" Type="http://schemas.openxmlformats.org/officeDocument/2006/relationships/hyperlink" Target="http://carving-wood.ru/i/lojka/23.jpg" TargetMode="External"/><Relationship Id="rId5" Type="http://schemas.openxmlformats.org/officeDocument/2006/relationships/hyperlink" Target="http://dreamreflex.ru/wp-content/uploads/2010/12/logka.jpg" TargetMode="External"/><Relationship Id="rId6" Type="http://schemas.openxmlformats.org/officeDocument/2006/relationships/hyperlink" Target="http://www.ampho.ru/images/items/1775.jpg" TargetMode="External"/><Relationship Id="rId7" Type="http://schemas.openxmlformats.org/officeDocument/2006/relationships/hyperlink" Target="http://images04.olx.ru/ui/1/21/86/12041586_2.jpg" TargetMode="External"/><Relationship Id="rId8" Type="http://schemas.openxmlformats.org/officeDocument/2006/relationships/hyperlink" Target="http://natazhko.com/page/2/" TargetMode="External"/><Relationship Id="rId9" Type="http://schemas.openxmlformats.org/officeDocument/2006/relationships/hyperlink" Target="http://www.vix.ru/44617-1/antique_wooden_1728.png" TargetMode="External"/><Relationship Id="rId10" Type="http://schemas.openxmlformats.org/officeDocument/2006/relationships/hyperlink" Target="http://all.shop.onona.su/users/Major-show/" TargetMode="External"/><Relationship Id="rId11" Type="http://schemas.openxmlformats.org/officeDocument/2006/relationships/hyperlink" Target="http://pics.photographer.ru/pictures/19193.jpg" TargetMode="External"/><Relationship Id="rId12" Type="http://schemas.openxmlformats.org/officeDocument/2006/relationships/hyperlink" Target="http://www.rus-biography.ru/downloadsImage/image-beN343-russia-biography.jpg" TargetMode="External"/><Relationship Id="rId13" Type="http://schemas.openxmlformats.org/officeDocument/2006/relationships/hyperlink" Target="http://www.by-hand.ru/all_image/recipe_pictures/27/27127/rp27127_large.jpg" TargetMode="External"/><Relationship Id="rId14" Type="http://schemas.openxmlformats.org/officeDocument/2006/relationships/hyperlink" Target="http://hrorek.users.photofile.ru/photo/hrorek/308682/xlarge/57578409.jpg" TargetMode="External"/><Relationship Id="rId15" Type="http://schemas.openxmlformats.org/officeDocument/2006/relationships/hyperlink" Target="http://img-fotki.yandex.ru/get/6003/nin-bratkina.1c/0_69a94_a8afcb87_XL" TargetMode="External"/><Relationship Id="rId16" Type="http://schemas.openxmlformats.org/officeDocument/2006/relationships/hyperlink" Target="http://www.russouvenir.ru/IMG_0739.jpg" TargetMode="External"/><Relationship Id="rId17" Type="http://schemas.openxmlformats.org/officeDocument/2006/relationships/hyperlink" Target="http://www.posezonam.ru/img/big/299_big.jpg" TargetMode="External"/><Relationship Id="rId18" Type="http://schemas.openxmlformats.org/officeDocument/2006/relationships/hyperlink" Target="http://www.giftspark.ru/shop/images/294_big.jpg" TargetMode="External"/><Relationship Id="rId19" Type="http://schemas.openxmlformats.org/officeDocument/2006/relationships/hyperlink" Target="http://www.rezbaderevo.ru/foto_big.php?izd_id=427" TargetMode="External"/><Relationship Id="rId20" Type="http://schemas.openxmlformats.org/officeDocument/2006/relationships/hyperlink" Target="http://anufriev.moy.su/forum/35-113-1" TargetMode="External"/><Relationship Id="rId21" Type="http://schemas.openxmlformats.org/officeDocument/2006/relationships/hyperlink" Target="http://www.doskaurala.ru/index.php?id=10403857595" TargetMode="External"/><Relationship Id="rId22" Type="http://schemas.openxmlformats.org/officeDocument/2006/relationships/hyperlink" Target="http://labelme.csail.mit.edu/Images/sandbox/mt_static_submitted_Ehsan_Jahangiri_wood_spoon_feb_2011/3336.jpg" TargetMode="External"/><Relationship Id="rId23" Type="http://schemas.openxmlformats.org/officeDocument/2006/relationships/hyperlink" Target="http://img-fotki.yandex.ru/get/4011/shorann.30/0_4c60a_e37ded33_L" TargetMode="External"/><Relationship Id="rId24" Type="http://schemas.openxmlformats.org/officeDocument/2006/relationships/hyperlink" Target="http://www.mamochki22.ru/forum/uploads/1270908484/med_gallery_2906_26_100417.jpg" TargetMode="External"/><Relationship Id="rId25" Type="http://schemas.openxmlformats.org/officeDocument/2006/relationships/hyperlink" Target="http://www.posusecam.ru/uploads/products/images/232.jpg" TargetMode="External"/><Relationship Id="rId26" Type="http://schemas.openxmlformats.org/officeDocument/2006/relationships/hyperlink" Target="http://homeflowers.ru/yabbse/uploads/post-2307-1229946983.jpg" TargetMode="External"/><Relationship Id="rId27" Type="http://schemas.openxmlformats.org/officeDocument/2006/relationships/hyperlink" Target="http://www.nkj.ru/upload/iblock/b41/b41f18e30bdf41da36bedbc1ae65f3b2.JPG" TargetMode="External"/><Relationship Id="rId28" Type="http://schemas.openxmlformats.org/officeDocument/2006/relationships/hyperlink" Target="http://www.kulturologia.ru/files/u1866/18668727.jpg" TargetMode="External"/><Relationship Id="rId29" Type="http://schemas.openxmlformats.org/officeDocument/2006/relationships/hyperlink" Target="http://www.northbayforge.com/sergey/sergey2.jpg" TargetMode="External"/><Relationship Id="rId30" Type="http://schemas.openxmlformats.org/officeDocument/2006/relationships/hyperlink" Target="http://www.rezbaderevo.ru/images/w_100976_1.jpg" TargetMode="External"/><Relationship Id="rId31" Type="http://schemas.openxmlformats.org/officeDocument/2006/relationships/hyperlink" Target="http://vk-uzor.ru/photos/dir_0/photo_932_m.jpg" TargetMode="External"/><Relationship Id="rId32" Type="http://schemas.openxmlformats.org/officeDocument/2006/relationships/hyperlink" Target="http://www.dvernoi-master.ru/images/narodnoe5.png" TargetMode="External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915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846240" cy="3065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476280"/>
            <a:ext cx="91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а уже в древности считалась символом сытости, благосостояния и довольства.. Её вырезали из берёз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дра, липы, клёна и других деревьев- «доноров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12000" y="1844640"/>
            <a:ext cx="27223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11280" y="187200"/>
            <a:ext cx="5185080" cy="5185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131640" y="5305320"/>
            <a:ext cx="419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разные бываю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 них порой игр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ивают ритм та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зу в пляс пойдёт лю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стушья барабанкаПростейший ударный инструмент, ранее применявшийся пастухами как сигна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76360" y="1216080"/>
            <a:ext cx="6912000" cy="532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9080" y="325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000" y="258840"/>
            <a:ext cx="84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стушья барабанка – простейший ударный инструмен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ее применявшийся пастухами как сигна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915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5181480" cy="6041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859280" y="40464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ложки просто сделать куклу или разнообразных персонажей для кукольного теа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71500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333360"/>
            <a:ext cx="94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Ложкарной столицей" России  называют в народе город Семёнов, что находится в глубине керженских лесов Нижегородског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983040" cy="532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4267440" cy="48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0" r="0" b="607"/>
          <a:stretch/>
        </p:blipFill>
        <p:spPr>
          <a:xfrm>
            <a:off x="2052720" y="-244440"/>
            <a:ext cx="6769080" cy="465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629080" y="1271520"/>
            <a:ext cx="5722920" cy="44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268360" y="3284640"/>
            <a:ext cx="5962680" cy="441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-396720" y="0"/>
            <a:ext cx="25398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763640" y="2085840"/>
            <a:ext cx="6373800" cy="477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05080" y="476280"/>
            <a:ext cx="706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евянные ложки, разнообразные по форм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ионный русский сувен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5035680" cy="518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003640" y="260280"/>
            <a:ext cx="4140360" cy="626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05960" cy="7315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4000" y="0"/>
            <a:ext cx="849600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carving-wood.ru/i/lojkah/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carving-wood.ru/i/lojkah/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carving-wood.ru/i/lojka/2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dreamreflex.ru/wp-content/uploads/2010/12/logk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ampho.ru/images/items/177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images04.olx.ru/ui/1/21/86/12041586_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natazhko.com/page/2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www.vix.ru/44617-1/antique_wooden_1728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all.shop.onona.su/users/Major-sh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ttp://pics.photographer.ru/pictures/1919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www.rus-biography.ru/downloadsImage/image-beN343-russia-biography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http://www.by-hand.ru/all_image/recipe_pictures/27/27127/rp27127_larg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hrorek.users.photofile.ru/photo/hrorek/308682/xlarge/5757840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http://img-fotki.yandex.ru/get/6003/nin-bratkina.1c/0_69a94_a8afcb87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http://www.russouvenir.ru/IMG_073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http://www.posezonam.ru/img/big/299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http://www.giftspark.ru/shop/images/294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http://www.rezbaderevo.ru/foto_big.php?izd_id=4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http://anufriev.moy.su/forum/35-11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http://www.doskaurala.ru/index.php?id=104038575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http://labelme.csail.mit.edu/Images/sandbox/mt_static_submitted_Ehsan_Jahangiri_wood_spoon_feb_2011/333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http://img-fotki.yandex.ru/get/4011/shorann.30/0_4c60a_e37ded33_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4"/>
              </a:rPr>
              <a:t>http://www.mamochki22.ru/forum/uploads/1270908484/med_gallery_2906_26_10041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5"/>
              </a:rPr>
              <a:t>http://www.posusecam.ru/uploads/products/images/23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6"/>
              </a:rPr>
              <a:t>http://homeflowers.ru/yabbse/uploads/post-2307-122994698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7"/>
              </a:rPr>
              <a:t>http://www.nkj.ru/upload/iblock/b41/b41f18e30bdf41da36bedbc1ae65f3b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8"/>
              </a:rPr>
              <a:t>http://www.kulturologia.ru/files/u1866/1866872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9"/>
              </a:rPr>
              <a:t>http://www.northbayforge.com/sergey/sergey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0"/>
              </a:rPr>
              <a:t>http://www.rezbaderevo.ru/images/w_100976_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1"/>
              </a:rPr>
              <a:t>http://vk-uzor.ru/photos/dir_0/photo_932_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2"/>
              </a:rPr>
              <a:t>http://www.dvernoi-master.ru/images/narodnoe5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87280" y="333360"/>
            <a:ext cx="6697800" cy="63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3792600" cy="568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305240" cy="5689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6093000"/>
            <a:ext cx="85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арный промысел был распространён по всей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7416720" cy="4746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317520"/>
            <a:ext cx="9144000" cy="654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66320" cy="6908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667640" cy="4817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8040" y="4744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мая - Пелаг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елагею, рубили дерево на выделку лож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апреля – Международный день л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72160" y="593640"/>
            <a:ext cx="3471840" cy="626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84400" y="189000"/>
            <a:ext cx="67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любили украшать резьбой и роспись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44370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05960" cy="7315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452000" cy="5616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 часто носили при себе в особых футляр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бо просто за поясом или голенищем сап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9665" t="0" r="10122" b="0"/>
          <a:stretch/>
        </p:blipFill>
        <p:spPr>
          <a:xfrm>
            <a:off x="5506920" y="766800"/>
            <a:ext cx="3878280" cy="5661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13708" t="31768" r="7657" b="24499"/>
          <a:stretch/>
        </p:blipFill>
        <p:spPr>
          <a:xfrm>
            <a:off x="6373800" y="1628640"/>
            <a:ext cx="1728720" cy="4681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836640"/>
            <a:ext cx="5724360" cy="568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06520" y="333360"/>
            <a:ext cx="70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крашенные ложки используются ежедне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32360" y="1846440"/>
            <a:ext cx="3809880" cy="1771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12888" t="14859" r="17787" b="5846"/>
          <a:stretch/>
        </p:blipFill>
        <p:spPr>
          <a:xfrm>
            <a:off x="1333440" y="979560"/>
            <a:ext cx="3227400" cy="352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968720" y="3714840"/>
            <a:ext cx="4176720" cy="2465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93840" y="4006800"/>
            <a:ext cx="4681440" cy="1697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187200"/>
            <a:ext cx="88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исные ложки – праздничные, носят подарочный характер. Они  расписаны сказочными цветами и травами. Блеск золота и киновари на них воспринимаются как драгоценность, ассоциировался с царственной роскош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29:15Z</dcterms:created>
  <dc:creator>1</dc:creator>
  <dc:description/>
  <dc:language>en-US</dc:language>
  <cp:lastModifiedBy>PC</cp:lastModifiedBy>
  <dcterms:modified xsi:type="dcterms:W3CDTF">2013-05-30T14:13:50Z</dcterms:modified>
  <cp:revision>26</cp:revision>
  <dc:subject/>
  <dc:title>Слайд 1</dc:title>
</cp:coreProperties>
</file>