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33.jpeg" ContentType="image/jpeg"/>
  <Override PartName="/ppt/media/image24.wmf" ContentType="image/x-wmf"/>
  <Override PartName="/ppt/media/image25.wmf" ContentType="image/x-wmf"/>
  <Override PartName="/ppt/media/image15.jpeg" ContentType="image/jpeg"/>
  <Override PartName="/ppt/media/image29.gif" ContentType="image/gif"/>
  <Override PartName="/ppt/media/image23.jpeg" ContentType="image/jpeg"/>
  <Override PartName="/ppt/media/image12.png" ContentType="image/png"/>
  <Override PartName="/ppt/media/image22.jpeg" ContentType="image/jpeg"/>
  <Override PartName="/ppt/media/image9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18.jpeg" ContentType="image/jpeg"/>
  <Override PartName="/ppt/media/image16.jpeg" ContentType="image/jpeg"/>
  <Override PartName="/ppt/media/image1.png" ContentType="image/png"/>
  <Override PartName="/ppt/media/image26.png" ContentType="image/png"/>
  <Override PartName="/ppt/media/image44.jpeg" ContentType="image/jpeg"/>
  <Override PartName="/ppt/media/image36.jpeg" ContentType="image/jpeg"/>
  <Override PartName="/ppt/media/image11.jpeg" ContentType="image/jpeg"/>
  <Override PartName="/ppt/media/image32.jpeg" ContentType="image/jpeg"/>
  <Override PartName="/ppt/media/image43.jpeg" ContentType="image/jpeg"/>
  <Override PartName="/ppt/media/image35.png" ContentType="image/png"/>
  <Override PartName="/ppt/media/image5.jpeg" ContentType="image/jpeg"/>
  <Override PartName="/ppt/media/image39.wmf" ContentType="image/x-wmf"/>
  <Override PartName="/ppt/media/image42.jpeg" ContentType="image/jpeg"/>
  <Override PartName="/ppt/media/image34.jpeg" ContentType="image/jpeg"/>
  <Override PartName="/ppt/media/image37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40.jpeg" ContentType="image/jpeg"/>
  <Override PartName="/ppt/media/image13.jpeg" ContentType="image/jpeg"/>
  <Override PartName="/ppt/media/image38.png" ContentType="image/png"/>
  <Override PartName="/ppt/media/image8.png" ContentType="image/png"/>
  <Override PartName="/ppt/media/image41.jpeg" ContentType="image/jpeg"/>
  <Override PartName="/ppt/media/image14.jpeg" ContentType="image/jpeg"/>
  <Override PartName="/ppt/media/image6.jpeg" ContentType="image/jpeg"/>
  <Override PartName="/ppt/media/image10.jpeg" ContentType="image/jpeg"/>
  <Override PartName="/ppt/media/image7.jpeg" ContentType="image/jpeg"/>
  <Override PartName="/ppt/media/image28.png" ContentType="image/png"/>
  <Override PartName="/ppt/media/image31.wmf" ContentType="image/x-wmf"/>
  <Override PartName="/ppt/media/image4.jpeg" ContentType="image/jpeg"/>
  <Override PartName="/ppt/media/image2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A027F-3DE2-44DA-A8F6-98CA435E2D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C4BBC7-6BDB-4619-92AF-5378346326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0619EB-8701-4CD4-BD36-8179374578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9D05F6-4BD3-4A7B-A133-B4F50FB00F8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CA99F3-CD72-4E8A-A2F5-31BDDF8FF65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1BBBF-8939-4D92-9CA5-2730B556FE3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F6B844-7C19-4037-918A-0A4C6AAE460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D1B27C-F030-45AC-87F6-6C0B7188F4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CAEB8-EBD5-4323-883D-175ADC33EE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03E6C1-0294-4236-9CE0-FF2163B1833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EC231-7FDA-4CB1-9B02-DEAC07FEF51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D1C70-C629-47A4-AC47-32FCA13DC54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BE0E01-AB54-481A-9A99-A62931985F75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wmf"/><Relationship Id="rId6" Type="http://schemas.openxmlformats.org/officeDocument/2006/relationships/image" Target="../media/image25.wmf"/><Relationship Id="rId7" Type="http://schemas.openxmlformats.org/officeDocument/2006/relationships/image" Target="../media/image26.png"/><Relationship Id="rId8" Type="http://schemas.openxmlformats.org/officeDocument/2006/relationships/image" Target="../media/image27.png"/><Relationship Id="rId9" Type="http://schemas.openxmlformats.org/officeDocument/2006/relationships/image" Target="../media/image8.png"/><Relationship Id="rId10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image" Target="../media/image29.gif"/><Relationship Id="rId4" Type="http://schemas.openxmlformats.org/officeDocument/2006/relationships/image" Target="../media/image30.wmf"/><Relationship Id="rId5" Type="http://schemas.openxmlformats.org/officeDocument/2006/relationships/image" Target="../media/image31.wmf"/><Relationship Id="rId6" Type="http://schemas.openxmlformats.org/officeDocument/2006/relationships/image" Target="../media/image32.jpeg"/><Relationship Id="rId7" Type="http://schemas.openxmlformats.org/officeDocument/2006/relationships/image" Target="../media/image33.jpe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5.png"/><Relationship Id="rId3" Type="http://schemas.openxmlformats.org/officeDocument/2006/relationships/image" Target="../media/image36.jpe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wmf"/><Relationship Id="rId5" Type="http://schemas.openxmlformats.org/officeDocument/2006/relationships/image" Target="../media/image40.jpe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1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2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image" Target="../media/image45.jpeg"/><Relationship Id="rId5" Type="http://schemas.openxmlformats.org/officeDocument/2006/relationships/image" Target="../media/image46.jpeg"/><Relationship Id="rId6" Type="http://schemas.openxmlformats.org/officeDocument/2006/relationships/image" Target="../media/image47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11280" y="1484280"/>
            <a:ext cx="7772400" cy="33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Классный час </a:t>
            </a:r>
            <a:br>
              <a:rPr sz="4800"/>
            </a:b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br>
              <a:rPr sz="4800"/>
            </a:br>
            <a:r>
              <a:rPr b="0" i="1" lang="ru-RU" sz="3600" spc="-1" strike="noStrike">
                <a:solidFill>
                  <a:srgbClr val="cc3300"/>
                </a:solidFill>
                <a:latin typeface="Arial"/>
              </a:rPr>
              <a:t>для учащихся начальной школ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03280" y="5300640"/>
            <a:ext cx="6400800" cy="9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39640" y="260280"/>
            <a:ext cx="79200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457200" y="25236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Казахстане  проводятся экологические акции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684360" y="1484280"/>
            <a:ext cx="7848360" cy="48466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8481960" y="63151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" y="1535040"/>
            <a:ext cx="404028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645080" y="1535040"/>
            <a:ext cx="40417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64508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08000" y="404640"/>
            <a:ext cx="4608360" cy="576108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tretch/>
        </p:blipFill>
        <p:spPr>
          <a:xfrm>
            <a:off x="4800600" y="404640"/>
            <a:ext cx="4321080" cy="57610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4"/>
          <a:stretch/>
        </p:blipFill>
        <p:spPr>
          <a:xfrm>
            <a:off x="8317080" y="615960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274680"/>
            <a:ext cx="9144000" cy="22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России проводится экологический фестиваль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«День Земли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645000"/>
            <a:ext cx="5761080" cy="21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Под девизом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003399"/>
                </a:solidFill>
                <a:latin typeface="Arial"/>
              </a:rPr>
              <a:t>«Цветущая Земля — процветающая Россия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spcBef>
                <a:spcPts val="7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"/>
          <p:cNvGrpSpPr/>
          <p:nvPr/>
        </p:nvGrpSpPr>
        <p:grpSpPr>
          <a:xfrm>
            <a:off x="6588000" y="1700280"/>
            <a:ext cx="1995480" cy="3887640"/>
            <a:chOff x="6588000" y="1700280"/>
            <a:chExt cx="1995480" cy="3887640"/>
          </a:xfrm>
        </p:grpSpPr>
        <p:pic>
          <p:nvPicPr>
            <p:cNvPr id="107" name="" descr=""/>
            <p:cNvPicPr/>
            <p:nvPr/>
          </p:nvPicPr>
          <p:blipFill>
            <a:blip r:embed="rId2"/>
            <a:stretch/>
          </p:blipFill>
          <p:spPr>
            <a:xfrm>
              <a:off x="6588000" y="1700280"/>
              <a:ext cx="1995480" cy="388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6588000" y="1700280"/>
              <a:ext cx="1995480" cy="388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274680"/>
            <a:ext cx="8686800" cy="164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 Северной Корее на улицах Сеула </a:t>
            </a:r>
            <a:br>
              <a:rPr sz="3600"/>
            </a:b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акция «Без автомоби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116000" y="1844640"/>
            <a:ext cx="6551640" cy="4440240"/>
            <a:chOff x="1116000" y="1844640"/>
            <a:chExt cx="6551640" cy="4440240"/>
          </a:xfrm>
        </p:grpSpPr>
        <p:pic>
          <p:nvPicPr>
            <p:cNvPr id="112" name="" descr=""/>
            <p:cNvPicPr/>
            <p:nvPr/>
          </p:nvPicPr>
          <p:blipFill>
            <a:blip r:embed="rId2"/>
            <a:stretch/>
          </p:blipFill>
          <p:spPr>
            <a:xfrm>
              <a:off x="1116000" y="1844640"/>
              <a:ext cx="6551640" cy="444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1116000" y="1844640"/>
              <a:ext cx="6551640" cy="4440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57200" y="96840"/>
            <a:ext cx="8228160" cy="1535040"/>
            <a:chOff x="457200" y="96840"/>
            <a:chExt cx="8228160" cy="1535040"/>
          </a:xfrm>
        </p:grpSpPr>
        <p:pic>
          <p:nvPicPr>
            <p:cNvPr id="116" name="" descr=""/>
            <p:cNvPicPr/>
            <p:nvPr/>
          </p:nvPicPr>
          <p:blipFill>
            <a:blip r:embed="rId2"/>
            <a:stretch/>
          </p:blipFill>
          <p:spPr>
            <a:xfrm>
              <a:off x="457200" y="96840"/>
              <a:ext cx="8228160" cy="153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457200" y="96840"/>
              <a:ext cx="8228160" cy="153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1835280" y="1484280"/>
            <a:ext cx="5473440" cy="451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1835280" y="1484280"/>
            <a:ext cx="5473440" cy="501336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4"/>
          <a:stretch/>
        </p:blipFill>
        <p:spPr>
          <a:xfrm>
            <a:off x="8388360" y="6243480"/>
            <a:ext cx="579600" cy="50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"/>
          <p:cNvGrpSpPr/>
          <p:nvPr/>
        </p:nvGrpSpPr>
        <p:grpSpPr>
          <a:xfrm>
            <a:off x="457200" y="274680"/>
            <a:ext cx="8228160" cy="1144440"/>
            <a:chOff x="457200" y="274680"/>
            <a:chExt cx="8228160" cy="1144440"/>
          </a:xfrm>
        </p:grpSpPr>
        <p:pic>
          <p:nvPicPr>
            <p:cNvPr id="12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14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3" name=""/>
            <p:cNvSpPr/>
            <p:nvPr/>
          </p:nvSpPr>
          <p:spPr>
            <a:xfrm>
              <a:off x="457200" y="274680"/>
              <a:ext cx="8228160" cy="114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4" name="" descr=""/>
          <p:cNvPicPr/>
          <p:nvPr/>
        </p:nvPicPr>
        <p:blipFill>
          <a:blip r:embed="rId3"/>
          <a:stretch/>
        </p:blipFill>
        <p:spPr>
          <a:xfrm>
            <a:off x="468360" y="2276640"/>
            <a:ext cx="2081160" cy="31208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4"/>
          <a:stretch/>
        </p:blipFill>
        <p:spPr>
          <a:xfrm>
            <a:off x="2916360" y="2021040"/>
            <a:ext cx="3657600" cy="242568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5"/>
          <a:stretch/>
        </p:blipFill>
        <p:spPr>
          <a:xfrm>
            <a:off x="1508040" y="189000"/>
            <a:ext cx="1698840" cy="183204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6"/>
          <a:stretch/>
        </p:blipFill>
        <p:spPr>
          <a:xfrm>
            <a:off x="7308720" y="0"/>
            <a:ext cx="1670040" cy="1828800"/>
          </a:xfrm>
          <a:prstGeom prst="rect">
            <a:avLst/>
          </a:prstGeom>
          <a:ln w="0">
            <a:noFill/>
          </a:ln>
        </p:spPr>
      </p:pic>
      <p:grpSp>
        <p:nvGrpSpPr>
          <p:cNvPr id="128" name=""/>
          <p:cNvGrpSpPr/>
          <p:nvPr/>
        </p:nvGrpSpPr>
        <p:grpSpPr>
          <a:xfrm>
            <a:off x="6945480" y="1989000"/>
            <a:ext cx="2014200" cy="2951280"/>
            <a:chOff x="6945480" y="1989000"/>
            <a:chExt cx="2014200" cy="2951280"/>
          </a:xfrm>
        </p:grpSpPr>
        <p:pic>
          <p:nvPicPr>
            <p:cNvPr id="129" name="" descr=""/>
            <p:cNvPicPr/>
            <p:nvPr/>
          </p:nvPicPr>
          <p:blipFill>
            <a:blip r:embed="rId7"/>
            <a:stretch/>
          </p:blipFill>
          <p:spPr>
            <a:xfrm>
              <a:off x="6945480" y="1989000"/>
              <a:ext cx="2014200" cy="2951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945480" y="1989000"/>
              <a:ext cx="2014200" cy="295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1" name="" descr=""/>
          <p:cNvPicPr/>
          <p:nvPr/>
        </p:nvPicPr>
        <p:blipFill>
          <a:blip r:embed="rId8"/>
          <a:stretch/>
        </p:blipFill>
        <p:spPr>
          <a:xfrm>
            <a:off x="3780000" y="4941720"/>
            <a:ext cx="2261880" cy="16639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9"/>
          <a:stretch/>
        </p:blipFill>
        <p:spPr>
          <a:xfrm>
            <a:off x="8399520" y="60991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457200" y="158760"/>
            <a:ext cx="8228160" cy="1528920"/>
            <a:chOff x="457200" y="158760"/>
            <a:chExt cx="8228160" cy="1528920"/>
          </a:xfrm>
        </p:grpSpPr>
        <p:pic>
          <p:nvPicPr>
            <p:cNvPr id="134" name="" descr=""/>
            <p:cNvPicPr/>
            <p:nvPr/>
          </p:nvPicPr>
          <p:blipFill>
            <a:blip r:embed="rId2"/>
            <a:stretch/>
          </p:blipFill>
          <p:spPr>
            <a:xfrm>
              <a:off x="457200" y="158760"/>
              <a:ext cx="8228160" cy="1528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57200" y="158760"/>
              <a:ext cx="8228160" cy="15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"/>
          <p:cNvSpPr/>
          <p:nvPr/>
        </p:nvSpPr>
        <p:spPr>
          <a:xfrm>
            <a:off x="3276720" y="5950080"/>
            <a:ext cx="54100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3"/>
          <a:stretch/>
        </p:blipFill>
        <p:spPr>
          <a:xfrm>
            <a:off x="3564000" y="4424400"/>
            <a:ext cx="2100240" cy="18334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826920" y="1916280"/>
            <a:ext cx="1787760" cy="139212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5"/>
          <a:stretch/>
        </p:blipFill>
        <p:spPr>
          <a:xfrm>
            <a:off x="6443640" y="2436840"/>
            <a:ext cx="2449440" cy="26654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6"/>
          <a:stretch/>
        </p:blipFill>
        <p:spPr>
          <a:xfrm>
            <a:off x="598320" y="3584520"/>
            <a:ext cx="2016360" cy="261612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7"/>
          <a:stretch/>
        </p:blipFill>
        <p:spPr>
          <a:xfrm>
            <a:off x="3462480" y="1576440"/>
            <a:ext cx="2592360" cy="17222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8"/>
          <a:stretch/>
        </p:blipFill>
        <p:spPr>
          <a:xfrm>
            <a:off x="8313840" y="620064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ff"/>
            </a:gs>
            <a:gs pos="50000">
              <a:srgbClr val="ffffff"/>
            </a:gs>
            <a:gs pos="100000">
              <a:srgbClr val="99ccff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828720" y="476280"/>
            <a:ext cx="7343640" cy="180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Физкультминутка-игра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1" strike="noStrike">
                <a:ln cap="sq" w="9360">
                  <a:solidFill>
                    <a:srgbClr val="ffff00"/>
                  </a:solidFill>
                  <a:miter/>
                </a:ln>
                <a:solidFill>
                  <a:srgbClr val="0000ff"/>
                </a:soli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«Если я приду в лесок»</a:t>
            </a:r>
            <a:endParaRPr b="0" lang="en-US" sz="1800" spc="1" strike="noStrike">
              <a:ln cap="sq" w="9360">
                <a:solidFill>
                  <a:srgbClr val="ffff00"/>
                </a:solidFill>
                <a:miter/>
              </a:ln>
              <a:solidFill>
                <a:srgbClr val="0000ff"/>
              </a:soli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8248680" y="5843520"/>
            <a:ext cx="579240" cy="50652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1258920" y="2492280"/>
            <a:ext cx="6481800" cy="41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231840"/>
            <a:ext cx="8228160" cy="1314360"/>
            <a:chOff x="457200" y="231840"/>
            <a:chExt cx="8228160" cy="1314360"/>
          </a:xfrm>
        </p:grpSpPr>
        <p:pic>
          <p:nvPicPr>
            <p:cNvPr id="147" name="" descr=""/>
            <p:cNvPicPr/>
            <p:nvPr/>
          </p:nvPicPr>
          <p:blipFill>
            <a:blip r:embed="rId2"/>
            <a:stretch/>
          </p:blipFill>
          <p:spPr>
            <a:xfrm>
              <a:off x="457200" y="231840"/>
              <a:ext cx="8228160" cy="1314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"/>
            <p:cNvSpPr/>
            <p:nvPr/>
          </p:nvSpPr>
          <p:spPr>
            <a:xfrm>
              <a:off x="457200" y="231840"/>
              <a:ext cx="8228160" cy="131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611280" y="1341360"/>
            <a:ext cx="7921440" cy="496728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8244000" y="6308640"/>
            <a:ext cx="5778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1" name=""/>
          <p:cNvGrpSpPr/>
          <p:nvPr/>
        </p:nvGrpSpPr>
        <p:grpSpPr>
          <a:xfrm>
            <a:off x="457200" y="274680"/>
            <a:ext cx="8228160" cy="1326960"/>
            <a:chOff x="457200" y="274680"/>
            <a:chExt cx="8228160" cy="1326960"/>
          </a:xfrm>
        </p:grpSpPr>
        <p:pic>
          <p:nvPicPr>
            <p:cNvPr id="15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8160" cy="132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457200" y="274680"/>
              <a:ext cx="8228160" cy="1326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140360" y="2924280"/>
            <a:ext cx="4572000" cy="34272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1414440" y="1628640"/>
            <a:ext cx="1825560" cy="1725840"/>
          </a:xfrm>
          <a:prstGeom prst="rect">
            <a:avLst/>
          </a:prstGeom>
          <a:ln w="0">
            <a:noFill/>
          </a:ln>
        </p:spPr>
      </p:pic>
      <p:pic>
        <p:nvPicPr>
          <p:cNvPr id="156" name="" descr=""/>
          <p:cNvPicPr/>
          <p:nvPr/>
        </p:nvPicPr>
        <p:blipFill>
          <a:blip r:embed="rId5"/>
          <a:stretch/>
        </p:blipFill>
        <p:spPr>
          <a:xfrm>
            <a:off x="395280" y="3789360"/>
            <a:ext cx="3657600" cy="241920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6"/>
          <a:stretch/>
        </p:blipFill>
        <p:spPr>
          <a:xfrm>
            <a:off x="8421840" y="6329520"/>
            <a:ext cx="579240" cy="50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2408400" y="268200"/>
            <a:ext cx="4297320" cy="1524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Благополучие и процветание Земли в Ваших руках, ребята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1476360" y="1978200"/>
            <a:ext cx="6262560" cy="3752640"/>
            <a:chOff x="1476360" y="1978200"/>
            <a:chExt cx="6262560" cy="3752640"/>
          </a:xfrm>
        </p:grpSpPr>
        <p:pic>
          <p:nvPicPr>
            <p:cNvPr id="161" name="" descr=""/>
            <p:cNvPicPr/>
            <p:nvPr/>
          </p:nvPicPr>
          <p:blipFill>
            <a:blip r:embed="rId2"/>
            <a:stretch/>
          </p:blipFill>
          <p:spPr>
            <a:xfrm>
              <a:off x="1476360" y="1978200"/>
              <a:ext cx="6262560" cy="3752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1476360" y="1978200"/>
              <a:ext cx="6262560" cy="37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24000" y="333360"/>
            <a:ext cx="8569080" cy="336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рогая планета, Земля!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оздравляем тебя с праздником!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Прости нас за наши ошиб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Мы обещаем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сохранить твою красоту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2771640" y="3213000"/>
            <a:ext cx="3382920" cy="3373560"/>
            <a:chOff x="2771640" y="3213000"/>
            <a:chExt cx="3382920" cy="3373560"/>
          </a:xfrm>
        </p:grpSpPr>
        <p:pic>
          <p:nvPicPr>
            <p:cNvPr id="165" name="" descr=""/>
            <p:cNvPicPr/>
            <p:nvPr/>
          </p:nvPicPr>
          <p:blipFill>
            <a:blip r:embed="rId2"/>
            <a:stretch/>
          </p:blipFill>
          <p:spPr>
            <a:xfrm>
              <a:off x="2771640" y="3213000"/>
              <a:ext cx="3382920" cy="3373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6" name=""/>
            <p:cNvSpPr/>
            <p:nvPr/>
          </p:nvSpPr>
          <p:spPr>
            <a:xfrm>
              <a:off x="2771640" y="3213000"/>
              <a:ext cx="3382920" cy="337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7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Подведём итог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1125360"/>
            <a:ext cx="8229600" cy="573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му празднику был посвящён классный час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Назовите цель праздни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огда он отмечается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ой знак является символом праздника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изображено на флаге Земли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Какие мероприятия проводятся в Казахстане и других странах к этому празднику - «День Земли»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Что мы с Вами можем сделать в деле защиты окружающей среды?</a:t>
            </a:r>
            <a:br>
              <a:rPr sz="2800"/>
            </a:b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7" dur="2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10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" dur="2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" dur="1000" fill="hold"/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" dur="2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1000" fill="hold"/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4" dur="2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1000" fill="hold"/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1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43" dur="2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1000" fill="hold"/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2" dur="2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1000" fill="hold"/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dur="indefinite" nodeType="click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9" dur="indefinite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61" dur="2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6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1000" fill="hold"/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ДОМАШНЕЕ ЗАДАНИЕ</a:t>
            </a: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50920" y="1268280"/>
            <a:ext cx="8569080" cy="437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ластиковые бутылки самый распространенный, наразрушаемый бактериями, вид мусора, который лежит на земле более 100 лет. Давайте же сделаем что-то полезное из них, чтобы бутылки выкидывали как можно меньш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spcBef>
                <a:spcPts val="9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Arial"/>
              </a:rPr>
              <a:t>Сделать поделки из пластиковых бутыл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44000" y="6080040"/>
            <a:ext cx="4428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50920" y="404640"/>
            <a:ext cx="4248000" cy="2903760"/>
            <a:chOff x="250920" y="404640"/>
            <a:chExt cx="4248000" cy="2903760"/>
          </a:xfrm>
        </p:grpSpPr>
        <p:pic>
          <p:nvPicPr>
            <p:cNvPr id="177" name="" descr=""/>
            <p:cNvPicPr/>
            <p:nvPr/>
          </p:nvPicPr>
          <p:blipFill>
            <a:blip r:embed="rId2"/>
            <a:stretch/>
          </p:blipFill>
          <p:spPr>
            <a:xfrm>
              <a:off x="250920" y="404640"/>
              <a:ext cx="4248000" cy="290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8" name=""/>
            <p:cNvSpPr/>
            <p:nvPr/>
          </p:nvSpPr>
          <p:spPr>
            <a:xfrm>
              <a:off x="250920" y="404640"/>
              <a:ext cx="4248000" cy="290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79" name="" descr=""/>
          <p:cNvPicPr/>
          <p:nvPr/>
        </p:nvPicPr>
        <p:blipFill>
          <a:blip r:embed="rId3"/>
          <a:stretch/>
        </p:blipFill>
        <p:spPr>
          <a:xfrm>
            <a:off x="4984920" y="290520"/>
            <a:ext cx="3809880" cy="257184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4"/>
          <a:stretch/>
        </p:blipFill>
        <p:spPr>
          <a:xfrm>
            <a:off x="971640" y="364500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1" name="" descr=""/>
          <p:cNvPicPr/>
          <p:nvPr/>
        </p:nvPicPr>
        <p:blipFill>
          <a:blip r:embed="rId5"/>
          <a:stretch/>
        </p:blipFill>
        <p:spPr>
          <a:xfrm>
            <a:off x="6246720" y="3673440"/>
            <a:ext cx="2286000" cy="228600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6"/>
          <a:stretch/>
        </p:blipFill>
        <p:spPr>
          <a:xfrm>
            <a:off x="3635280" y="2717640"/>
            <a:ext cx="228600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24000" y="189000"/>
            <a:ext cx="6335640" cy="267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3200" spc="-1" strike="noStrike">
                <a:solidFill>
                  <a:srgbClr val="cc3300"/>
                </a:solidFill>
                <a:latin typeface="Arial"/>
              </a:rPr>
              <a:t>День Земли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о гражданская инициатива, которая призвана объединять всё население планеты в деле защиты окружающей среды</a:t>
            </a:r>
            <a:br>
              <a:rPr sz="2800"/>
            </a:br>
            <a:br>
              <a:rPr sz="20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6732720" y="404640"/>
            <a:ext cx="2158920" cy="2159280"/>
            <a:chOff x="6732720" y="404640"/>
            <a:chExt cx="2158920" cy="2159280"/>
          </a:xfrm>
        </p:grpSpPr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6732720" y="404640"/>
              <a:ext cx="2158920" cy="21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6732720" y="404640"/>
              <a:ext cx="2158920" cy="21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324000" y="2997360"/>
            <a:ext cx="3887640" cy="259236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4051440" y="3027240"/>
            <a:ext cx="5076720" cy="31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ервая всемирная акц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«День Земли»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1640" algn="ctr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3080"/>
                <a:tab algn="l" pos="1257480"/>
                <a:tab algn="l" pos="2171880"/>
                <a:tab algn="l" pos="3086280"/>
                <a:tab algn="l" pos="4000680"/>
                <a:tab algn="l" pos="4915080"/>
                <a:tab algn="l" pos="5829480"/>
                <a:tab algn="l" pos="6743880"/>
                <a:tab algn="l" pos="7658280"/>
                <a:tab algn="l" pos="8572680"/>
                <a:tab algn="l" pos="9487080"/>
                <a:tab algn="l" pos="10401480"/>
                <a:tab algn="l" pos="1078236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прошла в США 22 апреля 1970 года, в  память об экологической катастрофе на территории США в 1969 г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260280"/>
            <a:ext cx="822960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cc3300"/>
                </a:solidFill>
                <a:latin typeface="Arial"/>
              </a:rPr>
              <a:t>Международный день Земли</a:t>
            </a: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провозглашен Генеральным секретарем ООН в марте 1971 года. Отмечается ежегодно в день весеннего равноденствия 22 апреля 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2843280" y="2103480"/>
            <a:ext cx="3598920" cy="3959280"/>
            <a:chOff x="2843280" y="2103480"/>
            <a:chExt cx="3598920" cy="3959280"/>
          </a:xfrm>
        </p:grpSpPr>
        <p:pic>
          <p:nvPicPr>
            <p:cNvPr id="57" name="" descr=""/>
            <p:cNvPicPr/>
            <p:nvPr/>
          </p:nvPicPr>
          <p:blipFill>
            <a:blip r:embed="rId2"/>
            <a:stretch/>
          </p:blipFill>
          <p:spPr>
            <a:xfrm>
              <a:off x="2843280" y="2103480"/>
              <a:ext cx="3598920" cy="395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2843280" y="2103480"/>
              <a:ext cx="3598920" cy="395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68360" y="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600" spc="-1" strike="noStrike">
                <a:solidFill>
                  <a:srgbClr val="cc3300"/>
                </a:solidFill>
                <a:latin typeface="Arial"/>
              </a:rPr>
              <a:t>Всемирное движе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0" y="880920"/>
            <a:ext cx="4788000" cy="59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о многих странах проходят праздничные мероприятия и акции, призывающие обратить внимание на проблемы эколо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а сегодняшний день, 147 стран мира зарегистрированы во Всемирном движении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4859280" y="1628640"/>
            <a:ext cx="3843360" cy="3830760"/>
            <a:chOff x="4859280" y="1628640"/>
            <a:chExt cx="3843360" cy="3830760"/>
          </a:xfrm>
        </p:grpSpPr>
        <p:pic>
          <p:nvPicPr>
            <p:cNvPr id="62" name="" descr=""/>
            <p:cNvPicPr/>
            <p:nvPr/>
          </p:nvPicPr>
          <p:blipFill>
            <a:blip r:embed="rId2"/>
            <a:stretch/>
          </p:blipFill>
          <p:spPr>
            <a:xfrm>
              <a:off x="4859280" y="1628640"/>
              <a:ext cx="3843360" cy="383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4859280" y="1628640"/>
              <a:ext cx="3843360" cy="38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800" spc="-1" strike="noStrike">
                <a:solidFill>
                  <a:srgbClr val="cc3300"/>
                </a:solidFill>
                <a:latin typeface="Arial"/>
              </a:rPr>
              <a:t>Символ Дня Земл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68360" y="2565360"/>
            <a:ext cx="4753080" cy="31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 algn="ctr">
              <a:spcBef>
                <a:spcPts val="10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000" spc="-1" strike="noStrike">
                <a:solidFill>
                  <a:srgbClr val="003399"/>
                </a:solidFill>
                <a:latin typeface="Arial"/>
              </a:rPr>
              <a:t>Зелёная греческая буква Θ на белом фон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300720" y="3068640"/>
            <a:ext cx="1152720" cy="1655640"/>
          </a:xfrm>
          <a:prstGeom prst="rect">
            <a:avLst/>
          </a:prstGeom>
          <a:solidFill>
            <a:srgbClr val="ffffff"/>
          </a:solidFill>
          <a:ln cap="sq" w="76320">
            <a:solidFill>
              <a:srgbClr val="003399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2401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0" lang="ru-RU" sz="9600" spc="-1" strike="noStrike">
                <a:solidFill>
                  <a:srgbClr val="008000"/>
                </a:solidFill>
                <a:latin typeface="Arial"/>
              </a:rPr>
              <a:t>Θ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8172360" y="6165720"/>
            <a:ext cx="57960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684360" y="404640"/>
            <a:ext cx="54831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Флаг Земл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24000" y="1268280"/>
            <a:ext cx="860400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вязан с Днем Земли и многими другими природоохранными, миротворческими международными мероприятиям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не является официальным символом чего-либо, поскольку не существует общепланетного правительства или государств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33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снимок планеты Земля, изображенный на флаге, сделан астронавтами космичечкого корабля «Аполлон-17» по дороге к Луне.</a:t>
            </a:r>
            <a:r>
              <a:rPr b="0" lang="ru-RU" sz="2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5796000" y="189000"/>
            <a:ext cx="2012760" cy="1226880"/>
            <a:chOff x="5796000" y="189000"/>
            <a:chExt cx="2012760" cy="1226880"/>
          </a:xfrm>
        </p:grpSpPr>
        <p:pic>
          <p:nvPicPr>
            <p:cNvPr id="72" name="" descr=""/>
            <p:cNvPicPr/>
            <p:nvPr/>
          </p:nvPicPr>
          <p:blipFill>
            <a:blip r:embed="rId2"/>
            <a:srcRect l="14122" t="-4315" r="13580" b="-5858"/>
            <a:stretch/>
          </p:blipFill>
          <p:spPr>
            <a:xfrm>
              <a:off x="5796000" y="189000"/>
              <a:ext cx="2012760" cy="122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" name=""/>
            <p:cNvSpPr/>
            <p:nvPr/>
          </p:nvSpPr>
          <p:spPr>
            <a:xfrm>
              <a:off x="5796000" y="189000"/>
              <a:ext cx="2012760" cy="1226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4" name="" descr=""/>
          <p:cNvPicPr/>
          <p:nvPr/>
        </p:nvPicPr>
        <p:blipFill>
          <a:blip r:embed="rId3"/>
          <a:stretch/>
        </p:blipFill>
        <p:spPr>
          <a:xfrm>
            <a:off x="8317080" y="6165720"/>
            <a:ext cx="579240" cy="506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cc3300"/>
                </a:solidFill>
                <a:latin typeface="Arial"/>
              </a:rPr>
              <a:t>Колокол Мир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68360" y="3860640"/>
            <a:ext cx="8147160" cy="24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Arial"/>
              </a:rPr>
              <a:t>В День Земли в разных странах по традиции звучит Колокол Мира, призывая людей Земли приложить усилия к защите мира на планете и сохранению красоты нашего общего до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" name=""/>
          <p:cNvGrpSpPr/>
          <p:nvPr/>
        </p:nvGrpSpPr>
        <p:grpSpPr>
          <a:xfrm>
            <a:off x="5148360" y="1413000"/>
            <a:ext cx="2878200" cy="2162160"/>
            <a:chOff x="5148360" y="1413000"/>
            <a:chExt cx="2878200" cy="2162160"/>
          </a:xfrm>
        </p:grpSpPr>
        <p:pic>
          <p:nvPicPr>
            <p:cNvPr id="78" name="" descr=""/>
            <p:cNvPicPr/>
            <p:nvPr/>
          </p:nvPicPr>
          <p:blipFill>
            <a:blip r:embed="rId2"/>
            <a:stretch/>
          </p:blipFill>
          <p:spPr>
            <a:xfrm>
              <a:off x="5148360" y="1413000"/>
              <a:ext cx="2878200" cy="2162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5148360" y="1413000"/>
              <a:ext cx="2878200" cy="2162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1258920" y="1413000"/>
            <a:ext cx="2862360" cy="2149200"/>
            <a:chOff x="1258920" y="1413000"/>
            <a:chExt cx="2862360" cy="2149200"/>
          </a:xfrm>
        </p:grpSpPr>
        <p:pic>
          <p:nvPicPr>
            <p:cNvPr id="81" name="" descr=""/>
            <p:cNvPicPr/>
            <p:nvPr/>
          </p:nvPicPr>
          <p:blipFill>
            <a:blip r:embed="rId3"/>
            <a:stretch/>
          </p:blipFill>
          <p:spPr>
            <a:xfrm>
              <a:off x="1258920" y="1413000"/>
              <a:ext cx="2862360" cy="2149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" name=""/>
            <p:cNvSpPr/>
            <p:nvPr/>
          </p:nvSpPr>
          <p:spPr>
            <a:xfrm>
              <a:off x="1258920" y="1413000"/>
              <a:ext cx="2862360" cy="2149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3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4"/>
          <a:stretch/>
        </p:blipFill>
        <p:spPr>
          <a:xfrm>
            <a:off x="8209080" y="260280"/>
            <a:ext cx="609480" cy="60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716360" y="260280"/>
            <a:ext cx="4186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000" spc="-1" strike="noStrike">
                <a:solidFill>
                  <a:srgbClr val="cc3300"/>
                </a:solidFill>
                <a:latin typeface="Arial"/>
              </a:rPr>
              <a:t>Традици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932360" y="1268280"/>
            <a:ext cx="4038480" cy="51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416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2960"/>
                <a:tab algn="l" pos="1827360"/>
                <a:tab algn="l" pos="2741760"/>
                <a:tab algn="l" pos="3656160"/>
                <a:tab algn="l" pos="4570560"/>
                <a:tab algn="l" pos="5484960"/>
                <a:tab algn="l" pos="6399360"/>
                <a:tab algn="l" pos="7313760"/>
                <a:tab algn="l" pos="8228160"/>
                <a:tab algn="l" pos="9142560"/>
                <a:tab algn="l" pos="100569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В этот день все желающие принимают участие в благоустройстве и озеленении своих дворов и улиц, в различных экологических мероприятиях, фестивалях и акциях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395280" y="549360"/>
            <a:ext cx="4070520" cy="5830920"/>
            <a:chOff x="395280" y="549360"/>
            <a:chExt cx="4070520" cy="5830920"/>
          </a:xfrm>
        </p:grpSpPr>
        <p:pic>
          <p:nvPicPr>
            <p:cNvPr id="88" name="" descr=""/>
            <p:cNvPicPr/>
            <p:nvPr/>
          </p:nvPicPr>
          <p:blipFill>
            <a:blip r:embed="rId2"/>
            <a:stretch/>
          </p:blipFill>
          <p:spPr>
            <a:xfrm>
              <a:off x="395280" y="549360"/>
              <a:ext cx="4070520" cy="583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>
              <a:off x="395280" y="549360"/>
              <a:ext cx="4070520" cy="583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0" name="">
            <a:hlinkClick r:id="" action="ppaction://hlinkshowjump?jump=nextslide"/>
          </p:cNvPr>
          <p:cNvSpPr/>
          <p:nvPr/>
        </p:nvSpPr>
        <p:spPr>
          <a:xfrm>
            <a:off x="8244000" y="6093000"/>
            <a:ext cx="576000" cy="504720"/>
          </a:xfrm>
          <a:custGeom>
            <a:avLst/>
            <a:gdLst>
              <a:gd name="textAreaLeft" fmla="*/ 32400 w 576000"/>
              <a:gd name="textAreaRight" fmla="*/ 543600 w 576000"/>
              <a:gd name="textAreaTop" fmla="*/ 32400 h 504720"/>
              <a:gd name="textAreaBottom" fmla="*/ 472320 h 504720"/>
            </a:gdLst>
            <a:ahLst/>
            <a:rect l="textAreaLeft" t="textAreaTop" r="textAreaRight" b="textAreaBottom"/>
            <a:pathLst>
              <a:path w="24648" h="21600">
                <a:moveTo>
                  <a:pt x="0" y="0"/>
                </a:moveTo>
                <a:lnTo>
                  <a:pt x="24648" y="0"/>
                </a:lnTo>
                <a:lnTo>
                  <a:pt x="24648" y="21600"/>
                </a:lnTo>
                <a:lnTo>
                  <a:pt x="0" y="21600"/>
                </a:lnTo>
                <a:close/>
              </a:path>
              <a:path fill="lightenLess" w="24648" h="21600">
                <a:moveTo>
                  <a:pt x="0" y="0"/>
                </a:moveTo>
                <a:lnTo>
                  <a:pt x="24648" y="0"/>
                </a:lnTo>
                <a:lnTo>
                  <a:pt x="23248" y="1400"/>
                </a:lnTo>
                <a:lnTo>
                  <a:pt x="1400" y="1400"/>
                </a:lnTo>
                <a:close/>
              </a:path>
              <a:path fill="darken" w="24648" h="21600">
                <a:moveTo>
                  <a:pt x="24648" y="0"/>
                </a:moveTo>
                <a:lnTo>
                  <a:pt x="24648" y="21600"/>
                </a:lnTo>
                <a:lnTo>
                  <a:pt x="23248" y="20200"/>
                </a:lnTo>
                <a:lnTo>
                  <a:pt x="23248" y="1400"/>
                </a:lnTo>
                <a:close/>
              </a:path>
              <a:path fill="darkenLess" w="24648" h="21600">
                <a:moveTo>
                  <a:pt x="246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48" y="20200"/>
                </a:lnTo>
                <a:close/>
              </a:path>
              <a:path fill="lighten" w="246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48" h="21600">
                <a:moveTo>
                  <a:pt x="5318" y="3794"/>
                </a:moveTo>
                <a:lnTo>
                  <a:pt x="19331" y="10800"/>
                </a:lnTo>
                <a:lnTo>
                  <a:pt x="5318" y="17806"/>
                </a:lnTo>
                <a:close/>
              </a:path>
            </a:pathLst>
          </a:cu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01T14:25:43Z</dcterms:created>
  <dc:creator>Елена</dc:creator>
  <dc:description/>
  <dc:language>en-US</dc:language>
  <cp:lastModifiedBy>Раушан</cp:lastModifiedBy>
  <dcterms:modified xsi:type="dcterms:W3CDTF">2013-04-16T15:06:23Z</dcterms:modified>
  <cp:revision>240</cp:revision>
  <dc:subject/>
  <dc:title>День Земли</dc:title>
</cp:coreProperties>
</file>