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8.jpeg" ContentType="image/jpeg"/>
  <Override PartName="/ppt/media/image30.png" ContentType="image/pn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99A3-037D-422A-BD6F-95C061ABD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F742-3951-490C-A986-A7B926C07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5AEF-BAE5-4538-8716-8CDB4F8A2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4A87-3041-4004-A155-CFADC54592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F39A-5CEB-4764-83E3-47E8E8A43E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519C-13B6-49B4-9353-D4F2C54C5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E445-34EC-4BD0-A9CB-59D68BD46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C960-A3E7-455B-9A7F-4700637F0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E44F-36B5-4D6B-9BD7-536A79AEF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F43A-DD43-4C50-92D5-D954F0EB4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A2F9-2173-4625-AA69-69FB32572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8DD5-3B82-49AA-8C06-1E8351A55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D71D05-8290-40E0-A45A-3D9E6758A181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ving-wood.ru/i/lojkah/3.jpg" TargetMode="External"/><Relationship Id="rId3" Type="http://schemas.openxmlformats.org/officeDocument/2006/relationships/hyperlink" Target="http://carving-wood.ru/i/lojkah/1.jpg" TargetMode="External"/><Relationship Id="rId4" Type="http://schemas.openxmlformats.org/officeDocument/2006/relationships/hyperlink" Target="http://carving-wood.ru/i/lojka/23.jpg" TargetMode="External"/><Relationship Id="rId5" Type="http://schemas.openxmlformats.org/officeDocument/2006/relationships/hyperlink" Target="http://dreamreflex.ru/wp-content/uploads/2010/12/logka.jpg" TargetMode="External"/><Relationship Id="rId6" Type="http://schemas.openxmlformats.org/officeDocument/2006/relationships/hyperlink" Target="http://www.ampho.ru/images/items/1775.jpg" TargetMode="External"/><Relationship Id="rId7" Type="http://schemas.openxmlformats.org/officeDocument/2006/relationships/hyperlink" Target="http://images04.olx.ru/ui/1/21/86/12041586_2.jpg" TargetMode="External"/><Relationship Id="rId8" Type="http://schemas.openxmlformats.org/officeDocument/2006/relationships/hyperlink" Target="http://natazhko.com/page/2/" TargetMode="External"/><Relationship Id="rId9" Type="http://schemas.openxmlformats.org/officeDocument/2006/relationships/hyperlink" Target="http://www.vix.ru/44617-1/antique_wooden_1728.png" TargetMode="External"/><Relationship Id="rId10" Type="http://schemas.openxmlformats.org/officeDocument/2006/relationships/hyperlink" Target="http://all.shop.onona.su/users/Major-show/" TargetMode="External"/><Relationship Id="rId11" Type="http://schemas.openxmlformats.org/officeDocument/2006/relationships/hyperlink" Target="http://pics.photographer.ru/pictures/19193.jpg" TargetMode="External"/><Relationship Id="rId12" Type="http://schemas.openxmlformats.org/officeDocument/2006/relationships/hyperlink" Target="http://www.rus-biography.ru/downloadsImage/image-beN343-russia-biography.jpg" TargetMode="External"/><Relationship Id="rId13" Type="http://schemas.openxmlformats.org/officeDocument/2006/relationships/hyperlink" Target="http://www.by-hand.ru/all_image/recipe_pictures/27/27127/rp27127_large.jpg" TargetMode="External"/><Relationship Id="rId14" Type="http://schemas.openxmlformats.org/officeDocument/2006/relationships/hyperlink" Target="http://hrorek.users.photofile.ru/photo/hrorek/308682/xlarge/57578409.jpg" TargetMode="External"/><Relationship Id="rId15" Type="http://schemas.openxmlformats.org/officeDocument/2006/relationships/hyperlink" Target="http://img-fotki.yandex.ru/get/6003/nin-bratkina.1c/0_69a94_a8afcb87_XL" TargetMode="External"/><Relationship Id="rId16" Type="http://schemas.openxmlformats.org/officeDocument/2006/relationships/hyperlink" Target="http://www.russouvenir.ru/IMG_0739.jpg" TargetMode="External"/><Relationship Id="rId17" Type="http://schemas.openxmlformats.org/officeDocument/2006/relationships/hyperlink" Target="http://www.posezonam.ru/img/big/299_big.jpg" TargetMode="External"/><Relationship Id="rId18" Type="http://schemas.openxmlformats.org/officeDocument/2006/relationships/hyperlink" Target="http://www.giftspark.ru/shop/images/294_big.jpg" TargetMode="External"/><Relationship Id="rId19" Type="http://schemas.openxmlformats.org/officeDocument/2006/relationships/hyperlink" Target="http://www.rezbaderevo.ru/foto_big.php?izd_id=427" TargetMode="External"/><Relationship Id="rId20" Type="http://schemas.openxmlformats.org/officeDocument/2006/relationships/hyperlink" Target="http://anufriev.moy.su/forum/35-113-1" TargetMode="External"/><Relationship Id="rId21" Type="http://schemas.openxmlformats.org/officeDocument/2006/relationships/hyperlink" Target="http://www.doskaurala.ru/index.php?id=10403857595" TargetMode="External"/><Relationship Id="rId22" Type="http://schemas.openxmlformats.org/officeDocument/2006/relationships/hyperlink" Target="http://labelme.csail.mit.edu/Images/sandbox/mt_static_submitted_Ehsan_Jahangiri_wood_spoon_feb_2011/3336.jpg" TargetMode="External"/><Relationship Id="rId23" Type="http://schemas.openxmlformats.org/officeDocument/2006/relationships/hyperlink" Target="http://img-fotki.yandex.ru/get/4011/shorann.30/0_4c60a_e37ded33_L" TargetMode="External"/><Relationship Id="rId24" Type="http://schemas.openxmlformats.org/officeDocument/2006/relationships/hyperlink" Target="http://www.mamochki22.ru/forum/uploads/1270908484/med_gallery_2906_26_100417.jpg" TargetMode="External"/><Relationship Id="rId25" Type="http://schemas.openxmlformats.org/officeDocument/2006/relationships/hyperlink" Target="http://www.posusecam.ru/uploads/products/images/232.jpg" TargetMode="External"/><Relationship Id="rId26" Type="http://schemas.openxmlformats.org/officeDocument/2006/relationships/hyperlink" Target="http://homeflowers.ru/yabbse/uploads/post-2307-1229946983.jpg" TargetMode="External"/><Relationship Id="rId27" Type="http://schemas.openxmlformats.org/officeDocument/2006/relationships/hyperlink" Target="http://www.nkj.ru/upload/iblock/b41/b41f18e30bdf41da36bedbc1ae65f3b2.JPG" TargetMode="External"/><Relationship Id="rId28" Type="http://schemas.openxmlformats.org/officeDocument/2006/relationships/hyperlink" Target="http://www.kulturologia.ru/files/u1866/18668727.jpg" TargetMode="External"/><Relationship Id="rId29" Type="http://schemas.openxmlformats.org/officeDocument/2006/relationships/hyperlink" Target="http://www.northbayforge.com/sergey/sergey2.jpg" TargetMode="External"/><Relationship Id="rId30" Type="http://schemas.openxmlformats.org/officeDocument/2006/relationships/hyperlink" Target="http://www.rezbaderevo.ru/images/w_100976_1.jpg" TargetMode="External"/><Relationship Id="rId31" Type="http://schemas.openxmlformats.org/officeDocument/2006/relationships/hyperlink" Target="http://vk-uzor.ru/photos/dir_0/photo_932_m.jpg" TargetMode="External"/><Relationship Id="rId32" Type="http://schemas.openxmlformats.org/officeDocument/2006/relationships/hyperlink" Target="http://www.dvernoi-master.ru/images/narodnoe5.png" TargetMode="External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46240" cy="306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6280"/>
            <a:ext cx="91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 уже в древности считалась символом сытости, благосостояния и довольства.. Её вырезали из бе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дра, липы, клёна и других деревьев- «доноров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72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87200"/>
            <a:ext cx="5185080" cy="518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1640" y="5305320"/>
            <a:ext cx="41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разные бываю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них порой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вают ритм та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 пляс пойдёт лю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тушья барабанкаПростейший 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216080"/>
            <a:ext cx="6912000" cy="532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9080" y="325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000" y="2588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ушья барабанка – простейший ударный инстру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ее применявшийся пастухами как сигн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1480" cy="6041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59280" y="40464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ожки просто сделать куклу или разнообразных персонажей для кукольного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333360"/>
            <a:ext cx="94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Ложкарной столицей" России  называют в народе город Семёнов, что находится в глубине керженских лесов Нижегород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83040" cy="53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26744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0" r="0" b="607"/>
          <a:stretch/>
        </p:blipFill>
        <p:spPr>
          <a:xfrm>
            <a:off x="2052720" y="-244440"/>
            <a:ext cx="6769080" cy="465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1271520"/>
            <a:ext cx="5722920" cy="44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-396720" y="0"/>
            <a:ext cx="2539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763640" y="2085840"/>
            <a:ext cx="6373800" cy="477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5080" y="47628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янные ложки, разнообразные по форм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ый русский сувен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356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4140360" cy="626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0"/>
            <a:ext cx="849600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arving-wood.ru/i/lojkah/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arving-wood.ru/i/lojkah/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carving-wood.ru/i/lojka/2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dreamreflex.ru/wp-content/uploads/2010/12/log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ampho.ru/images/items/17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ages04.olx.ru/ui/1/21/86/12041586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tazhko.com/page/2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vix.ru/44617-1/antique_wooden_172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all.shop.onona.su/users/Major-sh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pics.photographer.ru/pictures/191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www.rus-biography.ru/downloadsImage/image-beN343-russia-biograph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www.by-hand.ru/all_image/recipe_pictures/27/27127/rp27127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hrorek.users.photofile.ru/photo/hrorek/308682/xlarge/575784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ttp://img-fotki.yandex.ru/get/6003/nin-bratkina.1c/0_69a94_a8afcb87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http://www.russouvenir.ru/IMG_07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://www.posezonam.ru/img/big/299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http://www.giftspark.ru/shop/images/294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www.rezbaderevo.ru/foto_big.php?izd_id=4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anufriev.moy.su/forum/35-11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www.doskaurala.ru/index.php?id=104038575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labelme.csail.mit.edu/Images/sandbox/mt_static_submitted_Ehsan_Jahangiri_wood_spoon_feb_2011/33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http://img-fotki.yandex.ru/get/4011/shorann.30/0_4c60a_e37ded33_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http://www.mamochki22.ru/forum/uploads/1270908484/med_gallery_2906_26_1004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tp://www.posusecam.ru/uploads/products/images/23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http://homeflowers.ru/yabbse/uploads/post-2307-12299469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http://www.nkj.ru/upload/iblock/b41/b41f18e30bdf41da36bedbc1ae65f3b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http://www.kulturologia.ru/files/u1866/186687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http://www.northbayforge.com/sergey/sergey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http://www.rezbaderevo.ru/images/w_100976_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http://vk-uzor.ru/photos/dir_0/photo_932_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http://www.dvernoi-master.ru/images/narodnoe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978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926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05240" cy="568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09300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рный промысел был распространён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474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66320" cy="690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667640" cy="48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040" y="4744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мая - Пелаг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лагею, рубили дерево на выделку ло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апреля – Международный день л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72160" y="593640"/>
            <a:ext cx="347184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4400" y="189000"/>
            <a:ext cx="67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любили украшать резьбой и роспис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437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52000" cy="561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 часто носили при себе в особых футля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просто за поясом или голенищем сап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9665" t="0" r="10122" b="0"/>
          <a:stretch/>
        </p:blipFill>
        <p:spPr>
          <a:xfrm>
            <a:off x="5506920" y="766800"/>
            <a:ext cx="3878280" cy="5661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3708" t="31768" r="7657" b="24499"/>
          <a:stretch/>
        </p:blipFill>
        <p:spPr>
          <a:xfrm>
            <a:off x="6373800" y="1628640"/>
            <a:ext cx="1728720" cy="468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572436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6520" y="33336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рашенные ложки используют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184644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2888" t="14859" r="17787" b="5846"/>
          <a:stretch/>
        </p:blipFill>
        <p:spPr>
          <a:xfrm>
            <a:off x="1333440" y="979560"/>
            <a:ext cx="3227400" cy="352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68720" y="3714840"/>
            <a:ext cx="41767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3840" y="4006800"/>
            <a:ext cx="4681440" cy="169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872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ные ложки – праздничные, носят подарочный характер. Они  расписаны сказочными цветами и травами. Блеск золота и киновари на них воспринимаются как драгоценность, ассоциировался с царственной роскош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PC</cp:lastModifiedBy>
  <dcterms:modified xsi:type="dcterms:W3CDTF">2013-05-30T14:13:50Z</dcterms:modified>
  <cp:revision>26</cp:revision>
  <dc:subject/>
  <dc:title>Слайд 1</dc:title>
</cp:coreProperties>
</file>