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wmf" ContentType="image/x-wmf"/>
  <Override PartName="/ppt/media/image25.wmf" ContentType="image/x-wmf"/>
  <Override PartName="/ppt/media/image15.jpeg" ContentType="image/jpeg"/>
  <Override PartName="/ppt/media/image29.gif" ContentType="image/gif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6.png" ContentType="image/png"/>
  <Override PartName="/ppt/media/image44.jpeg" ContentType="image/jpeg"/>
  <Override PartName="/ppt/media/image36.jpeg" ContentType="image/jpeg"/>
  <Override PartName="/ppt/media/image11.jpeg" ContentType="image/jpeg"/>
  <Override PartName="/ppt/media/image32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39.wmf" ContentType="image/x-wmf"/>
  <Override PartName="/ppt/media/image42.jpeg" ContentType="image/jpeg"/>
  <Override PartName="/ppt/media/image34.jpeg" ContentType="image/jpeg"/>
  <Override PartName="/ppt/media/image37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761F-5D94-4CF9-9712-24BEF2E69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9B86-9431-43D1-B7E8-A715C8CB5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8207-7D90-443D-9B3E-7B6431A88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209D-A4E0-47AA-9548-059976CEA8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4A24-A8C5-4158-BCBA-0F2BD33B61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3E4A-6005-4167-9585-776B82010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883E8-4A58-4D88-BC3A-5AB1E8D01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DCAF-E196-4B40-9C93-A36C8F538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0C87-3FCA-4188-A4F4-692F6A7F4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0079-3778-4C8A-B1FE-AE4CCDDC3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87C2E-4661-42B5-B0C0-C15AA4A99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8224-E46A-4947-B164-E70E9CFF4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B3293E-6A86-4F61-AC1E-8B289D4A6B51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wmf"/><Relationship Id="rId5" Type="http://schemas.openxmlformats.org/officeDocument/2006/relationships/image" Target="../media/image40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484280"/>
            <a:ext cx="77724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Классный час </a:t>
            </a:r>
            <a:br>
              <a:rPr sz="4800"/>
            </a:b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«День Земли» </a:t>
            </a:r>
            <a:br>
              <a:rPr sz="4800"/>
            </a:br>
            <a:r>
              <a:rPr b="0" i="1" lang="ru-RU" sz="3600" spc="-1" strike="noStrike">
                <a:solidFill>
                  <a:srgbClr val="cc3300"/>
                </a:solidFill>
                <a:latin typeface="Arial"/>
              </a:rPr>
              <a:t>для учащихся начальной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530064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260280"/>
            <a:ext cx="792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Казахстане  проводятся экологические ак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4846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481960" y="6315120"/>
            <a:ext cx="5796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8000" y="404640"/>
            <a:ext cx="4608360" cy="576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00600" y="404640"/>
            <a:ext cx="4321080" cy="5761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8317080" y="6159600"/>
            <a:ext cx="579240" cy="50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74680"/>
            <a:ext cx="914400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России проводится экологический фестиваль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День Зем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645000"/>
            <a:ext cx="576108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Под девиз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«Цветущая Земля — процветающая Росс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588000" y="1700280"/>
            <a:ext cx="1995480" cy="3887640"/>
            <a:chOff x="6588000" y="1700280"/>
            <a:chExt cx="1995480" cy="388764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6588000" y="1700280"/>
              <a:ext cx="199548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588000" y="1700280"/>
              <a:ext cx="1995480" cy="38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74680"/>
            <a:ext cx="86868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Северной Корее на улицах Сеула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акция «Без автомоби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16000" y="1844640"/>
            <a:ext cx="6551640" cy="4440240"/>
            <a:chOff x="1116000" y="1844640"/>
            <a:chExt cx="6551640" cy="444024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116000" y="1844640"/>
              <a:ext cx="6551640" cy="44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116000" y="1844640"/>
              <a:ext cx="6551640" cy="44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57200" y="96840"/>
            <a:ext cx="8228160" cy="1535040"/>
            <a:chOff x="457200" y="96840"/>
            <a:chExt cx="8228160" cy="153504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457200" y="96840"/>
              <a:ext cx="82281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57200" y="96840"/>
              <a:ext cx="822816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835280" y="1484280"/>
            <a:ext cx="547344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835280" y="1484280"/>
            <a:ext cx="5473440" cy="5013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8388360" y="6243480"/>
            <a:ext cx="579600" cy="5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457200" y="274680"/>
            <a:ext cx="8228160" cy="1144440"/>
            <a:chOff x="457200" y="274680"/>
            <a:chExt cx="8228160" cy="114444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816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" y="274680"/>
              <a:ext cx="822816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2081160" cy="3120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916360" y="202104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508040" y="189000"/>
            <a:ext cx="1698840" cy="1832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7308720" y="0"/>
            <a:ext cx="167004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6945480" y="1989000"/>
            <a:ext cx="2014200" cy="2951280"/>
            <a:chOff x="6945480" y="1989000"/>
            <a:chExt cx="2014200" cy="2951280"/>
          </a:xfrm>
        </p:grpSpPr>
        <p:pic>
          <p:nvPicPr>
            <p:cNvPr id="129" name="" descr=""/>
            <p:cNvPicPr/>
            <p:nvPr/>
          </p:nvPicPr>
          <p:blipFill>
            <a:blip r:embed="rId7"/>
            <a:stretch/>
          </p:blipFill>
          <p:spPr>
            <a:xfrm>
              <a:off x="6945480" y="1989000"/>
              <a:ext cx="2014200" cy="29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945480" y="1989000"/>
              <a:ext cx="201420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780000" y="4941720"/>
            <a:ext cx="2261880" cy="1663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8399520" y="609912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457200" y="158760"/>
            <a:ext cx="8228160" cy="1528920"/>
            <a:chOff x="457200" y="158760"/>
            <a:chExt cx="8228160" cy="152892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457200" y="158760"/>
              <a:ext cx="822816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57200" y="158760"/>
              <a:ext cx="822816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76720" y="5950080"/>
            <a:ext cx="5410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564000" y="4424400"/>
            <a:ext cx="2100240" cy="1833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826920" y="1916280"/>
            <a:ext cx="1787760" cy="1392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443640" y="2436840"/>
            <a:ext cx="2449440" cy="2665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598320" y="3584520"/>
            <a:ext cx="2016360" cy="2616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3462480" y="1576440"/>
            <a:ext cx="2592360" cy="1722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8313840" y="620064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28720" y="476280"/>
            <a:ext cx="734364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культминутка-игра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Если я приду в лесок»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48680" y="5843520"/>
            <a:ext cx="579240" cy="506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58920" y="2492280"/>
            <a:ext cx="648180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457200" y="231840"/>
            <a:ext cx="8228160" cy="1314360"/>
            <a:chOff x="457200" y="231840"/>
            <a:chExt cx="8228160" cy="131436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457200" y="231840"/>
              <a:ext cx="822816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7200" y="231840"/>
              <a:ext cx="822816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7921440" cy="4967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8244000" y="6308640"/>
            <a:ext cx="577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457200" y="274680"/>
            <a:ext cx="8228160" cy="1326960"/>
            <a:chOff x="457200" y="274680"/>
            <a:chExt cx="8228160" cy="132696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8160" cy="13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7200" y="274680"/>
              <a:ext cx="822816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140360" y="2924280"/>
            <a:ext cx="4572000" cy="3427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1414440" y="1628640"/>
            <a:ext cx="1825560" cy="1725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95280" y="3789360"/>
            <a:ext cx="3657600" cy="241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8421840" y="6329520"/>
            <a:ext cx="579240" cy="50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08400" y="268200"/>
            <a:ext cx="429732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Благополучие и процветание Земли в Ваших руках, ребят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476360" y="1978200"/>
            <a:ext cx="6262560" cy="3752640"/>
            <a:chOff x="1476360" y="1978200"/>
            <a:chExt cx="6262560" cy="375264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1476360" y="1978200"/>
              <a:ext cx="6262560" cy="37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476360" y="1978200"/>
              <a:ext cx="6262560" cy="37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333360"/>
            <a:ext cx="856908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рогая планета, Земля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оздравляем тебя с праздником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рости нас за наши ошиб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Мы обеща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сохранить твою красот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71640" y="3213000"/>
            <a:ext cx="3382920" cy="3373560"/>
            <a:chOff x="2771640" y="3213000"/>
            <a:chExt cx="3382920" cy="337356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2771640" y="3213000"/>
              <a:ext cx="3382920" cy="33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771640" y="3213000"/>
              <a:ext cx="3382920" cy="33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Подведём итог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ому празднику был посвящён классный ч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зовите цель праз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гда он отмеч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ой знак является символом празд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то изображено на флаге Зем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ие мероприятия проводятся в Казахстане и других странах к этому празднику - «День Земл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то мы с Вами можем сделать в деле защиты окружающей среды?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МАШНЕЕ ЗАДАНИЕ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68280"/>
            <a:ext cx="856908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ластиковые бутылки самый распространенный, наразрушаемый бактериями, вид мусора, который лежит на земле более 100 лет. Давайте же сделаем что-то полезное из них, чтобы бутылки выкидывали как можно мен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делать поделки из пластиковых буты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6080040"/>
            <a:ext cx="44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50920" y="404640"/>
            <a:ext cx="4248000" cy="2903760"/>
            <a:chOff x="250920" y="404640"/>
            <a:chExt cx="4248000" cy="290376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250920" y="404640"/>
              <a:ext cx="4248000" cy="290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50920" y="404640"/>
              <a:ext cx="4248000" cy="29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984920" y="290520"/>
            <a:ext cx="3809880" cy="2571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971640" y="3645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6246720" y="36734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3635280" y="2717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89000"/>
            <a:ext cx="633564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День Земл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о гражданская инициатива, которая призвана объединять всё население планеты в деле защиты окружающей среды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732720" y="404640"/>
            <a:ext cx="2158920" cy="2159280"/>
            <a:chOff x="6732720" y="404640"/>
            <a:chExt cx="2158920" cy="215928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6732720" y="404640"/>
              <a:ext cx="2158920" cy="21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732720" y="404640"/>
              <a:ext cx="215892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887640" cy="2592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51440" y="3027240"/>
            <a:ext cx="507672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ервая всемирная а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День Земл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шла в США 22 апреля 1970 года, в  память об экологической катастрофе на территории США в 1969 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260280"/>
            <a:ext cx="82296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еждународный день Земли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провозглашен Генеральным секретарем ООН в марте 1971 года. Отмечается ежегодно в день весеннего равноденствия 22 апреля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843280" y="2103480"/>
            <a:ext cx="3598920" cy="3959280"/>
            <a:chOff x="2843280" y="2103480"/>
            <a:chExt cx="3598920" cy="395928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843280" y="2103480"/>
              <a:ext cx="3598920" cy="39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843280" y="2103480"/>
              <a:ext cx="3598920" cy="39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семирное дви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880920"/>
            <a:ext cx="47880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Во многих странах проходят праздничные мероприятия и акции, призывающие обратить внимание на проблемы эк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а сегодняшний день, 147 стран мира зарегистрированы во Всемирном движении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859280" y="1628640"/>
            <a:ext cx="3843360" cy="3830760"/>
            <a:chOff x="4859280" y="1628640"/>
            <a:chExt cx="3843360" cy="383076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4859280" y="1628640"/>
              <a:ext cx="3843360" cy="38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859280" y="1628640"/>
              <a:ext cx="3843360" cy="38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Символ Дня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2565360"/>
            <a:ext cx="4753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Зелёная греческая буква Θ на белом фо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3068640"/>
            <a:ext cx="1152720" cy="165564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24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8000"/>
                </a:solidFill>
                <a:latin typeface="Arial"/>
              </a:rPr>
              <a:t>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796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4360" y="404640"/>
            <a:ext cx="5483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лаг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268280"/>
            <a:ext cx="8604000" cy="51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вязан с Днем Земли и многими другими природоохранными, миротворческими международными мероприяти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е является официальным символом чего-либо, поскольку не существует общепланетного правительства или государ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нимок планеты Земля, изображенный на флаге, сделан астронавтами космичечкого корабля «Аполлон-17» по дороге к Луне.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796000" y="189000"/>
            <a:ext cx="2012760" cy="1226880"/>
            <a:chOff x="5796000" y="189000"/>
            <a:chExt cx="2012760" cy="1226880"/>
          </a:xfrm>
        </p:grpSpPr>
        <p:pic>
          <p:nvPicPr>
            <p:cNvPr id="72" name="" descr=""/>
            <p:cNvPicPr/>
            <p:nvPr/>
          </p:nvPicPr>
          <p:blipFill>
            <a:blip r:embed="rId2"/>
            <a:srcRect l="14122" t="-4315" r="13580" b="-5858"/>
            <a:stretch/>
          </p:blipFill>
          <p:spPr>
            <a:xfrm>
              <a:off x="5796000" y="189000"/>
              <a:ext cx="2012760" cy="12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796000" y="189000"/>
              <a:ext cx="201276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17080" y="616572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олокол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3860640"/>
            <a:ext cx="814716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День Земли в разных странах по традиции звучит Колокол Мира, призывая людей Земли приложить усилия к защите мира на планете и сохранению красоты нашего общего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148360" y="1413000"/>
            <a:ext cx="2878200" cy="2162160"/>
            <a:chOff x="5148360" y="1413000"/>
            <a:chExt cx="2878200" cy="216216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5148360" y="1413000"/>
              <a:ext cx="287820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148360" y="1413000"/>
              <a:ext cx="2878200" cy="21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58920" y="1413000"/>
            <a:ext cx="2862360" cy="2149200"/>
            <a:chOff x="1258920" y="1413000"/>
            <a:chExt cx="2862360" cy="2149200"/>
          </a:xfrm>
        </p:grpSpPr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258920" y="1413000"/>
              <a:ext cx="2862360" cy="21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258920" y="1413000"/>
              <a:ext cx="2862360" cy="21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20908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716360" y="260280"/>
            <a:ext cx="4186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Тради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1268280"/>
            <a:ext cx="40384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В этот день все желающие принимают участие в благоустройстве и озеленении своих дворов и улиц, в различных экологических мероприятиях, фестивалях и акц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95280" y="549360"/>
            <a:ext cx="4070520" cy="5830920"/>
            <a:chOff x="395280" y="549360"/>
            <a:chExt cx="4070520" cy="583092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395280" y="549360"/>
              <a:ext cx="4070520" cy="58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95280" y="549360"/>
              <a:ext cx="4070520" cy="58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4:25:43Z</dcterms:created>
  <dc:creator>Елена</dc:creator>
  <dc:description/>
  <dc:language>en-US</dc:language>
  <cp:lastModifiedBy>Раушан</cp:lastModifiedBy>
  <dcterms:modified xsi:type="dcterms:W3CDTF">2013-04-16T15:06:23Z</dcterms:modified>
  <cp:revision>240</cp:revision>
  <dc:subject/>
  <dc:title>День Земли</dc:title>
</cp:coreProperties>
</file>