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gif" ContentType="image/gif"/>
  <Override PartName="/ppt/media/image9.png" ContentType="image/png"/>
  <Override PartName="/ppt/media/image1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13.png" ContentType="image/png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6458-BC69-4FEC-A48E-BF2447F8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003-F7C2-4568-9633-28C62C49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4399-9526-47CF-AC93-87CCB81D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AD3-4C60-4572-A04A-905AE843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542C-F856-4D85-B896-B4CAE6B5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9391-F372-40FB-9664-C7B97540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9AF6-16F2-4706-92E4-E0A91DB6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CB4-3D71-4C2C-AD8B-CE824C27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168-4A88-4156-A4FC-C200C538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2BF8-97BF-4DF0-8B03-DE248F53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908A-7F03-43D1-8A87-3B1D7EF1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B42-A541-4493-93DB-ADB5C5A3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C7DB0C-952F-4BD5-B64C-72E3A09325E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33200"/>
            <a:ext cx="7527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бор темы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1413000"/>
            <a:ext cx="63374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чём я хочу  больше всего рассказать   своим друзья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234936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 любимой игруш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* об интересной книг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* о  домашнем питомц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* о  компьютерных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  вы, о чём хотите           рассказ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5229360"/>
            <a:ext cx="59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Краткое содержание моего  сообщения-  это и 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ahoma"/>
              </a:rPr>
              <a:t>тема</a:t>
            </a: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 моего будущего проек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516720" y="198900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2435040" cy="22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65160" y="168120"/>
            <a:ext cx="68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.Н. Толстой  «Чиж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773360"/>
            <a:ext cx="777708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Вари  был чиж. Чиж жил в клетке и ни разу не пел. Варя пришла к чиж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ра тебе, чиж, 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усти меня на волю, на воле я буду весь день 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4797360"/>
            <a:ext cx="509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Ответь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то жил у Вар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чему он не пе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ую проблему должна решить Вар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ая проблема у чиж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28880" y="115920"/>
            <a:ext cx="7657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должите мыс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017800"/>
            <a:ext cx="855972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аря выпустит чижа из клетки, то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что, если чиж останется в клетке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тим, Варя открыла дверцу клетки, как поведёт себя чиж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Подум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а Варя готовила проект. Как вы думаете, как она назвала тему своего проект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гипотезу она выдвину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2860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твоё стремление, то, что надо, желательно осуществить, реши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00200"/>
            <a:ext cx="82296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думаете, какую цель поставила Варя, чтобы решить проблему  с чиж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у вас есть цель в учё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860640"/>
            <a:ext cx="81374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решения какой проблемы  можно использовать  эти  предме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43657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08720" y="4508640"/>
            <a:ext cx="220032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-1584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«цель проекта?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о научиться   находить пути, которые помогут справиться с проблемой, достичь цели. Вам поможет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я это сделаю? К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нужны для того, чтобы ответить на вопрос , как достичь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142920"/>
            <a:ext cx="82072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Визи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изитная карточка)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очка с фамилией и сведениями о её владель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2017800"/>
            <a:ext cx="352908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51"/>
              </a:spcBef>
              <a:buClr>
                <a:srgbClr val="99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1страница - титу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вание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ма про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амилия, имя, клас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213372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800080"/>
                </a:solidFill>
                <a:latin typeface="Tahoma"/>
              </a:rPr>
              <a:t>2  страниц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ц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*  задач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4581360"/>
            <a:ext cx="25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3  стр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43700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4  стр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фамилии, имена авто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* название книг, которые     помогли в 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32000" y="274680"/>
            <a:ext cx="59306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ые 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и о правилах дорожного движения для детей azbez.com/node/17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 дорожной безопасности. Азбука дорожного 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zanimatika.narod.ru/OBJ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146160"/>
            <a:ext cx="8291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ро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 то, что у тебя получится после того, как ты серьёзно поработаешь над своей темой, то есть  это твои идеи, мысли, замысл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133720"/>
            <a:ext cx="676908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адай тему проекта моей подру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020000" y="1197000"/>
            <a:ext cx="1801800" cy="170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3284640"/>
            <a:ext cx="71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У меня живёт озорной кот Кузя. Я очень люблю с ним играть в различные игры, особенно в прятки. Моё укромное место - под столом. А Кузя любит забираться на штору.  Мама строго относится к нашим играм. А нам весел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93080" y="4797360"/>
            <a:ext cx="13935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8108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выбрали тему своего проек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989000"/>
            <a:ext cx="8209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бы узнать побольше по теме проекта, надо подобрать интересный материал. Чтобы узнать, как собирать материал по теме проекта,  найдите  помощ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340000" y="414972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87708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643280" y="4365720"/>
            <a:ext cx="1873440" cy="14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4960" y="-195120"/>
            <a:ext cx="813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сделали выбор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ваш первый этап над проек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 -  это отдельный момент какого-нибудь проц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щник – тот, кто помогает кому-нибудь в чём-ниб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460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этапов понадобится, чтобы выполнить следующее задание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82720" y="1598760"/>
            <a:ext cx="1598400" cy="1662120"/>
            <a:chOff x="882720" y="1598760"/>
            <a:chExt cx="1598400" cy="166212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882720" y="1598760"/>
              <a:ext cx="1598400" cy="16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882720" y="1598760"/>
              <a:ext cx="1598400" cy="16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84360" y="2781360"/>
            <a:ext cx="1476360" cy="151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340000" y="3645000"/>
            <a:ext cx="1474920" cy="1511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716360" y="2060640"/>
            <a:ext cx="1378080" cy="1411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780000" y="4292640"/>
            <a:ext cx="1309680" cy="1152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148360" y="3141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995640" y="3141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1116000" y="3284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3203640" y="1655640"/>
            <a:ext cx="1584360" cy="1389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87280" y="58802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800000">
            <a:off x="539280" y="5370120"/>
            <a:ext cx="806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считайте на рисунке зайчиков и белок, раскрасьте их  разными карандаш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26920" y="403200"/>
            <a:ext cx="8116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меня  проблема! Сломалась машин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3573360"/>
            <a:ext cx="792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Проблем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ложный вопрос, задача, требующие решения,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835280" y="3659040"/>
          <a:ext cx="360360" cy="5176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5454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2376360" cy="191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9640" y="5516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ы решил проблему детей, нашёл выход из сложной ситуации, значит, справишься и с проблемой своего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-114480"/>
            <a:ext cx="833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ую проблему нужно решить, чтобы помочь  художни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79280" y="1341360"/>
            <a:ext cx="8774280" cy="5399280"/>
            <a:chOff x="179280" y="1341360"/>
            <a:chExt cx="8774280" cy="53992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179280" y="1341360"/>
              <a:ext cx="8774280" cy="53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79280" y="1341360"/>
              <a:ext cx="8774280" cy="53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79280" y="260280"/>
            <a:ext cx="8774280" cy="6335640"/>
            <a:chOff x="179280" y="260280"/>
            <a:chExt cx="8774280" cy="6335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79280" y="260280"/>
              <a:ext cx="8774280" cy="63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79280" y="260280"/>
              <a:ext cx="8774280" cy="633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185760"/>
            <a:ext cx="8116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Гипотез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это предположение для объяснения каких-нибудь явлен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4724280"/>
            <a:ext cx="46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1413000"/>
            <a:ext cx="7272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еза нужна для решения любой задачи.</a:t>
            </a: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Предполож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догадка, предварительное соображение или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3141720"/>
            <a:ext cx="482148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лая предположения, используй сло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может бы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предполож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допуст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возмож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что, если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5300640"/>
            <a:ext cx="474984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думайте гипоте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будут смеяться дети, 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 rot="10800000">
            <a:off x="4284360" y="3652560"/>
            <a:ext cx="33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умайте, как головастик превращается в  лягушк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932360" y="4221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020000" y="4221000"/>
            <a:ext cx="16858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2T11:47:32Z</dcterms:created>
  <dc:creator>Магомед</dc:creator>
  <dc:description/>
  <dc:language>en-US</dc:language>
  <cp:lastModifiedBy>Магомед</cp:lastModifiedBy>
  <dcterms:modified xsi:type="dcterms:W3CDTF">2013-08-02T11:49:36Z</dcterms:modified>
  <cp:revision>1</cp:revision>
  <dc:subject/>
  <dc:title>Курс «Учусь  создавать проект» Авторы: Р.Н.Сизова,Р.Ф. Селимова </dc:title>
</cp:coreProperties>
</file>