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12.png" ContentType="image/png"/>
  <Override PartName="/ppt/media/image7.png" ContentType="image/png"/>
  <Override PartName="/ppt/media/image4.gif" ContentType="image/gif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6.gif" ContentType="image/gif"/>
  <Override PartName="/ppt/media/image9.png" ContentType="image/png"/>
  <Override PartName="/ppt/media/image1.png" ContentType="image/png"/>
  <Override PartName="/ppt/media/image2.gif" ContentType="image/gif"/>
  <Override PartName="/ppt/media/image11.png" ContentType="image/png"/>
  <Override PartName="/ppt/media/image3.png" ContentType="image/png"/>
  <Override PartName="/ppt/media/image13.png" ContentType="image/png"/>
  <Override PartName="/ppt/media/image5.gif" ContentType="image/gif"/>
  <Override PartName="/ppt/media/image8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608D7-DBFF-4AB2-8A04-009B6026E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6E58-3C16-4EBB-8D10-739DE4881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E4B-F516-4852-8574-909ADC63D6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0EA6-0B48-48C2-B79B-79BB3EC8F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65D2C-8781-4466-85AE-E85D1437BD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6EE3C-F34E-41C4-820B-2ABD544F6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204B8-B0A3-4718-B143-A8613898E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B005-9190-4284-888B-4F5979D3A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AC3E-66A1-4E4A-B35C-4AA8EFA14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E645-43CF-4C76-9400-3ACBA527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E44D2-7878-4D62-99A8-F3A872AA6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BEC10-76A9-4512-9C20-53388AF38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041D953-0677-4296-BA74-D8ECD1368FBE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0.png"/><Relationship Id="rId8" Type="http://schemas.openxmlformats.org/officeDocument/2006/relationships/image" Target="../media/image10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133200"/>
            <a:ext cx="75279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Выбор темы проек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187280" y="1413000"/>
            <a:ext cx="6337440" cy="13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lnSpc>
                <a:spcPct val="90000"/>
              </a:lnSpc>
              <a:buClr>
                <a:srgbClr val="000000"/>
              </a:buClr>
              <a:buFont typeface="Arial"/>
              <a:buChar char="-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 чём я хочу  больше всего рассказать   своим друзьям?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63640" y="2349360"/>
            <a:ext cx="4608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 любимой игрушк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б интересной книге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домашнем питомце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* о  компьютерных игра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  вы, о чём хотите           рассказать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16360" y="5229360"/>
            <a:ext cx="5903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Краткое содержание моего  сообщения-  это и е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Tahoma"/>
              </a:rPr>
              <a:t>тема</a:t>
            </a:r>
            <a:r>
              <a:rPr b="0" i="1" lang="ru-RU" sz="2800" spc="-1" strike="noStrike">
                <a:solidFill>
                  <a:srgbClr val="990099"/>
                </a:solidFill>
                <a:latin typeface="Tahoma"/>
              </a:rPr>
              <a:t> моего будущего проекта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6516720" y="198900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24000" y="4076640"/>
            <a:ext cx="2435040" cy="2284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865160" y="168120"/>
            <a:ext cx="6821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Л.Н. Толстой  «Чиж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55640" y="1773360"/>
            <a:ext cx="7777080" cy="33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Вари  был чиж. Чиж жил в клетке и ни разу не пел. Варя пришла к чиж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ора тебе, чиж,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 Пусти меня на волю, на воле я буду весь день пе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763640" y="4797360"/>
            <a:ext cx="5094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Ответьт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то жил у Вар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чему он не пе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ую проблему должна решить Варя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кая проблема у чиж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028880" y="115920"/>
            <a:ext cx="76579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одолжите мысл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95280" y="2017800"/>
            <a:ext cx="8559720" cy="42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Если Варя выпустит чижа из клетки, то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что, если чиж останется в клетке?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опустим, Варя открыла дверцу клетки, как поведёт себя чиж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0" lang="ru-RU" sz="2400" spc="-1" strike="noStrike">
                <a:solidFill>
                  <a:srgbClr val="99cc00"/>
                </a:solidFill>
                <a:latin typeface="Arial"/>
              </a:rPr>
              <a:t>Подумай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вочка Варя готовила проект. Как вы думаете, как она назвала тему своего проекта?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ую гипотезу она выдвинула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457200" y="228600"/>
            <a:ext cx="82296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Це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твоё стремление, то, что надо, желательно осуществить, решить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57200" y="1600200"/>
            <a:ext cx="82296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к вы думаете, какую цель поставила Варя, чтобы решить проблему  с чижом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у вас есть цель в учёб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601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1280" y="3860640"/>
            <a:ext cx="8137440" cy="9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решения какой проблемы  можно использовать  эти  предметы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71640" y="43657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5508720" y="4508640"/>
            <a:ext cx="2200320" cy="1647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7200" y="-15840"/>
            <a:ext cx="82296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Что такое «цель проекта?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до научиться   находить пути, которые помогут справиться с проблемой, достичь цели. Вам поможет вопрос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ак я это сделаю? Как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дачи нужны для того, чтобы ответить на вопрос , как достичь це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468360" y="142920"/>
            <a:ext cx="8207280" cy="88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Визит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изитная карточка)-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рточка с фамилией и сведениями о её владель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95280" y="2017800"/>
            <a:ext cx="3529080" cy="37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451"/>
              </a:spcBef>
              <a:buClr>
                <a:srgbClr val="990099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1страница - титульный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990099"/>
                </a:solidFill>
                <a:latin typeface="Arial"/>
              </a:rPr>
              <a:t>лис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звание школ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тема проект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амилия, имя, класс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фотограф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643280" y="2133720"/>
            <a:ext cx="280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ru-RU" sz="1800" spc="-1" strike="noStrike">
                <a:solidFill>
                  <a:srgbClr val="800080"/>
                </a:solidFill>
                <a:latin typeface="Tahoma"/>
              </a:rPr>
              <a:t>2  страниц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цель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 задачи про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39640" y="4581360"/>
            <a:ext cx="251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3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ывод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4437000"/>
            <a:ext cx="345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990099"/>
                </a:solidFill>
                <a:latin typeface="Tahoma"/>
              </a:rPr>
              <a:t>4  страниц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*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фамилии, имена авторов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* название книг, которые     помогли в работ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1332000" y="274680"/>
            <a:ext cx="593064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формационные источн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тихи о правилах дорожного движения для детей azbez.com/node/17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кола дорожной безопасности. Азбука дорожного дви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zanimatika.narod.ru/OBJ.ht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95280" y="146160"/>
            <a:ext cx="8291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990033"/>
                </a:solidFill>
                <a:latin typeface="Arial"/>
              </a:rPr>
              <a:t>Проект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это  то, что у тебя получится после того, как ты серьёзно поработаешь над своей темой, то есть  это твои идеи, мысли, замыслы.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24000" y="2133720"/>
            <a:ext cx="6769080" cy="103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гадай тему проекта моей подру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020000" y="1197000"/>
            <a:ext cx="1801800" cy="170028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395280" y="3284640"/>
            <a:ext cx="7129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У меня живёт озорной кот Кузя. Я очень люблю с ним играть в различные игры, особенно в прятки. Моё укромное место - под столом. А Кузя любит забираться на штору.  Мама строго относится к нашим играм. А нам весело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7093080" y="4797360"/>
            <a:ext cx="1393560" cy="180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57200" y="181080"/>
            <a:ext cx="82296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 выбрали тему своего проек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1989000"/>
            <a:ext cx="8209080" cy="18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Чтобы узнать побольше по теме проекта, надо подобрать интересный материал. Чтобы узнать, как собирать материал по теме проекта,  найдите  помощник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611280" y="3716280"/>
            <a:ext cx="1655640" cy="16560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2340000" y="4149720"/>
            <a:ext cx="2139840" cy="2351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6877080" y="378936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4"/>
          <a:stretch/>
        </p:blipFill>
        <p:spPr>
          <a:xfrm>
            <a:off x="4643280" y="4365720"/>
            <a:ext cx="1873440" cy="1422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 fill="hold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534960" y="-195120"/>
            <a:ext cx="81360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 сделали выбор.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Это ваш первый этап над проек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755640" y="2017800"/>
            <a:ext cx="81993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ап -  это отдельный момент какого-нибудь процесса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br>
              <a:rPr sz="3200"/>
            </a:b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мощник – тот, кто помогает кому-нибудь в чём-нибуд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460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колько этапов понадобится, чтобы выполнить следующее задание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"/>
          <p:cNvGrpSpPr/>
          <p:nvPr/>
        </p:nvGrpSpPr>
        <p:grpSpPr>
          <a:xfrm>
            <a:off x="882720" y="1598760"/>
            <a:ext cx="1598400" cy="1662120"/>
            <a:chOff x="882720" y="1598760"/>
            <a:chExt cx="1598400" cy="1662120"/>
          </a:xfrm>
        </p:grpSpPr>
        <p:pic>
          <p:nvPicPr>
            <p:cNvPr id="62" name="" descr=""/>
            <p:cNvPicPr/>
            <p:nvPr/>
          </p:nvPicPr>
          <p:blipFill>
            <a:blip r:embed="rId1"/>
            <a:stretch/>
          </p:blipFill>
          <p:spPr>
            <a:xfrm>
              <a:off x="882720" y="1598760"/>
              <a:ext cx="1598400" cy="1662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882720" y="1598760"/>
              <a:ext cx="1598400" cy="16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484360" y="2781360"/>
            <a:ext cx="1476360" cy="151272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3"/>
          <a:stretch/>
        </p:blipFill>
        <p:spPr>
          <a:xfrm>
            <a:off x="2340000" y="3645000"/>
            <a:ext cx="1474920" cy="1511280"/>
          </a:xfrm>
          <a:prstGeom prst="rect">
            <a:avLst/>
          </a:prstGeom>
          <a:ln w="0">
            <a:noFill/>
          </a:ln>
        </p:spPr>
      </p:pic>
      <p:pic>
        <p:nvPicPr>
          <p:cNvPr id="66" name="" descr=""/>
          <p:cNvPicPr/>
          <p:nvPr/>
        </p:nvPicPr>
        <p:blipFill>
          <a:blip r:embed="rId4"/>
          <a:stretch/>
        </p:blipFill>
        <p:spPr>
          <a:xfrm>
            <a:off x="4716360" y="2060640"/>
            <a:ext cx="1378080" cy="1411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5"/>
          <a:stretch/>
        </p:blipFill>
        <p:spPr>
          <a:xfrm>
            <a:off x="3780000" y="4292640"/>
            <a:ext cx="1309680" cy="11523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6"/>
          <a:stretch/>
        </p:blipFill>
        <p:spPr>
          <a:xfrm>
            <a:off x="5148360" y="3141720"/>
            <a:ext cx="122400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7"/>
          <a:stretch/>
        </p:blipFill>
        <p:spPr>
          <a:xfrm>
            <a:off x="3995640" y="314172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"/>
          <p:cNvPicPr/>
          <p:nvPr/>
        </p:nvPicPr>
        <p:blipFill>
          <a:blip r:embed="rId8"/>
          <a:stretch/>
        </p:blipFill>
        <p:spPr>
          <a:xfrm>
            <a:off x="1116000" y="3284640"/>
            <a:ext cx="1368360" cy="136836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"/>
          <p:cNvPicPr/>
          <p:nvPr/>
        </p:nvPicPr>
        <p:blipFill>
          <a:blip r:embed="rId9"/>
          <a:stretch/>
        </p:blipFill>
        <p:spPr>
          <a:xfrm>
            <a:off x="3203640" y="1655640"/>
            <a:ext cx="1584360" cy="13892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187280" y="5880240"/>
            <a:ext cx="6624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flipV="1" rot="10800000">
            <a:off x="539280" y="5370120"/>
            <a:ext cx="8069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осчитайте на рисунке зайчиков и белок, раскрасьте их  разными карандашам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826920" y="403200"/>
            <a:ext cx="8116920" cy="107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еня  проблема! Сломалась машинка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68360" y="3573360"/>
            <a:ext cx="792000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799"/>
              </a:spcBef>
              <a:buClr>
                <a:srgbClr val="80008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800080"/>
                </a:solidFill>
                <a:latin typeface="Arial"/>
              </a:rPr>
              <a:t>Проблема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сложный вопрос, задача, требующие решения,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835280" y="3659040"/>
          <a:ext cx="360360" cy="517680"/>
        </p:xfrm>
        <a:graphic>
          <a:graphicData uri="http://schemas.openxmlformats.org/drawingml/2006/table">
            <a:tbl>
              <a:tblPr/>
              <a:tblGrid>
                <a:gridCol w="360360"/>
              </a:tblGrid>
              <a:tr h="545400">
                <a:tc>
                  <a:txBody>
                    <a:bodyPr lIns="90000" rIns="90000" tIns="71640" bIns="46800" anchor="t">
                      <a:noAutofit/>
                    </a:bodyPr>
                    <a:p>
                      <a:pPr>
                        <a:lnSpc>
                          <a:spcPct val="93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619280" y="1268280"/>
            <a:ext cx="2376360" cy="191160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539640" y="5516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ы решил проблему детей, нашёл выход из сложной ситуации, значит, справишься и с проблемой своего проек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2"/>
          <a:stretch/>
        </p:blipFill>
        <p:spPr>
          <a:xfrm>
            <a:off x="5076720" y="1268280"/>
            <a:ext cx="2592360" cy="1944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611280" y="-114480"/>
            <a:ext cx="833256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ую проблему нужно решить, чтобы помочь  художнику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179280" y="1341360"/>
            <a:ext cx="8774280" cy="5399280"/>
            <a:chOff x="179280" y="1341360"/>
            <a:chExt cx="8774280" cy="5399280"/>
          </a:xfrm>
        </p:grpSpPr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179280" y="1341360"/>
              <a:ext cx="8774280" cy="5399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179280" y="1341360"/>
              <a:ext cx="8774280" cy="539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79280" y="260280"/>
            <a:ext cx="8774280" cy="6335640"/>
            <a:chOff x="179280" y="260280"/>
            <a:chExt cx="8774280" cy="6335640"/>
          </a:xfrm>
        </p:grpSpPr>
        <p:pic>
          <p:nvPicPr>
            <p:cNvPr id="86" name="" descr=""/>
            <p:cNvPicPr/>
            <p:nvPr/>
          </p:nvPicPr>
          <p:blipFill>
            <a:blip r:embed="rId1"/>
            <a:stretch/>
          </p:blipFill>
          <p:spPr>
            <a:xfrm>
              <a:off x="179280" y="260280"/>
              <a:ext cx="8774280" cy="6335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179280" y="260280"/>
              <a:ext cx="8774280" cy="633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ffff"/>
            </a:gs>
            <a:gs pos="100000">
              <a:srgbClr val="99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826920" y="185760"/>
            <a:ext cx="81169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800080"/>
                </a:solidFill>
                <a:latin typeface="Arial"/>
              </a:rPr>
              <a:t>Гипотеза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–это предположение для объяснения каких-нибудь явлений.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564000" y="4724280"/>
            <a:ext cx="46591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1413000"/>
            <a:ext cx="7272360" cy="17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412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отеза нужна для решения любой задачи.</a:t>
            </a:r>
            <a:br>
              <a:rPr sz="2400"/>
            </a:br>
            <a:r>
              <a:rPr b="0" lang="ru-RU" sz="2400" spc="-1" strike="noStrike">
                <a:solidFill>
                  <a:srgbClr val="800080"/>
                </a:solidFill>
                <a:latin typeface="Arial"/>
              </a:rPr>
              <a:t>Предположение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–догадка, предварительное соображение или пла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26920" y="3141720"/>
            <a:ext cx="4821480" cy="263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елая предположения, используй слов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может быть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предполож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допустим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возможно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 что, если 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564000" y="5300640"/>
            <a:ext cx="4749840" cy="136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думайте гипотез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Если будут смеяться дети, ………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 rot="10800000">
            <a:off x="4284360" y="3652560"/>
            <a:ext cx="333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buClr>
                <a:srgbClr val="99cc00"/>
              </a:buClr>
              <a:buSzPct val="60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думайте, как головастик превращается в  лягушку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4932360" y="4221000"/>
            <a:ext cx="1081080" cy="108108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7020000" y="4221000"/>
            <a:ext cx="1685880" cy="13813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2T11:47:32Z</dcterms:created>
  <dc:creator>Магомед</dc:creator>
  <dc:description/>
  <dc:language>en-US</dc:language>
  <cp:lastModifiedBy>Магомед</cp:lastModifiedBy>
  <dcterms:modified xsi:type="dcterms:W3CDTF">2013-08-02T11:49:36Z</dcterms:modified>
  <cp:revision>1</cp:revision>
  <dc:subject/>
  <dc:title>Курс «Учусь  создавать проект» Авторы: Р.Н.Сизова,Р.Ф. Селимова </dc:title>
</cp:coreProperties>
</file>