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png" ContentType="image/png"/>
  <Override PartName="/ppt/media/image26.jpeg" ContentType="image/jpeg"/>
  <Override PartName="/ppt/media/image4.jpeg" ContentType="image/jpeg"/>
  <Override PartName="/ppt/media/image2.png" ContentType="image/png"/>
  <Override PartName="/ppt/media/image31.jpeg" ContentType="image/jpeg"/>
  <Override PartName="/ppt/media/image3.gif" ContentType="image/gif"/>
  <Override PartName="/ppt/media/image6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3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11.jpeg" ContentType="image/jpe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B9AA-17F4-404B-8EA4-052FAFA0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FD68-0C52-4C3D-A0BF-4D94219F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A11E-E3D3-4973-8CA9-E2E88949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38D8-8345-4893-9FDE-6082A8D2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F126-1860-48A0-AC5B-CB2B6A77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63FB-ED2E-48BA-9096-E6C85241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0E6F-CD6F-4D2B-AC57-9C2D4476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02EF-49DB-484E-ACF2-E887A108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5BB6-94EB-4CD4-9DD6-A36009EA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116A-E062-44D6-8528-101D77A6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580E-BF50-41F7-B5B8-460A8E94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8BF4-F111-4DA6-8277-ADA55E56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E038-7D8B-4F55-A7FF-AEC7847B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311A-4544-44B8-86E6-FBAF7258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E5F4-FF5D-4C23-8965-7643DB57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9045-0DF7-4CAD-9D14-369D5E0C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ABE4-E1A2-42ED-9D31-CEB5736BD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D613-DC46-4CCB-B0B3-2DAD2734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3F02-583C-4039-87EA-B1440FDE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455F-1575-4CF2-B8BF-CBAA9F84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6FED-3268-4668-A494-B3FF2D6A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CEDC-38D9-4080-8AF3-FAAB122D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359A-19DB-4B37-B5B2-6E051EC1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1D7A-C842-4B38-871C-A3A66E13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6783-2069-4138-876E-8AD39CE75CE2}" type="slidenum">
              <a:rPr b="0" lang="ru-RU" sz="1200" spc="-1" strike="noStrike">
                <a:solidFill>
                  <a:srgbClr val="bcbcb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8CB5-91C0-46EA-9560-6739786E39C0}" type="slidenum">
              <a:rPr b="0" lang="ru-RU" sz="1200" spc="-1" strike="noStrike">
                <a:solidFill>
                  <a:srgbClr val="bcbcb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1" descr=""/>
          <p:cNvPicPr/>
          <p:nvPr/>
        </p:nvPicPr>
        <p:blipFill>
          <a:blip r:embed="rId1"/>
          <a:stretch/>
        </p:blipFill>
        <p:spPr>
          <a:xfrm>
            <a:off x="628560" y="463680"/>
            <a:ext cx="7966080" cy="28033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11.gif"/>
          <p:cNvPicPr/>
          <p:nvPr/>
        </p:nvPicPr>
        <p:blipFill>
          <a:blip r:embed="rId2"/>
          <a:stretch/>
        </p:blipFill>
        <p:spPr>
          <a:xfrm>
            <a:off x="5715000" y="3962520"/>
            <a:ext cx="2984400" cy="2608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Прямоугольни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7858080" cy="1152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151920" y="1071720"/>
            <a:ext cx="8458200" cy="14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59720" indent="-345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 ушибленному месту сразу прикладывают холод (пузырь со льдом) или делают холодные примочки (при этом через каждые 1-2 мин нагревшиеся салфетки необходимо менять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Рисунок 4" descr="aid_04_1.jpg"/>
          <p:cNvPicPr/>
          <p:nvPr/>
        </p:nvPicPr>
        <p:blipFill>
          <a:blip r:embed="rId2"/>
          <a:stretch/>
        </p:blipFill>
        <p:spPr>
          <a:xfrm>
            <a:off x="3962520" y="3200400"/>
            <a:ext cx="3143160" cy="3143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13840" y="380520"/>
            <a:ext cx="5643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ле примочек, если нет подозрения на перелом костей, на ушибленное место необходимо наложить давящую повязку и обеспечить полный покой, для чего руку необходимо подвесить на перевязь, а ноге придать горизонтальное положени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Рисунок 3" descr="pansement.jpg"/>
          <p:cNvPicPr/>
          <p:nvPr/>
        </p:nvPicPr>
        <p:blipFill>
          <a:blip r:embed="rId1"/>
          <a:stretch/>
        </p:blipFill>
        <p:spPr>
          <a:xfrm>
            <a:off x="5867280" y="0"/>
            <a:ext cx="3048120" cy="3809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im5-tub-ru.yandex.net/i?id=489560566-20-72&amp;n=21"/>
          <p:cNvPicPr/>
          <p:nvPr/>
        </p:nvPicPr>
        <p:blipFill>
          <a:blip r:embed="rId2"/>
          <a:stretch/>
        </p:blipFill>
        <p:spPr>
          <a:xfrm>
            <a:off x="3352680" y="4343400"/>
            <a:ext cx="32004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4"/>
          <p:cNvSpPr/>
          <p:nvPr/>
        </p:nvSpPr>
        <p:spPr>
          <a:xfrm>
            <a:off x="1219320" y="1066680"/>
            <a:ext cx="5638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Перелом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 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— нарушение целости кости под действием травмирующей силы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294920"/>
            <a:ext cx="861048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переломе поврежденной конечности нужно создать покой. Для этого необходимо наложить шину. Приложить шину с двух сторон к конечности, чтобы суставы были неподвижными, и закрепить бинтами, платками, полотенцем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228600" y="4572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12ae"/>
                </a:solidFill>
                <a:latin typeface="Comic Sans MS"/>
              </a:rPr>
              <a:t>Первая помощь при переломах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7" name="Рисунок 6" descr="17omz.jpg"/>
          <p:cNvPicPr/>
          <p:nvPr/>
        </p:nvPicPr>
        <p:blipFill>
          <a:blip r:embed="rId1"/>
          <a:stretch/>
        </p:blipFill>
        <p:spPr>
          <a:xfrm>
            <a:off x="900000" y="3809880"/>
            <a:ext cx="4092840" cy="2819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8" name="Picture 7" descr="http://im5-tub-ru.yandex.net/i?id=261448345-68-72&amp;n=21"/>
          <p:cNvPicPr/>
          <p:nvPr/>
        </p:nvPicPr>
        <p:blipFill>
          <a:blip r:embed="rId2"/>
          <a:stretch/>
        </p:blipFill>
        <p:spPr>
          <a:xfrm>
            <a:off x="5562720" y="3581280"/>
            <a:ext cx="27241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1256467732_detskaya_obuv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1256467732_detskaya_obuv"/>
          <p:cNvPicPr/>
          <p:nvPr/>
        </p:nvPicPr>
        <p:blipFill>
          <a:blip r:embed="rId2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pic>
        <p:nvPicPr>
          <p:cNvPr id="121" name="Rectangle 4" descr=""/>
          <p:cNvPicPr/>
          <p:nvPr/>
        </p:nvPicPr>
        <p:blipFill>
          <a:blip r:embed="rId3"/>
          <a:stretch/>
        </p:blipFill>
        <p:spPr>
          <a:xfrm>
            <a:off x="1146240" y="-73080"/>
            <a:ext cx="8431200" cy="18464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80520" y="9903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являются от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грубой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еправильно подобранн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буви.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маза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смягчающи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ремом и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акле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ейкопластыр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3" descr=""/>
          <p:cNvPicPr/>
          <p:nvPr/>
        </p:nvPicPr>
        <p:blipFill>
          <a:blip r:embed="rId1"/>
          <a:stretch/>
        </p:blipFill>
        <p:spPr>
          <a:xfrm>
            <a:off x="2743200" y="-30240"/>
            <a:ext cx="6400800" cy="1481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12895078132"/>
          <p:cNvPicPr/>
          <p:nvPr/>
        </p:nvPicPr>
        <p:blipFill>
          <a:blip r:embed="rId2"/>
          <a:stretch/>
        </p:blipFill>
        <p:spPr>
          <a:xfrm>
            <a:off x="0" y="304920"/>
            <a:ext cx="3809880" cy="6553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886200" y="990360"/>
            <a:ext cx="5105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95bff"/>
                </a:solidFill>
                <a:latin typeface="Monotype Corsiv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4191120" y="1066680"/>
            <a:ext cx="35812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95bff"/>
                </a:solidFill>
                <a:latin typeface="Arial"/>
              </a:rPr>
              <a:t>Дать выпить пострадавшему 3-4 стакана воды или розового раствора марганцовокислого калия с вызовом рвоты; повторять промывание 2-3 раза; дать активированный уголь(таблетки); напоить теплым чаем; уложить и тепло укрыть пострадавшего.</a:t>
            </a:r>
            <a:r>
              <a:rPr b="1" i="1" lang="ru-RU" sz="2400" spc="-1" strike="noStrike">
                <a:solidFill>
                  <a:srgbClr val="095b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slide_6 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Месячник пожарной безопасности / МБОУ &quot;СОШ 1&quot; г. Канаш / Пор…"/>
          <p:cNvPicPr/>
          <p:nvPr/>
        </p:nvPicPr>
        <p:blipFill>
          <a:blip r:embed="rId1"/>
          <a:stretch/>
        </p:blipFill>
        <p:spPr>
          <a:xfrm>
            <a:off x="73080" y="0"/>
            <a:ext cx="9070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Что делать при землетрясении / Блог им. Mikeee / ПриветСочи.ру"/>
          <p:cNvPicPr/>
          <p:nvPr/>
        </p:nvPicPr>
        <p:blipFill>
          <a:blip r:embed="rId1"/>
          <a:stretch/>
        </p:blipFill>
        <p:spPr>
          <a:xfrm>
            <a:off x="214200" y="182520"/>
            <a:ext cx="892980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Заказать плакаты по антитерроризму - Игрушки - nashforum.timoshki.ru"/>
          <p:cNvPicPr/>
          <p:nvPr/>
        </p:nvPicPr>
        <p:blipFill>
          <a:blip r:embed="rId1"/>
          <a:stretch/>
        </p:blipFill>
        <p:spPr>
          <a:xfrm>
            <a:off x="0" y="0"/>
            <a:ext cx="9117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5701-1-500x5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3" descr=""/>
          <p:cNvPicPr/>
          <p:nvPr/>
        </p:nvPicPr>
        <p:blipFill>
          <a:blip r:embed="rId2"/>
          <a:stretch/>
        </p:blipFill>
        <p:spPr>
          <a:xfrm>
            <a:off x="384120" y="4022640"/>
            <a:ext cx="822960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http://festival.1september.ru/articles/611850/presentation/23.JPG"/>
          <p:cNvPicPr/>
          <p:nvPr/>
        </p:nvPicPr>
        <p:blipFill>
          <a:blip r:embed="rId1"/>
          <a:stretch/>
        </p:blipFill>
        <p:spPr>
          <a:xfrm>
            <a:off x="-158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0013-013-Spasibo-za-VNIMAN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1" descr=""/>
          <p:cNvPicPr/>
          <p:nvPr/>
        </p:nvPicPr>
        <p:blipFill>
          <a:blip r:embed="rId1"/>
          <a:stretch/>
        </p:blipFill>
        <p:spPr>
          <a:xfrm>
            <a:off x="171360" y="0"/>
            <a:ext cx="8508960" cy="23223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5" descr="11.gif"/>
          <p:cNvPicPr/>
          <p:nvPr/>
        </p:nvPicPr>
        <p:blipFill>
          <a:blip r:embed="rId2"/>
          <a:stretch/>
        </p:blipFill>
        <p:spPr>
          <a:xfrm>
            <a:off x="7086600" y="5105520"/>
            <a:ext cx="1308240" cy="11430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7"/>
          <p:cNvSpPr/>
          <p:nvPr/>
        </p:nvSpPr>
        <p:spPr>
          <a:xfrm>
            <a:off x="609480" y="1523880"/>
            <a:ext cx="8001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Times New Roman"/>
              </a:rPr>
              <a:t>это простейшие срочные меры, необходимые для спасения жизни и здоровья пострадавшим при несчастных случаях.</a:t>
            </a: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533520" y="1161000"/>
            <a:ext cx="8305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очность оказания первой помощи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строта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ильность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шительность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ние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койствие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609480" y="30492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f0000"/>
                </a:solidFill>
                <a:latin typeface="Times New Roman"/>
                <a:ea typeface="Times New Roman"/>
              </a:rPr>
              <a:t>Основные  условия успеха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3" descr=""/>
          <p:cNvPicPr/>
          <p:nvPr/>
        </p:nvPicPr>
        <p:blipFill>
          <a:blip r:embed="rId1"/>
          <a:stretch/>
        </p:blipFill>
        <p:spPr>
          <a:xfrm>
            <a:off x="-6480" y="3127320"/>
            <a:ext cx="9461520" cy="2693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STENDZAKAZ.RU - Стенды на разные темы"/>
          <p:cNvPicPr/>
          <p:nvPr/>
        </p:nvPicPr>
        <p:blipFill>
          <a:blip r:embed="rId2"/>
          <a:stretch/>
        </p:blipFill>
        <p:spPr>
          <a:xfrm>
            <a:off x="533520" y="304920"/>
            <a:ext cx="8229600" cy="655308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884880" y="914400"/>
            <a:ext cx="381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Если не соблюдать правила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Можно поучить: парез, ссадину,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Раны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http://im7-tub-ru.yandex.net/i?id=107498121-25-72&amp;n=21"/>
          <p:cNvPicPr/>
          <p:nvPr/>
        </p:nvPicPr>
        <p:blipFill>
          <a:blip r:embed="rId1"/>
          <a:stretch/>
        </p:blipFill>
        <p:spPr>
          <a:xfrm>
            <a:off x="2209680" y="388620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2"/>
          <p:cNvSpPr/>
          <p:nvPr/>
        </p:nvSpPr>
        <p:spPr>
          <a:xfrm>
            <a:off x="304920" y="10666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Порез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— это, как правило, сквозное повреждение всех слоев кожи острым предметом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Царапина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— более легкая форма пореза, так как повреждается только верхняя часть кожи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Ссадина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— это место, где ссажена, оцарапана или содрана кожа на теле. Имеет значительный по площади дефект поверхностных слоев кожи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457200" y="3049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9c2d1"/>
                </a:solidFill>
                <a:latin typeface="Comic Sans MS"/>
              </a:rPr>
              <a:t>Легкие  травмы    -  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орез, царапина, ссадина</a:t>
            </a:r>
            <a:r>
              <a:rPr b="1" lang="ru-RU" sz="2400" spc="-1" strike="noStrike">
                <a:solidFill>
                  <a:srgbClr val="c9c2d1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7" name="Picture 4" descr="http://im7-tub-ru.yandex.net/i?id=55966403-11-72&amp;n=21"/>
          <p:cNvPicPr/>
          <p:nvPr/>
        </p:nvPicPr>
        <p:blipFill>
          <a:blip r:embed="rId2"/>
          <a:stretch/>
        </p:blipFill>
        <p:spPr>
          <a:xfrm>
            <a:off x="4724280" y="990720"/>
            <a:ext cx="3272040" cy="2133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http://im6-tub-ru.yandex.net/i?id=662242506-38-72&amp;n=21"/>
          <p:cNvPicPr/>
          <p:nvPr/>
        </p:nvPicPr>
        <p:blipFill>
          <a:blip r:embed="rId3"/>
          <a:stretch/>
        </p:blipFill>
        <p:spPr>
          <a:xfrm>
            <a:off x="5410080" y="3276720"/>
            <a:ext cx="29210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85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385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85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385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38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38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385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385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38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38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0" y="1676520"/>
            <a:ext cx="86104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вободить раненое место от одеж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мазать края раны йод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ложить чистую повяз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льзя класть на рану  вату, маз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04920" y="2329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ервая помощь  при порезах, царапинах  и ссадинах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295280" y="4191120"/>
            <a:ext cx="69120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7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7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530280" y="189000"/>
            <a:ext cx="7242120" cy="1500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http://img0.liveinternet.ru/images/attach/c/5/88/157/88157188_66491469_imagick_56445293bc0fd8846e962bd4d9aa2997607760df.jpg"/>
          <p:cNvPicPr/>
          <p:nvPr/>
        </p:nvPicPr>
        <p:blipFill>
          <a:blip r:embed="rId2"/>
          <a:stretch/>
        </p:blipFill>
        <p:spPr>
          <a:xfrm>
            <a:off x="1828800" y="1447920"/>
            <a:ext cx="4429080" cy="47624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6019920" y="6172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ПОДОРОЖНИК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38052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Ушиб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озникает при ударе тупым предметом или при падении с небольшой высоты на плоскую поверхность. Появляются боли в ушибленном месте, образуется кровоподтек, припухлость, может произойт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рушение функции ушибленно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ргана и развитие травматическо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тек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2" descr="http://im4-tub-ru.yandex.net/i?id=559080749-20-72&amp;n=21"/>
          <p:cNvPicPr/>
          <p:nvPr/>
        </p:nvPicPr>
        <p:blipFill>
          <a:blip r:embed="rId1"/>
          <a:stretch/>
        </p:blipFill>
        <p:spPr>
          <a:xfrm>
            <a:off x="1981080" y="37339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im5-tub-ru.yandex.net/i?id=188953123-66-72&amp;n=21"/>
          <p:cNvPicPr/>
          <p:nvPr/>
        </p:nvPicPr>
        <p:blipFill>
          <a:blip r:embed="rId2"/>
          <a:stretch/>
        </p:blipFill>
        <p:spPr>
          <a:xfrm>
            <a:off x="6172200" y="2666880"/>
            <a:ext cx="2670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андр Драхлер</dc:creator>
  <dc:description/>
  <dc:language>en-US</dc:language>
  <cp:lastModifiedBy>Home</cp:lastModifiedBy>
  <dcterms:modified xsi:type="dcterms:W3CDTF">2015-01-20T13:54:03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2260000000000010243100207f6000400038000</vt:lpwstr>
  </property>
  <property fmtid="{D5CDD505-2E9C-101B-9397-08002B2CF9AE}" pid="3" name="Version">
    <vt:r8>1</vt:r8>
  </property>
</Properties>
</file>