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12.png" ContentType="image/png"/>
  <Override PartName="/ppt/media/image7.png" ContentType="image/png"/>
  <Override PartName="/ppt/media/image4.gif" ContentType="image/gif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6.gif" ContentType="image/gif"/>
  <Override PartName="/ppt/media/image9.png" ContentType="image/png"/>
  <Override PartName="/ppt/media/image1.png" ContentType="image/png"/>
  <Override PartName="/ppt/media/image2.gif" ContentType="image/gif"/>
  <Override PartName="/ppt/media/image11.png" ContentType="image/png"/>
  <Override PartName="/ppt/media/image3.png" ContentType="image/png"/>
  <Override PartName="/ppt/media/image13.png" ContentType="image/png"/>
  <Override PartName="/ppt/media/image5.gif" ContentType="image/gif"/>
  <Override PartName="/ppt/media/image8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0321-D1FF-4115-89C4-A96FFFEF8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2E36-3523-450C-9733-70064235A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9F19-4A63-4113-9C01-D6BFB4E66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7FD2-0859-48C4-94AA-7FBC4AE7E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72C6-E3B1-4656-8FA8-CC7F35EB6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EC1E-3F9F-46AB-8314-1A6B98E39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04E7-3B80-47C8-9669-A1C9EC63B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0A84-41D9-4893-955F-599111920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1380-BA10-406F-87C3-45A4C5CCD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02EF-0A50-4EA7-9FE9-7B9D0E455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3853-9F55-4EE4-A14F-204041863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F6E2-7EBD-41F9-B218-FC3FCBEF8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36BBDCC-C1E2-4060-9B9D-2DF60F39D41F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3000" y="133200"/>
            <a:ext cx="7527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ыбор темы проек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187280" y="1413000"/>
            <a:ext cx="6337440" cy="13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buClr>
                <a:srgbClr val="000000"/>
              </a:buClr>
              <a:buFont typeface="Arial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 чём я хочу  больше всего рассказать   своим друзьям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63640" y="2349360"/>
            <a:ext cx="4608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*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 любимой игрушк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* об интересной книг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* о  домашнем питомце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* о  компьютерных игр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А  вы, о чём хотите           рассказа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916360" y="5229360"/>
            <a:ext cx="5903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990099"/>
                </a:solidFill>
                <a:latin typeface="Tahoma"/>
              </a:rPr>
              <a:t>Краткое содержание моего  сообщения-  это и е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Tahoma"/>
              </a:rPr>
              <a:t>тема</a:t>
            </a:r>
            <a:r>
              <a:rPr b="0" i="1" lang="ru-RU" sz="2800" spc="-1" strike="noStrike">
                <a:solidFill>
                  <a:srgbClr val="990099"/>
                </a:solidFill>
                <a:latin typeface="Tahoma"/>
              </a:rPr>
              <a:t> моего будущего проект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516720" y="1989000"/>
            <a:ext cx="2374920" cy="23749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324000" y="4076640"/>
            <a:ext cx="2435040" cy="228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865160" y="168120"/>
            <a:ext cx="6821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.Н. Толстой  «Чиж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55640" y="1773360"/>
            <a:ext cx="7777080" cy="33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 Вари  был чиж. Чиж жил в клетке и ни разу не пел. Варя пришла к чиж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Пора тебе, чиж, пе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Пусти меня на волю, на воле я буду весь день пе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763640" y="4797360"/>
            <a:ext cx="5094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990099"/>
                </a:solidFill>
                <a:latin typeface="Tahoma"/>
              </a:rPr>
              <a:t>Ответьт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Кто жил у Вар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очему он не пел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Какую проблему должна решить Вар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Какая проблема у чиж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028880" y="115920"/>
            <a:ext cx="76579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одолжите мысл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2017800"/>
            <a:ext cx="8559720" cy="42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Варя выпустит чижа из клетки, то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что, если чиж останется в клетке?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пустим, Варя открыла дверцу клетки, как поведёт себя чиж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ru-RU" sz="2400" spc="-1" strike="noStrike">
                <a:solidFill>
                  <a:srgbClr val="99cc00"/>
                </a:solidFill>
                <a:latin typeface="Arial"/>
              </a:rPr>
              <a:t>Подумай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вочка Варя готовила проект. Как вы думаете, как она назвала тему своего проекта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ую гипотезу она выдвинул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457200" y="228600"/>
            <a:ext cx="82296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Цел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твоё стремление, то, что надо, желательно осуществить, решить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" y="1600200"/>
            <a:ext cx="8229600" cy="17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вы думаете, какую цель поставила Варя, чтобы решить проблему  с чижо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у вас есть цель в учёб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11280" y="3860640"/>
            <a:ext cx="813744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ля решения какой проблемы  можно использовать  эти  предмет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971640" y="43657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5508720" y="4508640"/>
            <a:ext cx="2200320" cy="164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457200" y="-15840"/>
            <a:ext cx="82296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то такое «цель проекта?»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95280" y="2017800"/>
            <a:ext cx="8559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до научиться   находить пути, которые помогут справиться с проблемой, достичь цели. Вам поможет вопрос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 я это сделаю? Как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дачи нужны для того, чтобы ответить на вопрос , как достичь це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68360" y="142920"/>
            <a:ext cx="82072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28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800080"/>
                </a:solidFill>
                <a:latin typeface="Arial"/>
              </a:rPr>
              <a:t>Визит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визитная карточка)-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рточка с фамилией и сведениями о её владельц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95280" y="2017800"/>
            <a:ext cx="3529080" cy="37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451"/>
              </a:spcBef>
              <a:buClr>
                <a:srgbClr val="9900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990099"/>
                </a:solidFill>
                <a:latin typeface="Arial"/>
              </a:rPr>
              <a:t>1страница - титульны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990099"/>
                </a:solidFill>
                <a:latin typeface="Arial"/>
              </a:rPr>
              <a:t>ли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азвание школ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тема проект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фамилия, имя, класс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фотограф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643280" y="2133720"/>
            <a:ext cx="280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ru-RU" sz="1800" spc="-1" strike="noStrike">
                <a:solidFill>
                  <a:srgbClr val="800080"/>
                </a:solidFill>
                <a:latin typeface="Tahoma"/>
              </a:rPr>
              <a:t>2  страница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*  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цел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*  задачи проек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39640" y="4581360"/>
            <a:ext cx="251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990099"/>
                </a:solidFill>
                <a:latin typeface="Tahoma"/>
              </a:rPr>
              <a:t>3  стран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выв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0" y="4437000"/>
            <a:ext cx="3456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ru-RU" sz="1800" spc="-1" strike="noStrike">
                <a:solidFill>
                  <a:srgbClr val="990099"/>
                </a:solidFill>
                <a:latin typeface="Tahoma"/>
              </a:rPr>
              <a:t>4  стран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* 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фамилии, имена автор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* название книг, которые     помогли в рабо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332000" y="274680"/>
            <a:ext cx="593064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формационные источн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ихи о правилах дорожного движения для детей azbez.com/node/17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кола дорожной безопасности. Азбука дорожного дви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zanimatika.narod.ru/OBJ.h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95280" y="146160"/>
            <a:ext cx="82915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Arial"/>
              </a:rPr>
              <a:t>Проек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это  то, что у тебя получится после того, как ты серьёзно поработаешь над своей темой, то есть  это твои идеи, мысли, замыслы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2133720"/>
            <a:ext cx="6769080" cy="103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гадай тему проекта моей подруг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7020000" y="1197000"/>
            <a:ext cx="1801800" cy="17002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95280" y="3284640"/>
            <a:ext cx="71294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У меня живёт озорной кот Кузя. Я очень люблю с ним играть в различные игры, особенно в прятки. Моё укромное место - под столом. А Кузя любит забираться на штору.  Мама строго относится к нашим играм. А нам весело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93080" y="4797360"/>
            <a:ext cx="1393560" cy="18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181080"/>
            <a:ext cx="82296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 выбрали тему своего проек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95280" y="1989000"/>
            <a:ext cx="820908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Чтобы узнать побольше по теме проекта, надо подобрать интересный материал. Чтобы узнать, как собирать материал по теме проекта,  найдите  помощни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11280" y="3716280"/>
            <a:ext cx="1655640" cy="1656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340000" y="4149720"/>
            <a:ext cx="2139840" cy="23511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6877080" y="378936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4643280" y="4365720"/>
            <a:ext cx="1873440" cy="142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534960" y="-195120"/>
            <a:ext cx="8136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 сделали выбор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Это ваш первый этап над проект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55640" y="2017800"/>
            <a:ext cx="8199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ап -  это отдельный момент какого-нибудь процесс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мощник – тот, кто помогает кому-нибудь в чём-нибуд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460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колько этапов понадобится, чтобы выполнить следующее задание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882720" y="1598760"/>
            <a:ext cx="1598400" cy="1662120"/>
            <a:chOff x="882720" y="1598760"/>
            <a:chExt cx="1598400" cy="1662120"/>
          </a:xfrm>
        </p:grpSpPr>
        <p:pic>
          <p:nvPicPr>
            <p:cNvPr id="62" name="" descr=""/>
            <p:cNvPicPr/>
            <p:nvPr/>
          </p:nvPicPr>
          <p:blipFill>
            <a:blip r:embed="rId1"/>
            <a:stretch/>
          </p:blipFill>
          <p:spPr>
            <a:xfrm>
              <a:off x="882720" y="1598760"/>
              <a:ext cx="1598400" cy="16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882720" y="1598760"/>
              <a:ext cx="1598400" cy="16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2484360" y="2781360"/>
            <a:ext cx="1476360" cy="15127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2340000" y="3645000"/>
            <a:ext cx="1474920" cy="15112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4716360" y="2060640"/>
            <a:ext cx="1378080" cy="1411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3780000" y="4292640"/>
            <a:ext cx="1309680" cy="11523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5148360" y="314172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7"/>
          <a:stretch/>
        </p:blipFill>
        <p:spPr>
          <a:xfrm>
            <a:off x="3995640" y="3141720"/>
            <a:ext cx="1368360" cy="13683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8"/>
          <a:stretch/>
        </p:blipFill>
        <p:spPr>
          <a:xfrm>
            <a:off x="1116000" y="3284640"/>
            <a:ext cx="1368360" cy="13683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9"/>
          <a:stretch/>
        </p:blipFill>
        <p:spPr>
          <a:xfrm>
            <a:off x="3203640" y="1655640"/>
            <a:ext cx="1584360" cy="13892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187280" y="5880240"/>
            <a:ext cx="6624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 rot="10800000">
            <a:off x="539280" y="5370120"/>
            <a:ext cx="806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осчитайте на рисунке зайчиков и белок, раскрасьте их  разными карандаш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826920" y="403200"/>
            <a:ext cx="81169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 меня  проблема! Сломалась машинка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8360" y="3573360"/>
            <a:ext cx="7920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Проблема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сложный вопрос, задача, требующие решения, исслед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835280" y="3659040"/>
          <a:ext cx="360360" cy="51768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545400"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619280" y="1268280"/>
            <a:ext cx="2376360" cy="19116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539640" y="551664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Ты решил проблему детей, нашёл выход из сложной ситуации, значит, справишься и с проблемой своего проек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5076720" y="1268280"/>
            <a:ext cx="2592360" cy="194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611280" y="-114480"/>
            <a:ext cx="833256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акую проблему нужно решить, чтобы помочь  художнику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179280" y="1341360"/>
            <a:ext cx="8774280" cy="5399280"/>
            <a:chOff x="179280" y="1341360"/>
            <a:chExt cx="8774280" cy="5399280"/>
          </a:xfrm>
        </p:grpSpPr>
        <p:pic>
          <p:nvPicPr>
            <p:cNvPr id="82" name="" descr=""/>
            <p:cNvPicPr/>
            <p:nvPr/>
          </p:nvPicPr>
          <p:blipFill>
            <a:blip r:embed="rId1"/>
            <a:stretch/>
          </p:blipFill>
          <p:spPr>
            <a:xfrm>
              <a:off x="179280" y="1341360"/>
              <a:ext cx="8774280" cy="539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179280" y="1341360"/>
              <a:ext cx="8774280" cy="539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79280" y="260280"/>
            <a:ext cx="8774280" cy="6335640"/>
            <a:chOff x="179280" y="260280"/>
            <a:chExt cx="8774280" cy="6335640"/>
          </a:xfrm>
        </p:grpSpPr>
        <p:pic>
          <p:nvPicPr>
            <p:cNvPr id="86" name="" descr=""/>
            <p:cNvPicPr/>
            <p:nvPr/>
          </p:nvPicPr>
          <p:blipFill>
            <a:blip r:embed="rId1"/>
            <a:stretch/>
          </p:blipFill>
          <p:spPr>
            <a:xfrm>
              <a:off x="179280" y="260280"/>
              <a:ext cx="8774280" cy="633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179280" y="260280"/>
              <a:ext cx="8774280" cy="633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826920" y="185760"/>
            <a:ext cx="81169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800080"/>
                </a:solidFill>
                <a:latin typeface="Arial"/>
              </a:rPr>
              <a:t>Гипотез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это предположение для объяснения каких-нибудь явлений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564000" y="4724280"/>
            <a:ext cx="46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32000" y="1413000"/>
            <a:ext cx="727236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ипотеза нужна для решения любой задачи.</a:t>
            </a:r>
            <a:br>
              <a:rPr sz="2400"/>
            </a:br>
            <a:r>
              <a:rPr b="0" lang="ru-RU" sz="2400" spc="-1" strike="noStrike">
                <a:solidFill>
                  <a:srgbClr val="800080"/>
                </a:solidFill>
                <a:latin typeface="Arial"/>
              </a:rPr>
              <a:t>Предположение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догадка, предварительное соображение или пла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826920" y="3141720"/>
            <a:ext cx="4821480" cy="26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елая предположения, используй слов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- может быт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- предположи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- допусти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- возможно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- что, если 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564000" y="5300640"/>
            <a:ext cx="4749840" cy="13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ридумайте гипотез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Если будут смеяться дети, ……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 rot="10800000">
            <a:off x="4284360" y="3652560"/>
            <a:ext cx="333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одумайте, как головастик превращается в  лягушку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932360" y="4221000"/>
            <a:ext cx="1081080" cy="10810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7020000" y="4221000"/>
            <a:ext cx="1685880" cy="1381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2T11:47:32Z</dcterms:created>
  <dc:creator>Магомед</dc:creator>
  <dc:description/>
  <dc:language>en-US</dc:language>
  <cp:lastModifiedBy>Магомед</cp:lastModifiedBy>
  <dcterms:modified xsi:type="dcterms:W3CDTF">2013-08-02T11:49:36Z</dcterms:modified>
  <cp:revision>1</cp:revision>
  <dc:subject/>
  <dc:title>Курс «Учусь  создавать проект» Авторы: Р.Н.Сизова,Р.Ф. Селимова </dc:title>
</cp:coreProperties>
</file>