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3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2D0-32C6-47AB-87AB-DDDF60A3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E98-04CF-4435-9655-F81DB9C5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B0B-22A8-4B45-ADAC-90EE6D72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A47-FEE7-40E4-A60A-E0BDA27D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D180-6808-40CD-9DD7-104F5ADA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7C69-0759-4470-BEBE-C3DE6B39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ECBB-F52F-4DE9-A122-DE332AE9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4623-354B-48FB-A59C-3D3749D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AAEE-2CD4-441A-917F-48DBF46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272E-F61D-41C7-8FE1-43B1E831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3CD8-F7E1-41C6-927C-BB1A9E34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1A7-2CD6-409F-BE65-6216F4B3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75CC-567D-425A-A986-E78CEDE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7674-332F-4A15-BF50-1C28053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FEBE-6BD1-4758-8979-0C20A8B8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9207-386B-46A1-9406-D3973715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8075-01F5-4C6B-AFF2-1DDFFC49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A93-87BE-43A0-A1FC-54180D4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406-FE98-42EE-AB68-992B50B1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46B-D6C7-4D0F-93F3-1BC8DF8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16A-4D6A-49AD-8270-24B271BB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17F-44B0-49ED-AD82-25E538E7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D7D-2BCB-4F9D-BEFC-4A9EB9D1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61F-112F-47B6-A648-FA8D5AAD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4E68-97FE-4518-9E0F-D2EDD733F7B8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63E-1D9D-4E1A-85BB-575CE9A37ABC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63680"/>
            <a:ext cx="79660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11.gif"/>
          <p:cNvPicPr/>
          <p:nvPr/>
        </p:nvPicPr>
        <p:blipFill>
          <a:blip r:embed="rId2"/>
          <a:stretch/>
        </p:blipFill>
        <p:spPr>
          <a:xfrm>
            <a:off x="5715000" y="3962520"/>
            <a:ext cx="298440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858080" cy="115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1920" y="10717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ушибленному месту сразу прикладывают холод (пузырь со льдом) или делают холодные примочки (при этом через каждые 1-2 мин нагревшиеся салфетки необходимо менять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aid_04_1.jpg"/>
          <p:cNvPicPr/>
          <p:nvPr/>
        </p:nvPicPr>
        <p:blipFill>
          <a:blip r:embed="rId2"/>
          <a:stretch/>
        </p:blipFill>
        <p:spPr>
          <a:xfrm>
            <a:off x="3962520" y="3200400"/>
            <a:ext cx="314316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3840" y="380520"/>
            <a:ext cx="5643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римочек, если нет подозрения на перелом костей, на ушибленное место необходимо наложить давящую повязку и обеспечить полный покой, для чего руку необходимо подвесить на перевязь, а ноге придать горизонтальное полож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pansement.jpg"/>
          <p:cNvPicPr/>
          <p:nvPr/>
        </p:nvPicPr>
        <p:blipFill>
          <a:blip r:embed="rId1"/>
          <a:stretch/>
        </p:blipFill>
        <p:spPr>
          <a:xfrm>
            <a:off x="58672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im5-tub-ru.yandex.net/i?id=489560566-20-72&amp;n=21"/>
          <p:cNvPicPr/>
          <p:nvPr/>
        </p:nvPicPr>
        <p:blipFill>
          <a:blip r:embed="rId2"/>
          <a:stretch/>
        </p:blipFill>
        <p:spPr>
          <a:xfrm>
            <a:off x="3352680" y="4343400"/>
            <a:ext cx="3200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219320" y="10666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рело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— нарушение целости кости под действием травмирующей силы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ереломе поврежденной конечности нужно создать покой. Для этого необходимо наложить шину. Приложить шину с двух сторон к конечности, чтобы суставы были неподвижными, и закрепить бинтами, платками, полотенц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860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2ae"/>
                </a:solidFill>
                <a:latin typeface="Comic Sans MS"/>
              </a:rPr>
              <a:t>Первая помощь при переломах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Рисунок 6" descr="17omz.jpg"/>
          <p:cNvPicPr/>
          <p:nvPr/>
        </p:nvPicPr>
        <p:blipFill>
          <a:blip r:embed="rId1"/>
          <a:stretch/>
        </p:blipFill>
        <p:spPr>
          <a:xfrm>
            <a:off x="900000" y="3809880"/>
            <a:ext cx="40928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http://im5-tub-ru.yandex.net/i?id=261448345-68-72&amp;n=21"/>
          <p:cNvPicPr/>
          <p:nvPr/>
        </p:nvPicPr>
        <p:blipFill>
          <a:blip r:embed="rId2"/>
          <a:stretch/>
        </p:blipFill>
        <p:spPr>
          <a:xfrm>
            <a:off x="5562720" y="3581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56467732_detskaya_obuv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256467732_detskaya_obuv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"/>
          <a:stretch/>
        </p:blipFill>
        <p:spPr>
          <a:xfrm>
            <a:off x="1146240" y="-73080"/>
            <a:ext cx="843120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являются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руб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о подобран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ув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аз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мягчающ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ремом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кле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743200" y="-30240"/>
            <a:ext cx="640080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12895078132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86200" y="99036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95bff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1066680"/>
            <a:ext cx="35812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Дать выпить пострадавшему 3-4 стакана воды или розового раствора марганцовокислого калия с вызовом рвоты; повторять промывание 2-3 раза; дать активированный уголь(таблетки); напоить теплым чаем; уложить и тепло укрыть пострадавшего.</a:t>
            </a: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_6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Месячник пожарной безопасности / МБОУ &quot;СОШ 1&quot; г. Канаш / Пор…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Что делать при землетрясении / Блог им. Mikeee / ПриветСочи.ру"/>
          <p:cNvPicPr/>
          <p:nvPr/>
        </p:nvPicPr>
        <p:blipFill>
          <a:blip r:embed="rId1"/>
          <a:stretch/>
        </p:blipFill>
        <p:spPr>
          <a:xfrm>
            <a:off x="214200" y="182520"/>
            <a:ext cx="89298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Заказать плакаты по антитерроризму - Игрушки - nashforum.timoshki.ru"/>
          <p:cNvPicPr/>
          <p:nvPr/>
        </p:nvPicPr>
        <p:blipFill>
          <a:blip r:embed="rId1"/>
          <a:stretch/>
        </p:blipFill>
        <p:spPr>
          <a:xfrm>
            <a:off x="0" y="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701-1-5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384120" y="402264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festival.1september.ru/articles/611850/presentation/23.JPG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3-013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5089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.gif"/>
          <p:cNvPicPr/>
          <p:nvPr/>
        </p:nvPicPr>
        <p:blipFill>
          <a:blip r:embed="rId2"/>
          <a:stretch/>
        </p:blipFill>
        <p:spPr>
          <a:xfrm>
            <a:off x="7086600" y="5105520"/>
            <a:ext cx="130824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09480" y="15238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это простейшие срочные меры, необходимые для спасения жизни и здоровья пострадавшим при несчастных случаях.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3520" y="116100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чность оказания первой помощ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т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койстви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9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Основные  условия успеха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46152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TENDZAKAZ.RU - Стенды на разные темы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84880" y="91440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 соблюдать правила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поучить: парез, ссадину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н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im7-tub-ru.yandex.net/i?id=107498121-25-72&amp;n=21"/>
          <p:cNvPicPr/>
          <p:nvPr/>
        </p:nvPicPr>
        <p:blipFill>
          <a:blip r:embed="rId1"/>
          <a:stretch/>
        </p:blipFill>
        <p:spPr>
          <a:xfrm>
            <a:off x="2209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04920" y="1066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рез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, как правило, сквозное повреждение всех слоев кожи острым предмето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Царап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более легкая форма пореза, так как повреждается только верхняя часть кож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сад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 место, где ссажена, оцарапана или содрана кожа на теле. Имеет значительный по площади дефект поверхностных слоев кож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572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c2d1"/>
                </a:solidFill>
                <a:latin typeface="Comic Sans MS"/>
              </a:rPr>
              <a:t>Легкие  травмы    -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рез, царапина, ссадина</a:t>
            </a:r>
            <a:r>
              <a:rPr b="1" lang="ru-RU" sz="2400" spc="-1" strike="noStrike">
                <a:solidFill>
                  <a:srgbClr val="c9c2d1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4" descr="http://im7-tub-ru.yandex.net/i?id=55966403-11-72&amp;n=21"/>
          <p:cNvPicPr/>
          <p:nvPr/>
        </p:nvPicPr>
        <p:blipFill>
          <a:blip r:embed="rId2"/>
          <a:stretch/>
        </p:blipFill>
        <p:spPr>
          <a:xfrm>
            <a:off x="4724280" y="990720"/>
            <a:ext cx="327204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6-tub-ru.yandex.net/i?id=662242506-38-72&amp;n=21"/>
          <p:cNvPicPr/>
          <p:nvPr/>
        </p:nvPicPr>
        <p:blipFill>
          <a:blip r:embed="rId3"/>
          <a:stretch/>
        </p:blipFill>
        <p:spPr>
          <a:xfrm>
            <a:off x="5410080" y="3276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бодить раненое место от одеж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зать края раны йо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жить чистую пов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класть на рану  вату, маз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04920" y="23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вая помощь  при порезах, царапинах  и ссадина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912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89000"/>
            <a:ext cx="724212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g0.liveinternet.ru/images/attach/c/5/88/157/88157188_66491469_imagick_56445293bc0fd8846e962bd4d9aa2997607760df.jpg"/>
          <p:cNvPicPr/>
          <p:nvPr/>
        </p:nvPicPr>
        <p:blipFill>
          <a:blip r:embed="rId2"/>
          <a:stretch/>
        </p:blipFill>
        <p:spPr>
          <a:xfrm>
            <a:off x="1828800" y="1447920"/>
            <a:ext cx="442908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6019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ОРОЖНИ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3805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ши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и ударе тупым предметом или при падении с небольшой высоты на плоскую поверхность. Появляются боли в ушибленном месте, образуется кровоподтек, припухлость, может произой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рушение функции ушибл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гана и развитие травматиче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im4-tub-ru.yandex.net/i?id=559080749-20-72&amp;n=21"/>
          <p:cNvPicPr/>
          <p:nvPr/>
        </p:nvPicPr>
        <p:blipFill>
          <a:blip r:embed="rId1"/>
          <a:stretch/>
        </p:blipFill>
        <p:spPr>
          <a:xfrm>
            <a:off x="19810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-ru.yandex.net/i?id=188953123-66-72&amp;n=21"/>
          <p:cNvPicPr/>
          <p:nvPr/>
        </p:nvPicPr>
        <p:blipFill>
          <a:blip r:embed="rId2"/>
          <a:stretch/>
        </p:blipFill>
        <p:spPr>
          <a:xfrm>
            <a:off x="6172200" y="2666880"/>
            <a:ext cx="267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Home</cp:lastModifiedBy>
  <dcterms:modified xsi:type="dcterms:W3CDTF">2015-01-20T13:54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60000000000010243100207f6000400038000</vt:lpwstr>
  </property>
  <property fmtid="{D5CDD505-2E9C-101B-9397-08002B2CF9AE}" pid="3" name="Version">
    <vt:r8>1</vt:r8>
  </property>
</Properties>
</file>