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13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6622-DECD-404A-9609-72E67544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BFC-B25A-4E9A-9A8C-1B25EFE5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D19-6FF6-446C-BEAA-BCD5E586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BFE-4A97-41F6-9383-472B2C40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DEC-A2A2-4E10-B650-F81C573F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419-3A55-4B92-965C-3D9B605D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749-1A56-40F7-A7C4-72A56CB0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ABA-D269-45A2-BABE-A23FA6E3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4E9-03D2-4224-A417-6C2C6CDD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58A-EFBE-4546-9574-34AF316F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D7D-C0CB-4878-8E4C-C9366E3D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471-C5F5-4883-BE17-DF475B1C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CF8124-2AC9-465A-8C72-C2E0BC47333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33200"/>
            <a:ext cx="752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бор тем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1413000"/>
            <a:ext cx="63374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чём я хочу  больше всего рассказать   своим друзья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34936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 любимой игруш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б интересной кни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домашнем питомц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 вы, о чём хотите          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5229360"/>
            <a:ext cx="59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Краткое содержание моего  сообщения-  это и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тема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моего будущего проек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243504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65160" y="168120"/>
            <a:ext cx="68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.Н. Толстой  «Чиж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773360"/>
            <a:ext cx="7777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ари  был чиж. Чиж жил в клетке и ни разу не пел. Варя пришла к чи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ра тебе, чиж,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усти меня на волю, на воле я буду весь день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4797360"/>
            <a:ext cx="509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Ответь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то жил у Ва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он не пе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ую проблему должна решить В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ая проблема у чиж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8880" y="115920"/>
            <a:ext cx="765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олжите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017800"/>
            <a:ext cx="855972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я выпустит чижа из клетки, 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, если чиж останется в клетке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Варя открыла дверцу клетки, как поведёт себя чи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Подум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а Варя готовила проект. Как вы думаете, как она назвала тему своего проек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гипотезу она выдвину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2860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воё стремление, то, что надо, желательно осуществить, реши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думаете, какую цель поставила Варя, чтобы решить проблему  с чиж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 вас есть цель в учё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860640"/>
            <a:ext cx="81374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решения какой проблемы  можно использовать  эти  предме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4508640"/>
            <a:ext cx="22003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-1584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«цель проекта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научиться   находить пути, которые помогут справиться с проблемой, достичь цели. Вам поможет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я это сделаю? 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ужны для того, чтобы ответить на вопрос , как достичь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2920"/>
            <a:ext cx="82072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Визи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изитная карточка)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чка с фамилией и сведениями о её владе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017800"/>
            <a:ext cx="35290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Clr>
                <a:srgbClr val="99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страница - титу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вание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милия, имя, клас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2133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800080"/>
                </a:solidFill>
                <a:latin typeface="Tahoma"/>
              </a:rPr>
              <a:t>2  страниц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 задач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5813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3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43700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4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милии, имена авт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название книг, которые     помогли в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32000" y="274680"/>
            <a:ext cx="5930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о правилах дорожного движения для детей azbez.com/node/17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дорожной безопасности. Азбука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zanimatika.narod.ru/OBJ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46160"/>
            <a:ext cx="829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то, что у тебя получится после того, как ты серьёзно поработаешь над своей темой, то есть  это твои идеи, мысли, замысл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133720"/>
            <a:ext cx="67690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адай тему проекта моей подр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801800" cy="170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32846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 меня живёт озорной кот Кузя. Я очень люблю с ним играть в различные игры, особенно в прятки. Моё укромное место - под столом. А Кузя любит забираться на штору.  Мама строго относится к нашим играм. А нам весе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3935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8108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выбрали тему своего проек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989000"/>
            <a:ext cx="820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бы узнать побольше по теме проекта, надо подобрать интересный материал. Чтобы узнать, как собирать материал по теме проекта,  найдите  помощ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40000" y="414972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43280" y="4365720"/>
            <a:ext cx="1873440" cy="14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4960" y="-195120"/>
            <a:ext cx="813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сделали выбо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ваш первый этап над проек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 -  это отдельный момент какого-нибудь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ник – тот, кто помогает кому-нибудь в чём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60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этапов понадобится, чтобы выполнить следующее задани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82720" y="1598760"/>
            <a:ext cx="1598400" cy="1662120"/>
            <a:chOff x="882720" y="1598760"/>
            <a:chExt cx="1598400" cy="16621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882720" y="1598760"/>
              <a:ext cx="159840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82720" y="1598760"/>
              <a:ext cx="159840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84360" y="2781360"/>
            <a:ext cx="147636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147492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716360" y="2060640"/>
            <a:ext cx="1378080" cy="1411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780000" y="4292640"/>
            <a:ext cx="13096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148360" y="31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995640" y="3141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116000" y="3284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203640" y="1655640"/>
            <a:ext cx="1584360" cy="1389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58802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800000">
            <a:off x="539280" y="5370120"/>
            <a:ext cx="80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читайте на рисунке зайчиков и белок, раскрасьте их  разными карандаш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403200"/>
            <a:ext cx="8116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 проблема! Сломалась машин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573360"/>
            <a:ext cx="792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обл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жный вопрос, задача, требующие решения,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835280" y="3659040"/>
          <a:ext cx="360360" cy="5176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2376360" cy="191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551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ы решил проблему детей, нашёл выход из сложной ситуации, значит, справишься и с проблемой свое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-114480"/>
            <a:ext cx="833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ую проблему нужно решить, чтобы помочь  художн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9280" y="1341360"/>
            <a:ext cx="8774280" cy="5399280"/>
            <a:chOff x="179280" y="1341360"/>
            <a:chExt cx="8774280" cy="53992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79280" y="1341360"/>
              <a:ext cx="877428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9280" y="1341360"/>
              <a:ext cx="877428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9280" y="260280"/>
            <a:ext cx="8774280" cy="6335640"/>
            <a:chOff x="179280" y="260280"/>
            <a:chExt cx="8774280" cy="6335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79280" y="260280"/>
              <a:ext cx="8774280" cy="63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9280" y="260280"/>
              <a:ext cx="8774280" cy="63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85760"/>
            <a:ext cx="811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это предположение для объяснения каких-нибудь явлен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4724280"/>
            <a:ext cx="46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413000"/>
            <a:ext cx="727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еза нужна для решения любой задачи.</a:t>
            </a: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редполо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догадка, предварительное соображение или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141720"/>
            <a:ext cx="48214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лая предположения, используй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может бы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едполож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допуст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возм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что, если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300640"/>
            <a:ext cx="47498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думайте гипоте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будут смеяться дети, 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0800000">
            <a:off x="4284360" y="3652560"/>
            <a:ext cx="33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умайте, как головастик превращается в  лягуш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2360" y="4221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20000" y="4221000"/>
            <a:ext cx="16858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2T11:47:32Z</dcterms:created>
  <dc:creator>Магомед</dc:creator>
  <dc:description/>
  <dc:language>en-US</dc:language>
  <cp:lastModifiedBy>Магомед</cp:lastModifiedBy>
  <dcterms:modified xsi:type="dcterms:W3CDTF">2013-08-02T11:49:36Z</dcterms:modified>
  <cp:revision>1</cp:revision>
  <dc:subject/>
  <dc:title>Курс «Учусь  создавать проект» Авторы: Р.Н.Сизова,Р.Ф. Селимова </dc:title>
</cp:coreProperties>
</file>