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26.jpeg" ContentType="image/jpeg"/>
  <Override PartName="/ppt/media/image4.jpeg" ContentType="image/jpeg"/>
  <Override PartName="/ppt/media/image2.png" ContentType="image/png"/>
  <Override PartName="/ppt/media/image31.jpeg" ContentType="image/jpeg"/>
  <Override PartName="/ppt/media/image3.gif" ContentType="image/gif"/>
  <Override PartName="/ppt/media/image6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3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11.jpeg" ContentType="image/jpe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EAA-0701-4995-9C3F-EACEFBFF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AB16-7028-4EBA-AB68-958DA282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DF7A-BCA8-4666-97F9-241B2971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D80-49AC-4730-AAFD-F41EBA3B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A396-FCEC-4A9C-A67F-429A64E7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3E0B-5F7A-4B86-ADDA-487564EA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302E-8ECB-402B-9CBA-E69A82F4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0E3A-58FE-4877-B413-9CFC3E3B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E586-405C-4AC0-80B7-6F42E9B4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586F-D07C-46E0-A0F7-49265A3D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CDE5-9C92-4459-ADD4-C5DA965B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3CBD-AEDF-4913-82CD-6009E4E0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98D8-5097-4327-A7B5-50860F2E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E546-F2E9-43F4-826E-3E40D977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1B0B-2EA1-4945-B93C-05DEA7BA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6B10-AB14-49D5-9A82-7DF25D1D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22EE-0CCF-4F15-9844-365EE692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CA7-E4B1-4B4B-9EF3-E97877F1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B51A-43DA-47D3-AA32-2BA5D94B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C292-5B38-4587-B54D-C7E09E1E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50FF-B8FA-418E-96C4-0F37BF79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D966-687D-4031-93E5-4ABB35F9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EAE9-759B-4A80-8924-D87CE618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FC23-E7E0-4716-B33C-3E292E3C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AEF8-40C0-4DF8-B15F-975F5B00D415}" type="slidenum">
              <a:rPr b="0" lang="ru-RU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875D-1EF6-4EAE-9825-4DD3C885B662}" type="slidenum">
              <a:rPr b="0" lang="ru-RU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1" descr=""/>
          <p:cNvPicPr/>
          <p:nvPr/>
        </p:nvPicPr>
        <p:blipFill>
          <a:blip r:embed="rId1"/>
          <a:stretch/>
        </p:blipFill>
        <p:spPr>
          <a:xfrm>
            <a:off x="628560" y="463680"/>
            <a:ext cx="7966080" cy="28033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11.gif"/>
          <p:cNvPicPr/>
          <p:nvPr/>
        </p:nvPicPr>
        <p:blipFill>
          <a:blip r:embed="rId2"/>
          <a:stretch/>
        </p:blipFill>
        <p:spPr>
          <a:xfrm>
            <a:off x="5715000" y="3962520"/>
            <a:ext cx="2984400" cy="2608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7858080" cy="1152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51920" y="1071720"/>
            <a:ext cx="845820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59720" indent="-345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ушибленному месту сразу прикладывают холод (пузырь со льдом) или делают холодные примочки (при этом через каждые 1-2 мин нагревшиеся салфетки необходимо менять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Рисунок 4" descr="aid_04_1.jpg"/>
          <p:cNvPicPr/>
          <p:nvPr/>
        </p:nvPicPr>
        <p:blipFill>
          <a:blip r:embed="rId2"/>
          <a:stretch/>
        </p:blipFill>
        <p:spPr>
          <a:xfrm>
            <a:off x="3962520" y="3200400"/>
            <a:ext cx="3143160" cy="3143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13840" y="380520"/>
            <a:ext cx="5643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е примочек, если нет подозрения на перелом костей, на ушибленное место необходимо наложить давящую повязку и обеспечить полный покой, для чего руку необходимо подвесить на перевязь, а ноге придать горизонтальное положени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Рисунок 3" descr="pansement.jpg"/>
          <p:cNvPicPr/>
          <p:nvPr/>
        </p:nvPicPr>
        <p:blipFill>
          <a:blip r:embed="rId1"/>
          <a:stretch/>
        </p:blipFill>
        <p:spPr>
          <a:xfrm>
            <a:off x="5867280" y="0"/>
            <a:ext cx="3048120" cy="3809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im5-tub-ru.yandex.net/i?id=489560566-20-72&amp;n=21"/>
          <p:cNvPicPr/>
          <p:nvPr/>
        </p:nvPicPr>
        <p:blipFill>
          <a:blip r:embed="rId2"/>
          <a:stretch/>
        </p:blipFill>
        <p:spPr>
          <a:xfrm>
            <a:off x="3352680" y="4343400"/>
            <a:ext cx="32004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4"/>
          <p:cNvSpPr/>
          <p:nvPr/>
        </p:nvSpPr>
        <p:spPr>
          <a:xfrm>
            <a:off x="1219320" y="1066680"/>
            <a:ext cx="5638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Перелом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 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— нарушение целости кости под действием травмирующей силы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294920"/>
            <a:ext cx="86104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переломе поврежденной конечности нужно создать покой. Для этого необходимо наложить шину. Приложить шину с двух сторон к конечности, чтобы суставы были неподвижными, и закрепить бинтами, платками, полотенце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28600" y="4572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12ae"/>
                </a:solidFill>
                <a:latin typeface="Comic Sans MS"/>
              </a:rPr>
              <a:t>Первая помощь при переломах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7" name="Рисунок 6" descr="17omz.jpg"/>
          <p:cNvPicPr/>
          <p:nvPr/>
        </p:nvPicPr>
        <p:blipFill>
          <a:blip r:embed="rId1"/>
          <a:stretch/>
        </p:blipFill>
        <p:spPr>
          <a:xfrm>
            <a:off x="900000" y="3809880"/>
            <a:ext cx="4092840" cy="2819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8" name="Picture 7" descr="http://im5-tub-ru.yandex.net/i?id=261448345-68-72&amp;n=21"/>
          <p:cNvPicPr/>
          <p:nvPr/>
        </p:nvPicPr>
        <p:blipFill>
          <a:blip r:embed="rId2"/>
          <a:stretch/>
        </p:blipFill>
        <p:spPr>
          <a:xfrm>
            <a:off x="5562720" y="3581280"/>
            <a:ext cx="27241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1256467732_detskaya_obuv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1256467732_detskaya_obuv"/>
          <p:cNvPicPr/>
          <p:nvPr/>
        </p:nvPicPr>
        <p:blipFill>
          <a:blip r:embed="rId2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121" name="Rectangle 4" descr=""/>
          <p:cNvPicPr/>
          <p:nvPr/>
        </p:nvPicPr>
        <p:blipFill>
          <a:blip r:embed="rId3"/>
          <a:stretch/>
        </p:blipFill>
        <p:spPr>
          <a:xfrm>
            <a:off x="1146240" y="-73080"/>
            <a:ext cx="8431200" cy="1846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являются от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грубой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еправильно подобранн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буви.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маза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смягчающи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ремом и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кле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ейкопластыр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3" descr=""/>
          <p:cNvPicPr/>
          <p:nvPr/>
        </p:nvPicPr>
        <p:blipFill>
          <a:blip r:embed="rId1"/>
          <a:stretch/>
        </p:blipFill>
        <p:spPr>
          <a:xfrm>
            <a:off x="2743200" y="-30240"/>
            <a:ext cx="6400800" cy="1481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12895078132"/>
          <p:cNvPicPr/>
          <p:nvPr/>
        </p:nvPicPr>
        <p:blipFill>
          <a:blip r:embed="rId2"/>
          <a:stretch/>
        </p:blipFill>
        <p:spPr>
          <a:xfrm>
            <a:off x="0" y="304920"/>
            <a:ext cx="3809880" cy="6553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86200" y="990360"/>
            <a:ext cx="5105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95bff"/>
                </a:solidFill>
                <a:latin typeface="Monotype Corsiv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191120" y="1066680"/>
            <a:ext cx="35812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95bff"/>
                </a:solidFill>
                <a:latin typeface="Arial"/>
              </a:rPr>
              <a:t>Дать выпить пострадавшему 3-4 стакана воды или розового раствора марганцовокислого калия с вызовом рвоты; повторять промывание 2-3 раза; дать активированный уголь(таблетки); напоить теплым чаем; уложить и тепло укрыть пострадавшего.</a:t>
            </a:r>
            <a:r>
              <a:rPr b="1" i="1" lang="ru-RU" sz="2400" spc="-1" strike="noStrike">
                <a:solidFill>
                  <a:srgbClr val="095b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slide_6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Месячник пожарной безопасности / МБОУ &quot;СОШ 1&quot; г. Канаш / Пор…"/>
          <p:cNvPicPr/>
          <p:nvPr/>
        </p:nvPicPr>
        <p:blipFill>
          <a:blip r:embed="rId1"/>
          <a:stretch/>
        </p:blipFill>
        <p:spPr>
          <a:xfrm>
            <a:off x="73080" y="0"/>
            <a:ext cx="9070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Что делать при землетрясении / Блог им. Mikeee / ПриветСочи.ру"/>
          <p:cNvPicPr/>
          <p:nvPr/>
        </p:nvPicPr>
        <p:blipFill>
          <a:blip r:embed="rId1"/>
          <a:stretch/>
        </p:blipFill>
        <p:spPr>
          <a:xfrm>
            <a:off x="214200" y="182520"/>
            <a:ext cx="892980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Заказать плакаты по антитерроризму - Игрушки - nashforum.timoshki.ru"/>
          <p:cNvPicPr/>
          <p:nvPr/>
        </p:nvPicPr>
        <p:blipFill>
          <a:blip r:embed="rId1"/>
          <a:stretch/>
        </p:blipFill>
        <p:spPr>
          <a:xfrm>
            <a:off x="0" y="0"/>
            <a:ext cx="9117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5701-1-500x5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3" descr=""/>
          <p:cNvPicPr/>
          <p:nvPr/>
        </p:nvPicPr>
        <p:blipFill>
          <a:blip r:embed="rId2"/>
          <a:stretch/>
        </p:blipFill>
        <p:spPr>
          <a:xfrm>
            <a:off x="384120" y="4022640"/>
            <a:ext cx="82296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://festival.1september.ru/articles/611850/presentation/23.JPG"/>
          <p:cNvPicPr/>
          <p:nvPr/>
        </p:nvPicPr>
        <p:blipFill>
          <a:blip r:embed="rId1"/>
          <a:stretch/>
        </p:blipFill>
        <p:spPr>
          <a:xfrm>
            <a:off x="-158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0013-013-Spasibo-za-VNIMAN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1" descr=""/>
          <p:cNvPicPr/>
          <p:nvPr/>
        </p:nvPicPr>
        <p:blipFill>
          <a:blip r:embed="rId1"/>
          <a:stretch/>
        </p:blipFill>
        <p:spPr>
          <a:xfrm>
            <a:off x="171360" y="0"/>
            <a:ext cx="8508960" cy="23223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11.gif"/>
          <p:cNvPicPr/>
          <p:nvPr/>
        </p:nvPicPr>
        <p:blipFill>
          <a:blip r:embed="rId2"/>
          <a:stretch/>
        </p:blipFill>
        <p:spPr>
          <a:xfrm>
            <a:off x="7086600" y="5105520"/>
            <a:ext cx="130824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7"/>
          <p:cNvSpPr/>
          <p:nvPr/>
        </p:nvSpPr>
        <p:spPr>
          <a:xfrm>
            <a:off x="609480" y="1523880"/>
            <a:ext cx="8001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Times New Roman"/>
              </a:rPr>
              <a:t>это простейшие срочные меры, необходимые для спасения жизни и здоровья пострадавшим при несчастных случаях.</a:t>
            </a: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533520" y="1161000"/>
            <a:ext cx="8305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очность оказания первой помощи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строта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ьность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ительность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ни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койствие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609480" y="30492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f0000"/>
                </a:solidFill>
                <a:latin typeface="Times New Roman"/>
                <a:ea typeface="Times New Roman"/>
              </a:rPr>
              <a:t>Основные  условия успеха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3" descr=""/>
          <p:cNvPicPr/>
          <p:nvPr/>
        </p:nvPicPr>
        <p:blipFill>
          <a:blip r:embed="rId1"/>
          <a:stretch/>
        </p:blipFill>
        <p:spPr>
          <a:xfrm>
            <a:off x="-6480" y="3127320"/>
            <a:ext cx="9461520" cy="2693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STENDZAKAZ.RU - Стенды на разные темы"/>
          <p:cNvPicPr/>
          <p:nvPr/>
        </p:nvPicPr>
        <p:blipFill>
          <a:blip r:embed="rId2"/>
          <a:stretch/>
        </p:blipFill>
        <p:spPr>
          <a:xfrm>
            <a:off x="533520" y="304920"/>
            <a:ext cx="8229600" cy="655308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884880" y="914400"/>
            <a:ext cx="381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Если не соблюдать правила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Можно поучить: парез, ссадину,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Раны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http://im7-tub-ru.yandex.net/i?id=107498121-25-72&amp;n=21"/>
          <p:cNvPicPr/>
          <p:nvPr/>
        </p:nvPicPr>
        <p:blipFill>
          <a:blip r:embed="rId1"/>
          <a:stretch/>
        </p:blipFill>
        <p:spPr>
          <a:xfrm>
            <a:off x="2209680" y="388620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2"/>
          <p:cNvSpPr/>
          <p:nvPr/>
        </p:nvSpPr>
        <p:spPr>
          <a:xfrm>
            <a:off x="304920" y="10666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Порез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— это, как правило, сквозное повреждение всех слоев кожи острым предметом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Царапина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— более легкая форма пореза, так как повреждается только верхняя часть кожи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Ссадина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— это место, где ссажена, оцарапана или содрана кожа на теле. Имеет значительный по площади дефект поверхностных слоев кожи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457200" y="304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9c2d1"/>
                </a:solidFill>
                <a:latin typeface="Comic Sans MS"/>
              </a:rPr>
              <a:t>Легкие  травмы    -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орез, царапина, ссадина</a:t>
            </a:r>
            <a:r>
              <a:rPr b="1" lang="ru-RU" sz="2400" spc="-1" strike="noStrike">
                <a:solidFill>
                  <a:srgbClr val="c9c2d1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7" name="Picture 4" descr="http://im7-tub-ru.yandex.net/i?id=55966403-11-72&amp;n=21"/>
          <p:cNvPicPr/>
          <p:nvPr/>
        </p:nvPicPr>
        <p:blipFill>
          <a:blip r:embed="rId2"/>
          <a:stretch/>
        </p:blipFill>
        <p:spPr>
          <a:xfrm>
            <a:off x="4724280" y="990720"/>
            <a:ext cx="3272040" cy="2133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ttp://im6-tub-ru.yandex.net/i?id=662242506-38-72&amp;n=21"/>
          <p:cNvPicPr/>
          <p:nvPr/>
        </p:nvPicPr>
        <p:blipFill>
          <a:blip r:embed="rId3"/>
          <a:stretch/>
        </p:blipFill>
        <p:spPr>
          <a:xfrm>
            <a:off x="5410080" y="3276720"/>
            <a:ext cx="29210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8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8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8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385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38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385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38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38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1676520"/>
            <a:ext cx="86104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вободить раненое место от одеж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азать края раны йод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ожить чистую повяз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льзя класть на рану  вату, маз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04920" y="232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ервая помощь  при порезах, царапинах  и ссадинах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295280" y="4191120"/>
            <a:ext cx="69120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530280" y="189000"/>
            <a:ext cx="7242120" cy="150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ttp://img0.liveinternet.ru/images/attach/c/5/88/157/88157188_66491469_imagick_56445293bc0fd8846e962bd4d9aa2997607760df.jpg"/>
          <p:cNvPicPr/>
          <p:nvPr/>
        </p:nvPicPr>
        <p:blipFill>
          <a:blip r:embed="rId2"/>
          <a:stretch/>
        </p:blipFill>
        <p:spPr>
          <a:xfrm>
            <a:off x="1828800" y="1447920"/>
            <a:ext cx="4429080" cy="47624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6019920" y="6172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ОДОРОЖНИК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3805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Ушиб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зникает при ударе тупым предметом или при падении с небольшой высоты на плоскую поверхность. Появляются боли в ушибленном месте, образуется кровоподтек, припухлость, может произойт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рушение функции ушибленно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ргана и развитие травматическо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тек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2" descr="http://im4-tub-ru.yandex.net/i?id=559080749-20-72&amp;n=21"/>
          <p:cNvPicPr/>
          <p:nvPr/>
        </p:nvPicPr>
        <p:blipFill>
          <a:blip r:embed="rId1"/>
          <a:stretch/>
        </p:blipFill>
        <p:spPr>
          <a:xfrm>
            <a:off x="1981080" y="37339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im5-tub-ru.yandex.net/i?id=188953123-66-72&amp;n=21"/>
          <p:cNvPicPr/>
          <p:nvPr/>
        </p:nvPicPr>
        <p:blipFill>
          <a:blip r:embed="rId2"/>
          <a:stretch/>
        </p:blipFill>
        <p:spPr>
          <a:xfrm>
            <a:off x="6172200" y="2666880"/>
            <a:ext cx="2670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андр Драхлер</dc:creator>
  <dc:description/>
  <dc:language>en-US</dc:language>
  <cp:lastModifiedBy>Home</cp:lastModifiedBy>
  <dcterms:modified xsi:type="dcterms:W3CDTF">2015-01-20T13:54:03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260000000000010243100207f6000400038000</vt:lpwstr>
  </property>
  <property fmtid="{D5CDD505-2E9C-101B-9397-08002B2CF9AE}" pid="3" name="Version">
    <vt:r8>1</vt:r8>
  </property>
</Properties>
</file>