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E2E18-EF2A-48EF-A5B6-A8FE5C7FF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D8F3-B190-49BD-B325-13405F408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6084-1C71-40E6-910A-6CA3DC461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E9F6-1C59-4F3C-8748-DF31492B3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6820-66F9-4ADE-892F-C3CABC88C6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E7016-5F66-4FC8-A09E-F9619C63E8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9304-B17D-4D5E-BC50-A3278936E3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08A8-DE31-479E-B1D2-C921AC632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9AB7-2478-48A8-AAF9-D84CCA94E8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EC63-0981-4687-B5DB-8213132958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0DF6-9703-4CB6-B047-F4C7F3C96B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36BA-BDF5-439F-8142-7049F4599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7A6D-388E-4273-8E97-7C1BF9127F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284A-BEBC-4279-BE52-9B7B7CC960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A63B-A555-49D3-8AFB-EB885B2840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5322-D2F7-4A51-98A6-3B918FBFA8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12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159876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12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7080" y="4128840"/>
            <a:ext cx="237744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2F99B-4C48-4549-B153-4362A3F4D6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F0CB-962B-4589-A3B1-6C9DAC448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C14E-B1DB-45FA-A9A7-EEE288B21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755D-483A-4AAB-99BD-AF3F344A2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142920"/>
            <a:ext cx="7473960" cy="60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092F7-A8FE-49B8-A35B-2F74B086D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0E967-BF38-434A-BF4A-4FC2D83FC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6760" y="412884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A2557-7633-45E6-B43A-5ADEABBB2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6760" y="1598760"/>
            <a:ext cx="360288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128840"/>
            <a:ext cx="738360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D0BA-12DB-4CCD-ACA9-A395906BA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36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1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D2CAD-F98B-4EAE-9078-AD7D7DDD34F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6600" cy="6867360"/>
            <a:chOff x="0" y="0"/>
            <a:chExt cx="9156600" cy="686736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5520" cy="222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5520" cy="1969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199880" cy="685476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2040" cy="6305760"/>
              <a:chOff x="7848720" y="1440"/>
              <a:chExt cx="1292040" cy="630576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58880" cy="2266920"/>
                <a:chOff x="8381880" y="1440"/>
                <a:chExt cx="758880" cy="226692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6120" cy="273240"/>
                  <a:chOff x="8704440" y="1440"/>
                  <a:chExt cx="276120" cy="273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6120" cy="273240"/>
                    <a:chOff x="8704440" y="1440"/>
                    <a:chExt cx="276120" cy="27324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2960" y="-37080"/>
                      <a:ext cx="198720" cy="276120"/>
                    </a:xfrm>
                    <a:custGeom>
                      <a:avLst/>
                      <a:gdLst>
                        <a:gd name="textAreaLeft" fmla="*/ 0 w 198720"/>
                        <a:gd name="textAreaRight" fmla="*/ 199080 w 198720"/>
                        <a:gd name="textAreaTop" fmla="*/ 0 h 276120"/>
                        <a:gd name="textAreaBottom" fmla="*/ 276480 h 27612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680" y="94320"/>
                      <a:ext cx="138240" cy="222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222120"/>
                        <a:gd name="textAreaBottom" fmla="*/ 222480 h 22212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5040" y="131760"/>
                    <a:ext cx="23760" cy="2376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4120" y="74880"/>
                    <a:ext cx="39960" cy="54000"/>
                  </a:xfrm>
                  <a:custGeom>
                    <a:avLst/>
                    <a:gdLst>
                      <a:gd name="textAreaLeft" fmla="*/ 0 w 39960"/>
                      <a:gd name="textAreaRight" fmla="*/ 40320 w 39960"/>
                      <a:gd name="textAreaTop" fmla="*/ 0 h 54000"/>
                      <a:gd name="textAreaBottom" fmla="*/ 54360 h 5400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560" bIns="75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8640" y="64080"/>
                    <a:ext cx="60480" cy="3348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3480"/>
                      <a:gd name="textAreaBottom" fmla="*/ 33840 h 334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960" bIns="-1296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5600" y="113040"/>
                    <a:ext cx="20520" cy="572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3960" y="192960"/>
                    <a:ext cx="60480" cy="2376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69960" y="167040"/>
                    <a:ext cx="34920" cy="39600"/>
                  </a:xfrm>
                  <a:custGeom>
                    <a:avLst/>
                    <a:gdLst>
                      <a:gd name="textAreaLeft" fmla="*/ 0 w 34920"/>
                      <a:gd name="textAreaRight" fmla="*/ 35280 w 3492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5480" cy="4707000"/>
                <a:chOff x="7848720" y="1600200"/>
                <a:chExt cx="825480" cy="470700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232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1960" cy="287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87280" cy="1936800"/>
            </a:xfrm>
            <a:custGeom>
              <a:avLst/>
              <a:gdLst>
                <a:gd name="textAreaLeft" fmla="*/ 0 w 1187280"/>
                <a:gd name="textAreaRight" fmla="*/ 1187280 w 1187280"/>
                <a:gd name="textAreaTop" fmla="*/ 0 h 1936800"/>
                <a:gd name="textAreaBottom" fmla="*/ 1937160 h 193680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6080" cy="199692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1996920"/>
                <a:gd name="textAreaBottom" fmla="*/ 1997280 h 199692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28680" cy="403380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4033800"/>
                <a:gd name="textAreaBottom" fmla="*/ 4034160 h 403380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6320" cy="2181240"/>
            </a:xfrm>
            <a:custGeom>
              <a:avLst/>
              <a:gdLst>
                <a:gd name="textAreaLeft" fmla="*/ 0 w 976320"/>
                <a:gd name="textAreaRight" fmla="*/ 976680 w 976320"/>
                <a:gd name="textAreaTop" fmla="*/ 0 h 2181240"/>
                <a:gd name="textAreaBottom" fmla="*/ 2181240 h 218124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1160" cy="50450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5045040"/>
                <a:gd name="textAreaBottom" fmla="*/ 5045400 h 504504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6480" cy="306864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3068640"/>
                <a:gd name="textAreaBottom" fmla="*/ 3069000 h 306864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3120" cy="334980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297000" cy="33498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49800"/>
                <a:gd name="textAreaBottom" fmla="*/ 3350160 h 334980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5680" cy="685512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2080" cy="61596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9000" y="3315960"/>
              <a:ext cx="6854760" cy="22248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2480"/>
                <a:gd name="textAreaBottom" fmla="*/ 200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142920"/>
            <a:ext cx="7473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400"/>
            <a:ext cx="7383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6242040"/>
            <a:ext cx="178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"/>
          </p:nvPr>
        </p:nvSpPr>
        <p:spPr>
          <a:xfrm>
            <a:off x="5866920" y="6248160"/>
            <a:ext cx="17528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D3CB3DA-106C-4805-BC8B-9201CEEF7D8E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enagold.ru/fon/clipart/m/mork/mork18.png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img0.liveinternet.ru/images/attach/c/7/94/575/94575304_565490722.jpg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swetlanka.ru/wp-content/uploads/2009/04/zaya.gif" TargetMode="External"/><Relationship Id="rId7" Type="http://schemas.openxmlformats.org/officeDocument/2006/relationships/image" Target="../media/image3.png"/><Relationship Id="rId8" Type="http://schemas.openxmlformats.org/officeDocument/2006/relationships/hyperlink" Target="http://www.happiness-shop.ru/userfiles/image/test_folder/2-parachute-v-nebe-1024.jpg" TargetMode="External"/><Relationship Id="rId9" Type="http://schemas.openxmlformats.org/officeDocument/2006/relationships/image" Target="../media/image3.png"/><Relationship Id="rId10" Type="http://schemas.openxmlformats.org/officeDocument/2006/relationships/hyperlink" Target="http://img0.liveinternet.ru/images/attach/c/0/44/45/44045020_1242642872_4.jpg" TargetMode="External"/><Relationship Id="rId11" Type="http://schemas.openxmlformats.org/officeDocument/2006/relationships/image" Target="../media/image3.png"/><Relationship Id="rId12" Type="http://schemas.openxmlformats.org/officeDocument/2006/relationships/hyperlink" Target="http://img0.liveinternet.ru/images/attach/c/3/76/80/76080094_21.jpg" TargetMode="External"/><Relationship Id="rId13" Type="http://schemas.openxmlformats.org/officeDocument/2006/relationships/image" Target="../media/image3.png"/><Relationship Id="rId14" Type="http://schemas.openxmlformats.org/officeDocument/2006/relationships/hyperlink" Target="http://www.nadietax.com/uploads/posts/2013-05/2013-09/1378723867_Tykva.png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3520" y="304920"/>
            <a:ext cx="738648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произведениями малых фольклорных жанров – пословицей, поговоркой и заг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ть интерес к произведениям народного творче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ь отгадывать загадки, сравнивать предмет загадки и предмет отгадки, выделять признаки предмета, на которые указывает загад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ть проявление творческой активности детей при отгадывании загадок и составлении своих собств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Малые фольклорные жанры устного народ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3520" y="1598760"/>
            <a:ext cx="738648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га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, в котором один предмет изображается посредством другого, имеющего с ним какое-нибудь, хотя бы отдалённое, сход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ов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малая форма народного поэтического творчества, облачённая в краткое, ритмизованное изречение, несущее обобщённую мысль, вывод, иносказание с поучительным уклон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SzPct val="136785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словосочетание, оборот речи, отражающий какое-либо явление жизни. Часто имеет юмористический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Сидит красная девица в темниц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85716"/>
                </a:solidFill>
                <a:latin typeface="Arial"/>
              </a:rPr>
              <a:t>а коса на у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4497480"/>
            <a:ext cx="3581280" cy="1439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235116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2895480"/>
            <a:ext cx="47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аленький, беленький,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лесочку прыг-прыг! 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 снежочку тык-тык!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250488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304920"/>
            <a:ext cx="73864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предмет загадки и предмет от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овите признаки загаданного предмета по цвету, форме, поведению или назначени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9548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д лугом парашютики</a:t>
            </a:r>
            <a:br>
              <a:rPr sz="2400"/>
            </a:b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ачаются на прутике.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1729080" cy="259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495680" y="27432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19240" y="204840"/>
            <a:ext cx="7476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Что можно сказать о людях, сочинивших такие загад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людатель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ичн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их богатое вообра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Составление загад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520" y="1598760"/>
            <a:ext cx="73864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петр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свёк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тык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429000" y="1295280"/>
            <a:ext cx="1676520" cy="12556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971800" y="2819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590920" y="468648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Продолжи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пеши язык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13716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ропись д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ом пиш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4382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й боль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5053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енькое д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57200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е больш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дел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 мас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9880" y="563868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ова и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9240" y="227160"/>
            <a:ext cx="7476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30605a"/>
                </a:solidFill>
                <a:latin typeface="Arial"/>
              </a:rPr>
              <a:t>Источ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ковь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enagold.ru/fon/clipart/m/mork/mork18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девушки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img0.liveinternet.ru/images/attach/c/7/94/575/94575304_56549072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й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swetlanka.ru/wp-content/uploads/2009/04/zay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7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шют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www.happiness-shop.ru/userfiles/image/test_folder/2-parachute-v-nebe-102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9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ушк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img0.liveinternet.ru/images/attach/c/0/44/45/44045020_1242642872_4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1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ёкл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img0.liveinternet.ru/images/attach/c/3/76/80/76080094_2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SzPct val="183127"/>
              <a:buBlip>
                <a:blip r:embed="rId1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ква - 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www.nadietax.com/uploads/posts/2013-05/2013-09/1378723867_Tykva.pn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9-16T09:22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