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gif" ContentType="image/gif"/>
  <Override PartName="/ppt/media/image10.jpeg" ContentType="image/jpeg"/>
  <Override PartName="/ppt/media/image7.jpeg" ContentType="image/jpeg"/>
  <Override PartName="/ppt/media/image11.png" ContentType="image/png"/>
  <Override PartName="/ppt/media/image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0D0FC-C19B-44A4-8970-E824EFFC4C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3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4128840"/>
            <a:ext cx="7383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00FFF-4DFB-43C3-AE72-F03BB370B7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676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412884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6760" y="412884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81401-2C71-4FC4-91E7-B9386ED9A1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120" y="159876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7080" y="159876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412884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120" y="412884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7080" y="412884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896DB-8B13-4B46-917A-26003D3451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4A9D3-C13B-465B-B075-5EC1C32B4EB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3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7CC52-0491-4A3C-9657-2D551FA6068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3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1338D-9F0B-4C3F-B11A-D9DB9B2211A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288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6760" y="1598760"/>
            <a:ext cx="360288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41CD4-62CB-415B-996E-424F7E73F8F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C437F-C50E-465F-92ED-F953902D718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142920"/>
            <a:ext cx="747396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C27E7-BE60-4040-AA94-2B27EBF50AB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6760" y="1598760"/>
            <a:ext cx="360288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412884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E9406-9476-461D-8584-44A5415A6A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3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80556-4929-423F-A00E-FB047B89E5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288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676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6760" y="412884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1D7A1-8245-4A5A-944B-1F15C35CA89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676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4128840"/>
            <a:ext cx="7383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8B725-3DC8-443E-A909-8CC42C5324B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3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4128840"/>
            <a:ext cx="7383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29D58-DBB8-4741-817A-75392296604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676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412884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6760" y="412884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E162D-6FED-472D-80C8-13B33F1DC0A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120" y="159876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7080" y="159876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412884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120" y="412884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7080" y="412884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2EB70-53DB-4BAB-B7C0-BDB982F724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3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FF3F6-D2F4-4E88-834A-FAE22B3D2C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288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6760" y="1598760"/>
            <a:ext cx="360288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4166C-34F3-4968-B7FC-3734F27D90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6AFBB-3467-4804-A957-F0BFBD8875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142920"/>
            <a:ext cx="747396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BA4FE-C3FD-46AD-AC3D-7218DA7A30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6760" y="1598760"/>
            <a:ext cx="360288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412884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5E412-B81F-4EE9-83B9-030EFA1818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288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676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6760" y="412884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1A1E8-C97C-4821-8006-84A031BCEB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676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4128840"/>
            <a:ext cx="7383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1A8D0-1ABF-4F6F-8E0C-0E5BE95525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.xml"/><Relationship Id="rId32" Type="http://schemas.openxmlformats.org/officeDocument/2006/relationships/slideLayout" Target="../slideLayouts/slideLayout2.xml"/><Relationship Id="rId33" Type="http://schemas.openxmlformats.org/officeDocument/2006/relationships/slideLayout" Target="../slideLayouts/slideLayout3.xml"/><Relationship Id="rId34" Type="http://schemas.openxmlformats.org/officeDocument/2006/relationships/slideLayout" Target="../slideLayouts/slideLayout4.xml"/><Relationship Id="rId35" Type="http://schemas.openxmlformats.org/officeDocument/2006/relationships/slideLayout" Target="../slideLayouts/slideLayout5.xml"/><Relationship Id="rId36" Type="http://schemas.openxmlformats.org/officeDocument/2006/relationships/slideLayout" Target="../slideLayouts/slideLayout6.xml"/><Relationship Id="rId37" Type="http://schemas.openxmlformats.org/officeDocument/2006/relationships/slideLayout" Target="../slideLayouts/slideLayout7.xml"/><Relationship Id="rId38" Type="http://schemas.openxmlformats.org/officeDocument/2006/relationships/slideLayout" Target="../slideLayouts/slideLayout8.xml"/><Relationship Id="rId39" Type="http://schemas.openxmlformats.org/officeDocument/2006/relationships/slideLayout" Target="../slideLayouts/slideLayout9.xml"/><Relationship Id="rId40" Type="http://schemas.openxmlformats.org/officeDocument/2006/relationships/slideLayout" Target="../slideLayouts/slideLayout10.xml"/><Relationship Id="rId41" Type="http://schemas.openxmlformats.org/officeDocument/2006/relationships/slideLayout" Target="../slideLayouts/slideLayout11.xml"/><Relationship Id="rId4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6867360"/>
            <a:chOff x="0" y="0"/>
            <a:chExt cx="9156600" cy="686736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5520" cy="22212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5520" cy="19692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199880" cy="6854760"/>
            </a:xfrm>
            <a:prstGeom prst="rect">
              <a:avLst/>
            </a:prstGeom>
            <a:gradFill rotWithShape="0">
              <a:gsLst>
                <a:gs pos="0">
                  <a:srgbClr val="8ba89e"/>
                </a:gs>
                <a:gs pos="50000">
                  <a:srgbClr val="a4c6ba"/>
                </a:gs>
                <a:gs pos="100000">
                  <a:srgbClr val="8ba8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2040" cy="6305760"/>
              <a:chOff x="7848720" y="1440"/>
              <a:chExt cx="1292040" cy="630576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58880" cy="2266920"/>
                <a:chOff x="8381880" y="1440"/>
                <a:chExt cx="758880" cy="226692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6120" cy="273240"/>
                  <a:chOff x="8704440" y="1440"/>
                  <a:chExt cx="276120" cy="27324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6120" cy="273240"/>
                    <a:chOff x="8704440" y="1440"/>
                    <a:chExt cx="276120" cy="27324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2960" y="-37080"/>
                      <a:ext cx="198720" cy="276120"/>
                    </a:xfrm>
                    <a:custGeom>
                      <a:avLst/>
                      <a:gdLst>
                        <a:gd name="textAreaLeft" fmla="*/ 0 w 198720"/>
                        <a:gd name="textAreaRight" fmla="*/ 199080 w 198720"/>
                        <a:gd name="textAreaTop" fmla="*/ 0 h 276120"/>
                        <a:gd name="textAreaBottom" fmla="*/ 276480 h 27612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680" y="94320"/>
                      <a:ext cx="138240" cy="222120"/>
                    </a:xfrm>
                    <a:custGeom>
                      <a:avLst/>
                      <a:gdLst>
                        <a:gd name="textAreaLeft" fmla="*/ 0 w 138240"/>
                        <a:gd name="textAreaRight" fmla="*/ 138600 w 138240"/>
                        <a:gd name="textAreaTop" fmla="*/ 0 h 222120"/>
                        <a:gd name="textAreaBottom" fmla="*/ 222480 h 22212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5040" y="131760"/>
                    <a:ext cx="23760" cy="2376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 algn="ctr"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4120" y="74880"/>
                    <a:ext cx="39960" cy="54000"/>
                  </a:xfrm>
                  <a:custGeom>
                    <a:avLst/>
                    <a:gdLst>
                      <a:gd name="textAreaLeft" fmla="*/ 0 w 39960"/>
                      <a:gd name="textAreaRight" fmla="*/ 40320 w 39960"/>
                      <a:gd name="textAreaTop" fmla="*/ 0 h 54000"/>
                      <a:gd name="textAreaBottom" fmla="*/ 54360 h 5400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560" bIns="7560" anchor="ctr">
                    <a:noAutofit/>
                  </a:bodyPr>
                  <a:p>
                    <a:pPr algn="ctr"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8640" y="64080"/>
                    <a:ext cx="60480" cy="33480"/>
                  </a:xfrm>
                  <a:custGeom>
                    <a:avLst/>
                    <a:gdLst>
                      <a:gd name="textAreaLeft" fmla="*/ 0 w 60480"/>
                      <a:gd name="textAreaRight" fmla="*/ 60840 w 60480"/>
                      <a:gd name="textAreaTop" fmla="*/ 0 h 33480"/>
                      <a:gd name="textAreaBottom" fmla="*/ 33840 h 334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960" bIns="-12960" anchor="ctr">
                    <a:noAutofit/>
                  </a:bodyPr>
                  <a:p>
                    <a:pPr algn="ctr"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5600" y="113040"/>
                    <a:ext cx="20520" cy="5724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 algn="ctr"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3960" y="192960"/>
                    <a:ext cx="60480" cy="23760"/>
                  </a:xfrm>
                  <a:custGeom>
                    <a:avLst/>
                    <a:gdLst>
                      <a:gd name="textAreaLeft" fmla="*/ 0 w 60480"/>
                      <a:gd name="textAreaRight" fmla="*/ 60840 w 60480"/>
                      <a:gd name="textAreaTop" fmla="*/ 0 h 23760"/>
                      <a:gd name="textAreaBottom" fmla="*/ 24120 h 237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 algn="ctr"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69960" y="167040"/>
                    <a:ext cx="34920" cy="39600"/>
                  </a:xfrm>
                  <a:custGeom>
                    <a:avLst/>
                    <a:gdLst>
                      <a:gd name="textAreaLeft" fmla="*/ 0 w 34920"/>
                      <a:gd name="textAreaRight" fmla="*/ 35280 w 34920"/>
                      <a:gd name="textAreaTop" fmla="*/ 0 h 39600"/>
                      <a:gd name="textAreaBottom" fmla="*/ 39960 h 3960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pPr algn="ctr"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5480" cy="4707000"/>
                <a:chOff x="7848720" y="1600200"/>
                <a:chExt cx="825480" cy="470700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87280" cy="1936800"/>
            </a:xfrm>
            <a:custGeom>
              <a:avLst/>
              <a:gdLst>
                <a:gd name="textAreaLeft" fmla="*/ 0 w 1187280"/>
                <a:gd name="textAreaRight" fmla="*/ 1187280 w 1187280"/>
                <a:gd name="textAreaTop" fmla="*/ 0 h 1936800"/>
                <a:gd name="textAreaBottom" fmla="*/ 1937160 h 193680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6080" cy="1996920"/>
            </a:xfrm>
            <a:custGeom>
              <a:avLst/>
              <a:gdLst>
                <a:gd name="textAreaLeft" fmla="*/ 0 w 1216080"/>
                <a:gd name="textAreaRight" fmla="*/ 1216440 w 1216080"/>
                <a:gd name="textAreaTop" fmla="*/ 0 h 1996920"/>
                <a:gd name="textAreaBottom" fmla="*/ 1997280 h 199692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28680" cy="4033800"/>
            </a:xfrm>
            <a:custGeom>
              <a:avLst/>
              <a:gdLst>
                <a:gd name="textAreaLeft" fmla="*/ 0 w 1228680"/>
                <a:gd name="textAreaRight" fmla="*/ 1229040 w 1228680"/>
                <a:gd name="textAreaTop" fmla="*/ 0 h 4033800"/>
                <a:gd name="textAreaBottom" fmla="*/ 4034160 h 403380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23a"/>
                </a:gs>
                <a:gs pos="50000">
                  <a:srgbClr val="558f7d"/>
                </a:gs>
                <a:gs pos="100000">
                  <a:srgbClr val="2742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6320" cy="2181240"/>
            </a:xfrm>
            <a:custGeom>
              <a:avLst/>
              <a:gdLst>
                <a:gd name="textAreaLeft" fmla="*/ 0 w 976320"/>
                <a:gd name="textAreaRight" fmla="*/ 976680 w 976320"/>
                <a:gd name="textAreaTop" fmla="*/ 0 h 2181240"/>
                <a:gd name="textAreaBottom" fmla="*/ 2181240 h 218124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1160" cy="5045040"/>
            </a:xfrm>
            <a:custGeom>
              <a:avLst/>
              <a:gdLst>
                <a:gd name="textAreaLeft" fmla="*/ 0 w 911160"/>
                <a:gd name="textAreaRight" fmla="*/ 911520 w 911160"/>
                <a:gd name="textAreaTop" fmla="*/ 0 h 5045040"/>
                <a:gd name="textAreaBottom" fmla="*/ 5045400 h 504504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6480" cy="3068640"/>
            </a:xfrm>
            <a:custGeom>
              <a:avLst/>
              <a:gdLst>
                <a:gd name="textAreaLeft" fmla="*/ 0 w 906480"/>
                <a:gd name="textAreaRight" fmla="*/ 906840 w 906480"/>
                <a:gd name="textAreaTop" fmla="*/ 0 h 3068640"/>
                <a:gd name="textAreaBottom" fmla="*/ 3069000 h 306864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3120" cy="3349800"/>
            </a:xfrm>
            <a:custGeom>
              <a:avLst/>
              <a:gdLst>
                <a:gd name="textAreaLeft" fmla="*/ 0 w 573120"/>
                <a:gd name="textAreaRight" fmla="*/ 573480 w 573120"/>
                <a:gd name="textAreaTop" fmla="*/ 0 h 3349800"/>
                <a:gd name="textAreaBottom" fmla="*/ 3350160 h 334980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297000" cy="334980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349800"/>
                <a:gd name="textAreaBottom" fmla="*/ 3350160 h 334980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5680" cy="685512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2080" cy="615960"/>
            </a:xfrm>
            <a:custGeom>
              <a:avLst/>
              <a:gdLst>
                <a:gd name="textAreaLeft" fmla="*/ 0 w 1162080"/>
                <a:gd name="textAreaRight" fmla="*/ 1162440 w 1162080"/>
                <a:gd name="textAreaTop" fmla="*/ 0 h 615960"/>
                <a:gd name="textAreaBottom" fmla="*/ 616320 h 61596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9000" y="3315960"/>
              <a:ext cx="6854760" cy="222480"/>
            </a:xfrm>
            <a:custGeom>
              <a:avLst/>
              <a:gdLst>
                <a:gd name="textAreaLeft" fmla="*/ 667800 w 6854760"/>
                <a:gd name="textAreaRight" fmla="*/ 6186960 w 6854760"/>
                <a:gd name="textAreaTop" fmla="*/ 21960 h 222480"/>
                <a:gd name="textAreaBottom" fmla="*/ 200520 h 22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3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1680" y="6242040"/>
            <a:ext cx="1782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sldNum" idx="1"/>
          </p:nvPr>
        </p:nvSpPr>
        <p:spPr>
          <a:xfrm>
            <a:off x="5866920" y="6248160"/>
            <a:ext cx="17528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FAF31D-ACE8-4D6C-83F2-238D2AAC5E5B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1"/>
    <p:sldLayoutId id="2147483650" r:id="rId32"/>
    <p:sldLayoutId id="2147483651" r:id="rId33"/>
    <p:sldLayoutId id="2147483652" r:id="rId34"/>
    <p:sldLayoutId id="2147483653" r:id="rId35"/>
    <p:sldLayoutId id="2147483654" r:id="rId36"/>
    <p:sldLayoutId id="2147483655" r:id="rId37"/>
    <p:sldLayoutId id="2147483656" r:id="rId38"/>
    <p:sldLayoutId id="2147483657" r:id="rId39"/>
    <p:sldLayoutId id="2147483658" r:id="rId40"/>
    <p:sldLayoutId id="2147483659" r:id="rId41"/>
    <p:sldLayoutId id="2147483660" r:id="rId4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6600" cy="6867360"/>
            <a:chOff x="0" y="0"/>
            <a:chExt cx="9156600" cy="686736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5520" cy="22212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5520" cy="19692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199880" cy="6854760"/>
            </a:xfrm>
            <a:prstGeom prst="rect">
              <a:avLst/>
            </a:prstGeom>
            <a:gradFill rotWithShape="0">
              <a:gsLst>
                <a:gs pos="0">
                  <a:srgbClr val="8ba89e"/>
                </a:gs>
                <a:gs pos="50000">
                  <a:srgbClr val="a4c6ba"/>
                </a:gs>
                <a:gs pos="100000">
                  <a:srgbClr val="8ba8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2040" cy="6305760"/>
              <a:chOff x="7848720" y="1440"/>
              <a:chExt cx="1292040" cy="630576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58880" cy="2266920"/>
                <a:chOff x="8381880" y="1440"/>
                <a:chExt cx="758880" cy="226692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6120" cy="273240"/>
                  <a:chOff x="8704440" y="1440"/>
                  <a:chExt cx="276120" cy="27324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6120" cy="273240"/>
                    <a:chOff x="8704440" y="1440"/>
                    <a:chExt cx="276120" cy="27324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2960" y="-37080"/>
                      <a:ext cx="198720" cy="276120"/>
                    </a:xfrm>
                    <a:custGeom>
                      <a:avLst/>
                      <a:gdLst>
                        <a:gd name="textAreaLeft" fmla="*/ 0 w 198720"/>
                        <a:gd name="textAreaRight" fmla="*/ 199080 w 198720"/>
                        <a:gd name="textAreaTop" fmla="*/ 0 h 276120"/>
                        <a:gd name="textAreaBottom" fmla="*/ 276480 h 27612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680" y="94320"/>
                      <a:ext cx="138240" cy="222120"/>
                    </a:xfrm>
                    <a:custGeom>
                      <a:avLst/>
                      <a:gdLst>
                        <a:gd name="textAreaLeft" fmla="*/ 0 w 138240"/>
                        <a:gd name="textAreaRight" fmla="*/ 138600 w 138240"/>
                        <a:gd name="textAreaTop" fmla="*/ 0 h 222120"/>
                        <a:gd name="textAreaBottom" fmla="*/ 222480 h 22212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5040" y="131760"/>
                    <a:ext cx="23760" cy="2376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 algn="ctr"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4120" y="74880"/>
                    <a:ext cx="39960" cy="54000"/>
                  </a:xfrm>
                  <a:custGeom>
                    <a:avLst/>
                    <a:gdLst>
                      <a:gd name="textAreaLeft" fmla="*/ 0 w 39960"/>
                      <a:gd name="textAreaRight" fmla="*/ 40320 w 39960"/>
                      <a:gd name="textAreaTop" fmla="*/ 0 h 54000"/>
                      <a:gd name="textAreaBottom" fmla="*/ 54360 h 5400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560" bIns="7560" anchor="ctr">
                    <a:noAutofit/>
                  </a:bodyPr>
                  <a:p>
                    <a:pPr algn="ctr"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8640" y="64080"/>
                    <a:ext cx="60480" cy="33480"/>
                  </a:xfrm>
                  <a:custGeom>
                    <a:avLst/>
                    <a:gdLst>
                      <a:gd name="textAreaLeft" fmla="*/ 0 w 60480"/>
                      <a:gd name="textAreaRight" fmla="*/ 60840 w 60480"/>
                      <a:gd name="textAreaTop" fmla="*/ 0 h 33480"/>
                      <a:gd name="textAreaBottom" fmla="*/ 33840 h 334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960" bIns="-12960" anchor="ctr">
                    <a:noAutofit/>
                  </a:bodyPr>
                  <a:p>
                    <a:pPr algn="ctr"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5600" y="113040"/>
                    <a:ext cx="20520" cy="5724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 algn="ctr"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3960" y="192960"/>
                    <a:ext cx="60480" cy="23760"/>
                  </a:xfrm>
                  <a:custGeom>
                    <a:avLst/>
                    <a:gdLst>
                      <a:gd name="textAreaLeft" fmla="*/ 0 w 60480"/>
                      <a:gd name="textAreaRight" fmla="*/ 60840 w 60480"/>
                      <a:gd name="textAreaTop" fmla="*/ 0 h 23760"/>
                      <a:gd name="textAreaBottom" fmla="*/ 24120 h 237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 algn="ctr"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69960" y="167040"/>
                    <a:ext cx="34920" cy="39600"/>
                  </a:xfrm>
                  <a:custGeom>
                    <a:avLst/>
                    <a:gdLst>
                      <a:gd name="textAreaLeft" fmla="*/ 0 w 34920"/>
                      <a:gd name="textAreaRight" fmla="*/ 35280 w 34920"/>
                      <a:gd name="textAreaTop" fmla="*/ 0 h 39600"/>
                      <a:gd name="textAreaBottom" fmla="*/ 39960 h 3960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pPr algn="ctr"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5480" cy="4707000"/>
                <a:chOff x="7848720" y="1600200"/>
                <a:chExt cx="825480" cy="470700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87280" cy="1936800"/>
            </a:xfrm>
            <a:custGeom>
              <a:avLst/>
              <a:gdLst>
                <a:gd name="textAreaLeft" fmla="*/ 0 w 1187280"/>
                <a:gd name="textAreaRight" fmla="*/ 1187280 w 1187280"/>
                <a:gd name="textAreaTop" fmla="*/ 0 h 1936800"/>
                <a:gd name="textAreaBottom" fmla="*/ 1937160 h 193680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6080" cy="1996920"/>
            </a:xfrm>
            <a:custGeom>
              <a:avLst/>
              <a:gdLst>
                <a:gd name="textAreaLeft" fmla="*/ 0 w 1216080"/>
                <a:gd name="textAreaRight" fmla="*/ 1216440 w 1216080"/>
                <a:gd name="textAreaTop" fmla="*/ 0 h 1996920"/>
                <a:gd name="textAreaBottom" fmla="*/ 1997280 h 199692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28680" cy="4033800"/>
            </a:xfrm>
            <a:custGeom>
              <a:avLst/>
              <a:gdLst>
                <a:gd name="textAreaLeft" fmla="*/ 0 w 1228680"/>
                <a:gd name="textAreaRight" fmla="*/ 1229040 w 1228680"/>
                <a:gd name="textAreaTop" fmla="*/ 0 h 4033800"/>
                <a:gd name="textAreaBottom" fmla="*/ 4034160 h 403380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23a"/>
                </a:gs>
                <a:gs pos="50000">
                  <a:srgbClr val="558f7d"/>
                </a:gs>
                <a:gs pos="100000">
                  <a:srgbClr val="2742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6320" cy="2181240"/>
            </a:xfrm>
            <a:custGeom>
              <a:avLst/>
              <a:gdLst>
                <a:gd name="textAreaLeft" fmla="*/ 0 w 976320"/>
                <a:gd name="textAreaRight" fmla="*/ 976680 w 976320"/>
                <a:gd name="textAreaTop" fmla="*/ 0 h 2181240"/>
                <a:gd name="textAreaBottom" fmla="*/ 2181240 h 218124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1160" cy="5045040"/>
            </a:xfrm>
            <a:custGeom>
              <a:avLst/>
              <a:gdLst>
                <a:gd name="textAreaLeft" fmla="*/ 0 w 911160"/>
                <a:gd name="textAreaRight" fmla="*/ 911520 w 911160"/>
                <a:gd name="textAreaTop" fmla="*/ 0 h 5045040"/>
                <a:gd name="textAreaBottom" fmla="*/ 5045400 h 504504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6480" cy="3068640"/>
            </a:xfrm>
            <a:custGeom>
              <a:avLst/>
              <a:gdLst>
                <a:gd name="textAreaLeft" fmla="*/ 0 w 906480"/>
                <a:gd name="textAreaRight" fmla="*/ 906840 w 906480"/>
                <a:gd name="textAreaTop" fmla="*/ 0 h 3068640"/>
                <a:gd name="textAreaBottom" fmla="*/ 3069000 h 306864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3120" cy="3349800"/>
            </a:xfrm>
            <a:custGeom>
              <a:avLst/>
              <a:gdLst>
                <a:gd name="textAreaLeft" fmla="*/ 0 w 573120"/>
                <a:gd name="textAreaRight" fmla="*/ 573480 w 573120"/>
                <a:gd name="textAreaTop" fmla="*/ 0 h 3349800"/>
                <a:gd name="textAreaBottom" fmla="*/ 3350160 h 334980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297000" cy="334980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349800"/>
                <a:gd name="textAreaBottom" fmla="*/ 3350160 h 334980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5680" cy="685512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2080" cy="615960"/>
            </a:xfrm>
            <a:custGeom>
              <a:avLst/>
              <a:gdLst>
                <a:gd name="textAreaLeft" fmla="*/ 0 w 1162080"/>
                <a:gd name="textAreaRight" fmla="*/ 1162440 w 1162080"/>
                <a:gd name="textAreaTop" fmla="*/ 0 h 615960"/>
                <a:gd name="textAreaBottom" fmla="*/ 616320 h 61596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9000" y="3315960"/>
              <a:ext cx="6854760" cy="222480"/>
            </a:xfrm>
            <a:custGeom>
              <a:avLst/>
              <a:gdLst>
                <a:gd name="textAreaLeft" fmla="*/ 667800 w 6854760"/>
                <a:gd name="textAreaRight" fmla="*/ 6186960 w 6854760"/>
                <a:gd name="textAreaTop" fmla="*/ 21960 h 222480"/>
                <a:gd name="textAreaBottom" fmla="*/ 200520 h 22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400"/>
            <a:ext cx="73836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1680" y="6242040"/>
            <a:ext cx="1782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Num" idx="2"/>
          </p:nvPr>
        </p:nvSpPr>
        <p:spPr>
          <a:xfrm>
            <a:off x="5866920" y="6248160"/>
            <a:ext cx="17528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D4B5BB9-FCD7-4623-82E6-3585C2B4BE9C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lenagold.ru/fon/clipart/m/mork/mork18.png" TargetMode="External"/><Relationship Id="rId3" Type="http://schemas.openxmlformats.org/officeDocument/2006/relationships/image" Target="../media/image3.png"/><Relationship Id="rId4" Type="http://schemas.openxmlformats.org/officeDocument/2006/relationships/hyperlink" Target="http://img0.liveinternet.ru/images/attach/c/7/94/575/94575304_565490722.jpg" TargetMode="External"/><Relationship Id="rId5" Type="http://schemas.openxmlformats.org/officeDocument/2006/relationships/image" Target="../media/image3.png"/><Relationship Id="rId6" Type="http://schemas.openxmlformats.org/officeDocument/2006/relationships/hyperlink" Target="http://swetlanka.ru/wp-content/uploads/2009/04/zaya.gif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www.happiness-shop.ru/userfiles/image/test_folder/2-parachute-v-nebe-1024.jpg" TargetMode="External"/><Relationship Id="rId9" Type="http://schemas.openxmlformats.org/officeDocument/2006/relationships/image" Target="../media/image3.png"/><Relationship Id="rId10" Type="http://schemas.openxmlformats.org/officeDocument/2006/relationships/hyperlink" Target="http://img0.liveinternet.ru/images/attach/c/0/44/45/44045020_1242642872_4.jpg" TargetMode="External"/><Relationship Id="rId11" Type="http://schemas.openxmlformats.org/officeDocument/2006/relationships/image" Target="../media/image3.png"/><Relationship Id="rId12" Type="http://schemas.openxmlformats.org/officeDocument/2006/relationships/hyperlink" Target="http://img0.liveinternet.ru/images/attach/c/3/76/80/76080094_21.jpg" TargetMode="External"/><Relationship Id="rId13" Type="http://schemas.openxmlformats.org/officeDocument/2006/relationships/image" Target="../media/image3.png"/><Relationship Id="rId14" Type="http://schemas.openxmlformats.org/officeDocument/2006/relationships/hyperlink" Target="http://www.nadietax.com/uploads/posts/2013-05/2013-09/1378723867_Tykva.png" TargetMode="External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63520" y="304920"/>
            <a:ext cx="7386480" cy="60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ь урока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знакомление с произведениями малых фольклорных жанров – пословицей, поговоркой и загад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чи уро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700"/>
              </a:spcBef>
              <a:buSzPct val="117264"/>
              <a:buBlip>
                <a:blip r:embed="rId1"/>
              </a:buBlip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вать интерес к произведениям народного творчест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700"/>
              </a:spcBef>
              <a:buSzPct val="117264"/>
              <a:buBlip>
                <a:blip r:embed="rId2"/>
              </a:buBlip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ь отгадывать загадки, сравнивать предмет загадки и предмет отгадки, выделять признаки предмета, на которые указывает загад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700"/>
              </a:spcBef>
              <a:buSzPct val="117264"/>
              <a:buBlip>
                <a:blip r:embed="rId3"/>
              </a:buBlip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имулировать проявление творческой активности детей при отгадывании загадок и составлении своих собствен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19240" y="204840"/>
            <a:ext cx="74768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30605a"/>
                </a:solidFill>
                <a:latin typeface="Arial"/>
              </a:rPr>
              <a:t>Малые фольклорные жанры устного народного творч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63520" y="1598760"/>
            <a:ext cx="73864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SzPct val="136785"/>
              <a:buBlip>
                <a:blip r:embed="rId1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гад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выражение, в котором один предмет изображается посредством другого, имеющего с ним какое-нибудь, хотя бы отдалённое, сходст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SzPct val="136785"/>
              <a:buBlip>
                <a:blip r:embed="rId2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ловиц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малая форма народного поэтического творчества, облачённая в краткое, ритмизованное изречение, несущее обобщённую мысль, вывод, иносказание с поучительным уклоном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SzPct val="136785"/>
              <a:buBlip>
                <a:blip r:embed="rId3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говор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словосочетание, оборот речи, отражающий какое-либо явление жизни. Часто имеет юмористический характе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304920"/>
            <a:ext cx="73864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700"/>
              </a:spcBef>
              <a:buSzPct val="117264"/>
              <a:buBlip>
                <a:blip r:embed="rId1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авните предмет загадки и предмет отгад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buSzPct val="117264"/>
              <a:buBlip>
                <a:blip r:embed="rId2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овите признаки загаданного предмета по цвету, форме, поведению или назначению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2895480"/>
            <a:ext cx="541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85716"/>
                </a:solidFill>
                <a:latin typeface="Arial"/>
              </a:rPr>
              <a:t>Сидит красная девица в темниц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85716"/>
                </a:solidFill>
                <a:latin typeface="Arial"/>
              </a:rPr>
              <a:t>а коса на ули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457200" y="4497480"/>
            <a:ext cx="3581280" cy="14396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4572000" y="3886200"/>
            <a:ext cx="235116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304920"/>
            <a:ext cx="73864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700"/>
              </a:spcBef>
              <a:buSzPct val="117264"/>
              <a:buBlip>
                <a:blip r:embed="rId1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авните предмет загадки и предмет отгад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buSzPct val="117264"/>
              <a:buBlip>
                <a:blip r:embed="rId2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овите признаки загаданного предмета по цвету, форме, поведению или назначению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2280" y="2895480"/>
            <a:ext cx="4724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Маленький, беленький, 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По лесочку прыг-прыг! 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По снежочку тык-тык!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4419720" y="3505320"/>
            <a:ext cx="2504880" cy="285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304920"/>
            <a:ext cx="73864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700"/>
              </a:spcBef>
              <a:buSzPct val="117264"/>
              <a:buBlip>
                <a:blip r:embed="rId1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авните предмет загадки и предмет отгад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buSzPct val="117264"/>
              <a:buBlip>
                <a:blip r:embed="rId2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овите признаки загаданного предмета по цвету, форме, поведению или назначению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2895480"/>
            <a:ext cx="541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ад лугом парашютики</a:t>
            </a:r>
            <a:br>
              <a:rPr sz="2400"/>
            </a:b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Качаются на прутике.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1729080" cy="2590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4495680" y="2743200"/>
            <a:ext cx="27432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219240" y="204840"/>
            <a:ext cx="74768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30605a"/>
                </a:solidFill>
                <a:latin typeface="Arial"/>
              </a:rPr>
              <a:t>Что можно сказать о людях, сочинивших такие загадк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н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блюдательн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этичн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них богатое вообра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dur="indefinite" fill="hold">
                      <p:stCondLst>
                        <p:cond delay="indefinite"/>
                      </p:stCondLst>
                      <p:childTnLst>
                        <p:par>
                          <p:cTn id="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19240" y="227160"/>
            <a:ext cx="7476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0605a"/>
                </a:solidFill>
                <a:latin typeface="Arial"/>
              </a:rPr>
              <a:t>Составление загад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63520" y="1598760"/>
            <a:ext cx="7386480" cy="51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 петруш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 свёк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 тык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3429000" y="1295280"/>
            <a:ext cx="1676520" cy="12556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5"/>
          <a:stretch/>
        </p:blipFill>
        <p:spPr>
          <a:xfrm>
            <a:off x="2971800" y="281952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6"/>
          <a:stretch/>
        </p:blipFill>
        <p:spPr>
          <a:xfrm>
            <a:off x="2590920" y="4686480"/>
            <a:ext cx="1904760" cy="190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dur="indefinite" fill="hold">
                      <p:stCondLst>
                        <p:cond delay="indefinite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dur="indefinite" fill="hold">
                      <p:stCondLst>
                        <p:cond delay="indefinite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dur="indefinite" fill="hold">
                      <p:stCondLst>
                        <p:cond delay="indefinite"/>
                      </p:stCondLst>
                      <p:childTnLst>
                        <p:par>
                          <p:cTn id="1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dur="indefinite" fill="hold">
                      <p:stCondLst>
                        <p:cond delay="indefinite"/>
                      </p:stCondLst>
                      <p:childTnLst>
                        <p:par>
                          <p:cTn id="1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dur="indefinite" fill="hold">
                      <p:stCondLst>
                        <p:cond delay="indefinite"/>
                      </p:stCondLst>
                      <p:childTnLst>
                        <p:par>
                          <p:cTn id="1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19240" y="227160"/>
            <a:ext cx="7476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0605a"/>
                </a:solidFill>
                <a:latin typeface="Arial"/>
              </a:rPr>
              <a:t>Продолжи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" y="1371600"/>
            <a:ext cx="3505320" cy="9144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спеши языко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09880" y="1371600"/>
            <a:ext cx="3505320" cy="9144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ропись де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" y="2438280"/>
            <a:ext cx="350532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пером пишу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809880" y="2438280"/>
            <a:ext cx="350532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ум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" y="3505320"/>
            <a:ext cx="3505320" cy="9144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й больш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09880" y="3505320"/>
            <a:ext cx="3505320" cy="9144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вори мень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4572000"/>
            <a:ext cx="3505320" cy="914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ленькое де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09880" y="4572000"/>
            <a:ext cx="3505320" cy="914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учше больш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здел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" y="5638680"/>
            <a:ext cx="3505320" cy="9144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в масте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09880" y="5638680"/>
            <a:ext cx="3505320" cy="9144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ова и раб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dur="indefinite" fill="hold">
                      <p:stCondLst>
                        <p:cond delay="indefinite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dur="indefinite" fill="hold">
                      <p:stCondLst>
                        <p:cond delay="indefinite"/>
                      </p:stCondLst>
                      <p:childTnLst>
                        <p:par>
                          <p:cTn id="1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dur="indefinite" fill="hold">
                      <p:stCondLst>
                        <p:cond delay="indefinite"/>
                      </p:stCondLst>
                      <p:childTnLst>
                        <p:par>
                          <p:cTn id="1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dur="indefinite" fill="hold">
                      <p:stCondLst>
                        <p:cond delay="indefinite"/>
                      </p:stCondLst>
                      <p:childTnLst>
                        <p:par>
                          <p:cTn id="1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dur="indefinite" fill="hold">
                      <p:stCondLst>
                        <p:cond delay="indefinite"/>
                      </p:stCondLst>
                      <p:childTnLst>
                        <p:par>
                          <p:cTn id="1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dur="indefinite" fill="hold">
                      <p:stCondLst>
                        <p:cond delay="indefinite"/>
                      </p:stCondLst>
                      <p:childTnLst>
                        <p:par>
                          <p:cTn id="1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dur="indefinite" fill="hold">
                      <p:stCondLst>
                        <p:cond delay="indefinite"/>
                      </p:stCondLst>
                      <p:childTnLst>
                        <p:par>
                          <p:cTn id="1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dur="indefinite" fill="hold">
                      <p:stCondLst>
                        <p:cond delay="indefinite"/>
                      </p:stCondLst>
                      <p:childTnLst>
                        <p:par>
                          <p:cTn id="1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dur="indefinite" fill="hold">
                      <p:stCondLst>
                        <p:cond delay="indefinite"/>
                      </p:stCondLst>
                      <p:childTnLst>
                        <p:par>
                          <p:cTn id="1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dur="indefinite" fill="hold">
                      <p:stCondLst>
                        <p:cond delay="indefinite"/>
                      </p:stCondLst>
                      <p:childTnLst>
                        <p:par>
                          <p:cTn id="1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19240" y="227160"/>
            <a:ext cx="7476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0605a"/>
                </a:solidFill>
                <a:latin typeface="Arial"/>
              </a:rPr>
              <a:t>Источ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451"/>
              </a:spcBef>
              <a:buSzPct val="183127"/>
              <a:buBlip>
                <a:blip r:embed="rId1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рковь - 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lenagold.ru/fon/clipart/m/mork/mork18.pn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SzPct val="183127"/>
              <a:buBlip>
                <a:blip r:embed="rId3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трет девушки - 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img0.liveinternet.ru/images/attach/c/7/94/575/94575304_565490722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SzPct val="183127"/>
              <a:buBlip>
                <a:blip r:embed="rId5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йка - 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http://swetlanka.ru/wp-content/uploads/2009/04/zaya.g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SzPct val="183127"/>
              <a:buBlip>
                <a:blip r:embed="rId7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шют - 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http://www.happiness-shop.ru/userfiles/image/test_folder/2-parachute-v-nebe-1024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SzPct val="183127"/>
              <a:buBlip>
                <a:blip r:embed="rId9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трушка - 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0"/>
              </a:rPr>
              <a:t>http://img0.liveinternet.ru/images/attach/c/0/44/45/44045020_1242642872_4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SzPct val="183127"/>
              <a:buBlip>
                <a:blip r:embed="rId11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ёкла - 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2"/>
              </a:rPr>
              <a:t>http://img0.liveinternet.ru/images/attach/c/3/76/80/76080094_21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SzPct val="183127"/>
              <a:buBlip>
                <a:blip r:embed="rId13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ыква - 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4"/>
              </a:rPr>
              <a:t>http://www.nadietax.com/uploads/posts/2013-05/2013-09/1378723867_Tykva.pn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6-09-16T09:22:57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